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8F1-2C10-43DC-9476-AD4CAB9B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7FE-2C11-45F7-B29A-91C5C9F4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508-A28C-4E4A-ADA1-5DBA255A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F84-73C1-42A6-B011-7BEF973C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320-E5A0-472A-9DC1-D668BCD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C60-4F08-46EA-8015-B4EAB9BB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D9F-5611-4B23-BF23-AB3B738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6E5-DB63-4F75-A2EB-FBAB521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10B-0855-4499-8D7B-1C804534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CB9-0B83-4549-B1C7-19FB7C4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BC1-1A86-4C93-9562-5A541F08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FCB-6BFF-4124-B272-5FA50E1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3CD-43ED-4BBE-B34B-523F4DAD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: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Students will identify and describe line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Students will identify and describe line segment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ocabulary: Write the definition and draw a picture to represent each wor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240" y="2125800"/>
            <a:ext cx="527040" cy="88920"/>
          </a:xfrm>
          <a:custGeom>
            <a:avLst/>
            <a:gdLst/>
            <a:ahLst/>
            <a:rect l="l" t="t" r="r" b="b"/>
            <a:pathLst>
              <a:path w="1465" h="249">
                <a:moveTo>
                  <a:pt x="1984" y="6152"/>
                </a:moveTo>
                <a:cubicBezTo>
                  <a:pt x="2017" y="6035"/>
                  <a:pt x="2086" y="6051"/>
                  <a:pt x="2257" y="6028"/>
                </a:cubicBezTo>
                <a:cubicBezTo>
                  <a:pt x="2626" y="5978"/>
                  <a:pt x="3001" y="5932"/>
                  <a:pt x="3373" y="5904"/>
                </a:cubicBezTo>
                <a:cubicBezTo>
                  <a:pt x="3398" y="5904"/>
                  <a:pt x="3423" y="5904"/>
                  <a:pt x="3448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8960" y="3724200"/>
            <a:ext cx="2448000" cy="1928880"/>
          </a:xfrm>
          <a:custGeom>
            <a:avLst/>
            <a:gdLst/>
            <a:ahLst/>
            <a:rect l="l" t="t" r="r" b="b"/>
            <a:pathLst>
              <a:path w="6798" h="5358">
                <a:moveTo>
                  <a:pt x="1637" y="10468"/>
                </a:moveTo>
                <a:cubicBezTo>
                  <a:pt x="1770" y="10457"/>
                  <a:pt x="1848" y="10450"/>
                  <a:pt x="1984" y="10468"/>
                </a:cubicBezTo>
                <a:cubicBezTo>
                  <a:pt x="2209" y="10497"/>
                  <a:pt x="2434" y="10562"/>
                  <a:pt x="2654" y="10592"/>
                </a:cubicBezTo>
                <a:cubicBezTo>
                  <a:pt x="2798" y="10612"/>
                  <a:pt x="2937" y="10583"/>
                  <a:pt x="3076" y="10567"/>
                </a:cubicBezTo>
                <a:cubicBezTo>
                  <a:pt x="3265" y="10545"/>
                  <a:pt x="3481" y="10511"/>
                  <a:pt x="3671" y="10517"/>
                </a:cubicBezTo>
                <a:cubicBezTo>
                  <a:pt x="3938" y="10525"/>
                  <a:pt x="4196" y="10520"/>
                  <a:pt x="4465" y="10517"/>
                </a:cubicBezTo>
                <a:cubicBezTo>
                  <a:pt x="4869" y="10513"/>
                  <a:pt x="5253" y="10482"/>
                  <a:pt x="5655" y="10443"/>
                </a:cubicBezTo>
                <a:cubicBezTo>
                  <a:pt x="6003" y="10409"/>
                  <a:pt x="6350" y="10392"/>
                  <a:pt x="6697" y="10368"/>
                </a:cubicBezTo>
                <a:cubicBezTo>
                  <a:pt x="6968" y="10349"/>
                  <a:pt x="7244" y="10325"/>
                  <a:pt x="7516" y="10344"/>
                </a:cubicBezTo>
                <a:cubicBezTo>
                  <a:pt x="7774" y="10362"/>
                  <a:pt x="8029" y="10398"/>
                  <a:pt x="8285" y="10418"/>
                </a:cubicBezTo>
                <a:cubicBezTo>
                  <a:pt x="8351" y="10423"/>
                  <a:pt x="8368" y="10415"/>
                  <a:pt x="8434" y="10418"/>
                </a:cubicBezTo>
              </a:path>
              <a:path w="6798" h="5358">
                <a:moveTo>
                  <a:pt x="1836" y="15577"/>
                </a:moveTo>
                <a:cubicBezTo>
                  <a:pt x="2051" y="15597"/>
                  <a:pt x="2264" y="15612"/>
                  <a:pt x="2480" y="15627"/>
                </a:cubicBezTo>
                <a:cubicBezTo>
                  <a:pt x="2735" y="15645"/>
                  <a:pt x="2996" y="15647"/>
                  <a:pt x="3249" y="15677"/>
                </a:cubicBezTo>
                <a:cubicBezTo>
                  <a:pt x="3394" y="15694"/>
                  <a:pt x="3574" y="15733"/>
                  <a:pt x="3721" y="15701"/>
                </a:cubicBezTo>
                <a:cubicBezTo>
                  <a:pt x="3743" y="15679"/>
                  <a:pt x="3748" y="15671"/>
                  <a:pt x="3770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4880" y="1928880"/>
            <a:ext cx="260280" cy="1872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5631" y="5556"/>
                </a:moveTo>
                <a:cubicBezTo>
                  <a:pt x="5617" y="5471"/>
                  <a:pt x="5568" y="5303"/>
                  <a:pt x="5432" y="5358"/>
                </a:cubicBezTo>
                <a:cubicBezTo>
                  <a:pt x="5262" y="5427"/>
                  <a:pt x="5081" y="5768"/>
                  <a:pt x="5308" y="5879"/>
                </a:cubicBezTo>
                <a:cubicBezTo>
                  <a:pt x="5555" y="6000"/>
                  <a:pt x="5595" y="5618"/>
                  <a:pt x="5606" y="5482"/>
                </a:cubicBezTo>
                <a:cubicBezTo>
                  <a:pt x="5606" y="5474"/>
                  <a:pt x="5606" y="5465"/>
                  <a:pt x="5606" y="5457"/>
                </a:cubicBezTo>
                <a:cubicBezTo>
                  <a:pt x="5633" y="5537"/>
                  <a:pt x="5679" y="5829"/>
                  <a:pt x="5804" y="5829"/>
                </a:cubicBezTo>
                <a:cubicBezTo>
                  <a:pt x="5845" y="5812"/>
                  <a:pt x="5887" y="5796"/>
                  <a:pt x="592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74920" y="1847880"/>
            <a:ext cx="1366920" cy="457200"/>
          </a:xfrm>
          <a:custGeom>
            <a:avLst/>
            <a:gdLst/>
            <a:ahLst/>
            <a:rect l="l" t="t" r="r" b="b"/>
            <a:pathLst>
              <a:path w="3796" h="1266">
                <a:moveTo>
                  <a:pt x="6722" y="5407"/>
                </a:moveTo>
                <a:cubicBezTo>
                  <a:pt x="6649" y="5444"/>
                  <a:pt x="6644" y="5461"/>
                  <a:pt x="6598" y="5457"/>
                </a:cubicBezTo>
                <a:cubicBezTo>
                  <a:pt x="6737" y="5544"/>
                  <a:pt x="6938" y="5571"/>
                  <a:pt x="7094" y="5680"/>
                </a:cubicBezTo>
                <a:cubicBezTo>
                  <a:pt x="7030" y="5794"/>
                  <a:pt x="6743" y="6081"/>
                  <a:pt x="6598" y="5854"/>
                </a:cubicBezTo>
                <a:cubicBezTo>
                  <a:pt x="6606" y="5821"/>
                  <a:pt x="6615" y="5788"/>
                  <a:pt x="6623" y="5755"/>
                </a:cubicBezTo>
              </a:path>
              <a:path w="3796" h="1266">
                <a:moveTo>
                  <a:pt x="7243" y="5135"/>
                </a:moveTo>
                <a:cubicBezTo>
                  <a:pt x="7352" y="5345"/>
                  <a:pt x="7424" y="5544"/>
                  <a:pt x="7466" y="5779"/>
                </a:cubicBezTo>
                <a:cubicBezTo>
                  <a:pt x="7466" y="5812"/>
                  <a:pt x="7466" y="5812"/>
                  <a:pt x="7466" y="5755"/>
                </a:cubicBezTo>
              </a:path>
              <a:path w="3796" h="1266">
                <a:moveTo>
                  <a:pt x="7069" y="5482"/>
                </a:moveTo>
                <a:cubicBezTo>
                  <a:pt x="7325" y="5473"/>
                  <a:pt x="7585" y="5415"/>
                  <a:pt x="7838" y="5457"/>
                </a:cubicBezTo>
                <a:cubicBezTo>
                  <a:pt x="7863" y="5465"/>
                  <a:pt x="7888" y="5474"/>
                  <a:pt x="7913" y="5482"/>
                </a:cubicBezTo>
              </a:path>
              <a:path w="3796" h="1266">
                <a:moveTo>
                  <a:pt x="8012" y="5482"/>
                </a:moveTo>
                <a:cubicBezTo>
                  <a:pt x="8013" y="5482"/>
                  <a:pt x="7820" y="5498"/>
                  <a:pt x="7764" y="5606"/>
                </a:cubicBezTo>
                <a:cubicBezTo>
                  <a:pt x="7646" y="5835"/>
                  <a:pt x="8001" y="5652"/>
                  <a:pt x="8037" y="5631"/>
                </a:cubicBezTo>
                <a:cubicBezTo>
                  <a:pt x="8037" y="5623"/>
                  <a:pt x="8037" y="5614"/>
                  <a:pt x="8037" y="5606"/>
                </a:cubicBezTo>
                <a:cubicBezTo>
                  <a:pt x="8057" y="5672"/>
                  <a:pt x="8147" y="5886"/>
                  <a:pt x="8260" y="5779"/>
                </a:cubicBezTo>
                <a:cubicBezTo>
                  <a:pt x="8318" y="5723"/>
                  <a:pt x="8351" y="5495"/>
                  <a:pt x="8310" y="5705"/>
                </a:cubicBezTo>
                <a:cubicBezTo>
                  <a:pt x="8310" y="5730"/>
                  <a:pt x="8310" y="5738"/>
                  <a:pt x="8310" y="5705"/>
                </a:cubicBezTo>
                <a:cubicBezTo>
                  <a:pt x="8337" y="5511"/>
                  <a:pt x="8372" y="5467"/>
                  <a:pt x="8558" y="5432"/>
                </a:cubicBezTo>
              </a:path>
              <a:path w="3796" h="1266">
                <a:moveTo>
                  <a:pt x="8930" y="5159"/>
                </a:moveTo>
                <a:cubicBezTo>
                  <a:pt x="8947" y="5354"/>
                  <a:pt x="9003" y="5538"/>
                  <a:pt x="8979" y="5730"/>
                </a:cubicBezTo>
              </a:path>
              <a:path w="3796" h="1266">
                <a:moveTo>
                  <a:pt x="8657" y="5531"/>
                </a:moveTo>
                <a:cubicBezTo>
                  <a:pt x="8810" y="5525"/>
                  <a:pt x="9090" y="5442"/>
                  <a:pt x="9227" y="5531"/>
                </a:cubicBezTo>
                <a:cubicBezTo>
                  <a:pt x="9286" y="5570"/>
                  <a:pt x="9315" y="5762"/>
                  <a:pt x="9376" y="5779"/>
                </a:cubicBezTo>
                <a:cubicBezTo>
                  <a:pt x="9376" y="5771"/>
                  <a:pt x="9376" y="5763"/>
                  <a:pt x="9376" y="5755"/>
                </a:cubicBezTo>
              </a:path>
              <a:path w="3796" h="1266">
                <a:moveTo>
                  <a:pt x="9203" y="5308"/>
                </a:moveTo>
                <a:lnTo>
                  <a:pt x="9203" y="5308"/>
                </a:lnTo>
                <a:lnTo>
                  <a:pt x="9203" y="5308"/>
                </a:lnTo>
              </a:path>
              <a:path w="3796" h="1266">
                <a:moveTo>
                  <a:pt x="9203" y="5308"/>
                </a:moveTo>
                <a:lnTo>
                  <a:pt x="9203" y="5308"/>
                </a:lnTo>
              </a:path>
              <a:path w="3796" h="1266">
                <a:moveTo>
                  <a:pt x="9500" y="5631"/>
                </a:moveTo>
                <a:cubicBezTo>
                  <a:pt x="9515" y="5696"/>
                  <a:pt x="9546" y="5793"/>
                  <a:pt x="9525" y="5730"/>
                </a:cubicBezTo>
                <a:cubicBezTo>
                  <a:pt x="9505" y="5669"/>
                  <a:pt x="9538" y="5387"/>
                  <a:pt x="9674" y="5457"/>
                </a:cubicBezTo>
                <a:cubicBezTo>
                  <a:pt x="9846" y="5545"/>
                  <a:pt x="9812" y="5744"/>
                  <a:pt x="9922" y="5854"/>
                </a:cubicBezTo>
              </a:path>
              <a:path w="3796" h="1266">
                <a:moveTo>
                  <a:pt x="10071" y="5556"/>
                </a:moveTo>
                <a:cubicBezTo>
                  <a:pt x="9973" y="5653"/>
                  <a:pt x="9940" y="5684"/>
                  <a:pt x="9922" y="5779"/>
                </a:cubicBezTo>
                <a:cubicBezTo>
                  <a:pt x="10033" y="5811"/>
                  <a:pt x="10048" y="5544"/>
                  <a:pt x="10145" y="5606"/>
                </a:cubicBezTo>
                <a:cubicBezTo>
                  <a:pt x="10277" y="5691"/>
                  <a:pt x="10472" y="6154"/>
                  <a:pt x="10344" y="6300"/>
                </a:cubicBezTo>
                <a:cubicBezTo>
                  <a:pt x="10148" y="6523"/>
                  <a:pt x="9949" y="6374"/>
                  <a:pt x="977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820880"/>
            <a:ext cx="838080" cy="358920"/>
          </a:xfrm>
          <a:custGeom>
            <a:avLst/>
            <a:gdLst/>
            <a:ahLst/>
            <a:rect l="l" t="t" r="r" b="b"/>
            <a:pathLst>
              <a:path w="2332" h="993">
                <a:moveTo>
                  <a:pt x="11336" y="5655"/>
                </a:moveTo>
                <a:cubicBezTo>
                  <a:pt x="11372" y="5791"/>
                  <a:pt x="11398" y="5913"/>
                  <a:pt x="11410" y="6052"/>
                </a:cubicBezTo>
                <a:cubicBezTo>
                  <a:pt x="11307" y="5942"/>
                  <a:pt x="11008" y="5543"/>
                  <a:pt x="11311" y="5432"/>
                </a:cubicBezTo>
                <a:cubicBezTo>
                  <a:pt x="11496" y="5455"/>
                  <a:pt x="11553" y="5453"/>
                  <a:pt x="11609" y="5581"/>
                </a:cubicBezTo>
                <a:cubicBezTo>
                  <a:pt x="11460" y="5766"/>
                  <a:pt x="11374" y="5808"/>
                  <a:pt x="11212" y="5631"/>
                </a:cubicBezTo>
              </a:path>
              <a:path w="2332" h="993">
                <a:moveTo>
                  <a:pt x="11757" y="5407"/>
                </a:moveTo>
                <a:cubicBezTo>
                  <a:pt x="11665" y="5500"/>
                  <a:pt x="11637" y="5524"/>
                  <a:pt x="11609" y="5606"/>
                </a:cubicBezTo>
                <a:cubicBezTo>
                  <a:pt x="11708" y="5714"/>
                  <a:pt x="12015" y="5795"/>
                  <a:pt x="11981" y="5507"/>
                </a:cubicBezTo>
                <a:cubicBezTo>
                  <a:pt x="11971" y="5420"/>
                  <a:pt x="11816" y="5395"/>
                  <a:pt x="11757" y="5383"/>
                </a:cubicBezTo>
              </a:path>
              <a:path w="2332" h="993">
                <a:moveTo>
                  <a:pt x="12254" y="5655"/>
                </a:moveTo>
                <a:cubicBezTo>
                  <a:pt x="12274" y="5696"/>
                  <a:pt x="12282" y="5723"/>
                  <a:pt x="12278" y="5680"/>
                </a:cubicBezTo>
              </a:path>
              <a:path w="2332" h="993">
                <a:moveTo>
                  <a:pt x="12129" y="5283"/>
                </a:moveTo>
                <a:cubicBezTo>
                  <a:pt x="12137" y="5283"/>
                  <a:pt x="12146" y="5283"/>
                  <a:pt x="12154" y="5283"/>
                </a:cubicBezTo>
              </a:path>
              <a:path w="2332" h="993">
                <a:moveTo>
                  <a:pt x="12154" y="5283"/>
                </a:moveTo>
                <a:lnTo>
                  <a:pt x="12154" y="5283"/>
                </a:lnTo>
              </a:path>
              <a:path w="2332" h="993">
                <a:moveTo>
                  <a:pt x="12526" y="5631"/>
                </a:moveTo>
                <a:cubicBezTo>
                  <a:pt x="12526" y="5656"/>
                  <a:pt x="12526" y="5680"/>
                  <a:pt x="12526" y="5705"/>
                </a:cubicBezTo>
                <a:cubicBezTo>
                  <a:pt x="12537" y="5588"/>
                  <a:pt x="12545" y="5398"/>
                  <a:pt x="12700" y="5383"/>
                </a:cubicBezTo>
                <a:cubicBezTo>
                  <a:pt x="12849" y="5369"/>
                  <a:pt x="12897" y="5549"/>
                  <a:pt x="12923" y="5655"/>
                </a:cubicBezTo>
              </a:path>
              <a:path w="2332" h="993">
                <a:moveTo>
                  <a:pt x="13097" y="5060"/>
                </a:moveTo>
                <a:cubicBezTo>
                  <a:pt x="13153" y="5217"/>
                  <a:pt x="13242" y="5652"/>
                  <a:pt x="13295" y="5705"/>
                </a:cubicBezTo>
              </a:path>
              <a:path w="2332" h="993">
                <a:moveTo>
                  <a:pt x="13047" y="5383"/>
                </a:moveTo>
                <a:cubicBezTo>
                  <a:pt x="13287" y="5383"/>
                  <a:pt x="13378" y="5382"/>
                  <a:pt x="13543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2040" y="1857240"/>
            <a:ext cx="1509840" cy="438120"/>
          </a:xfrm>
          <a:custGeom>
            <a:avLst/>
            <a:gdLst/>
            <a:ahLst/>
            <a:rect l="l" t="t" r="r" b="b"/>
            <a:pathLst>
              <a:path w="4193" h="1217">
                <a:moveTo>
                  <a:pt x="14585" y="5482"/>
                </a:moveTo>
                <a:cubicBezTo>
                  <a:pt x="14585" y="5504"/>
                  <a:pt x="14504" y="5388"/>
                  <a:pt x="14412" y="5383"/>
                </a:cubicBezTo>
                <a:cubicBezTo>
                  <a:pt x="14199" y="5370"/>
                  <a:pt x="13942" y="5755"/>
                  <a:pt x="14188" y="5755"/>
                </a:cubicBezTo>
                <a:cubicBezTo>
                  <a:pt x="14341" y="5755"/>
                  <a:pt x="14403" y="5626"/>
                  <a:pt x="14486" y="5531"/>
                </a:cubicBezTo>
                <a:cubicBezTo>
                  <a:pt x="14533" y="5696"/>
                  <a:pt x="14567" y="5684"/>
                  <a:pt x="14709" y="5631"/>
                </a:cubicBezTo>
                <a:cubicBezTo>
                  <a:pt x="14750" y="5614"/>
                  <a:pt x="14792" y="5598"/>
                  <a:pt x="14833" y="5581"/>
                </a:cubicBezTo>
                <a:cubicBezTo>
                  <a:pt x="14833" y="5697"/>
                  <a:pt x="14777" y="5551"/>
                  <a:pt x="14784" y="5531"/>
                </a:cubicBezTo>
                <a:cubicBezTo>
                  <a:pt x="14869" y="5299"/>
                  <a:pt x="15073" y="5393"/>
                  <a:pt x="15156" y="5556"/>
                </a:cubicBezTo>
                <a:cubicBezTo>
                  <a:pt x="15214" y="5669"/>
                  <a:pt x="15126" y="5697"/>
                  <a:pt x="15230" y="5680"/>
                </a:cubicBezTo>
              </a:path>
              <a:path w="4193" h="1217">
                <a:moveTo>
                  <a:pt x="15677" y="5457"/>
                </a:moveTo>
                <a:cubicBezTo>
                  <a:pt x="15516" y="5326"/>
                  <a:pt x="15427" y="5394"/>
                  <a:pt x="15280" y="5531"/>
                </a:cubicBezTo>
                <a:cubicBezTo>
                  <a:pt x="15381" y="5676"/>
                  <a:pt x="15647" y="5817"/>
                  <a:pt x="15652" y="5482"/>
                </a:cubicBezTo>
                <a:cubicBezTo>
                  <a:pt x="15610" y="5293"/>
                  <a:pt x="15614" y="5246"/>
                  <a:pt x="15528" y="5159"/>
                </a:cubicBezTo>
                <a:cubicBezTo>
                  <a:pt x="15558" y="5295"/>
                  <a:pt x="15608" y="5619"/>
                  <a:pt x="15726" y="5705"/>
                </a:cubicBezTo>
                <a:cubicBezTo>
                  <a:pt x="15767" y="5705"/>
                  <a:pt x="15809" y="5705"/>
                  <a:pt x="15850" y="5705"/>
                </a:cubicBezTo>
              </a:path>
              <a:path w="4193" h="1217">
                <a:moveTo>
                  <a:pt x="16743" y="5482"/>
                </a:moveTo>
                <a:cubicBezTo>
                  <a:pt x="16495" y="5466"/>
                  <a:pt x="16418" y="5541"/>
                  <a:pt x="16321" y="5755"/>
                </a:cubicBezTo>
                <a:cubicBezTo>
                  <a:pt x="16583" y="5850"/>
                  <a:pt x="16639" y="5753"/>
                  <a:pt x="16768" y="5507"/>
                </a:cubicBezTo>
                <a:cubicBezTo>
                  <a:pt x="16821" y="5706"/>
                  <a:pt x="17095" y="6136"/>
                  <a:pt x="16892" y="6325"/>
                </a:cubicBezTo>
                <a:cubicBezTo>
                  <a:pt x="16675" y="6526"/>
                  <a:pt x="16457" y="6263"/>
                  <a:pt x="16321" y="6152"/>
                </a:cubicBezTo>
              </a:path>
              <a:path w="4193" h="1217">
                <a:moveTo>
                  <a:pt x="17214" y="5358"/>
                </a:moveTo>
                <a:cubicBezTo>
                  <a:pt x="17119" y="5432"/>
                  <a:pt x="16927" y="5702"/>
                  <a:pt x="17214" y="5730"/>
                </a:cubicBezTo>
                <a:cubicBezTo>
                  <a:pt x="17500" y="5758"/>
                  <a:pt x="17344" y="5431"/>
                  <a:pt x="17214" y="5358"/>
                </a:cubicBezTo>
                <a:cubicBezTo>
                  <a:pt x="17198" y="5358"/>
                  <a:pt x="17181" y="5358"/>
                  <a:pt x="17165" y="5358"/>
                </a:cubicBezTo>
              </a:path>
              <a:path w="4193" h="1217">
                <a:moveTo>
                  <a:pt x="17611" y="5482"/>
                </a:moveTo>
                <a:cubicBezTo>
                  <a:pt x="17685" y="5442"/>
                  <a:pt x="17747" y="5422"/>
                  <a:pt x="17785" y="5358"/>
                </a:cubicBezTo>
                <a:cubicBezTo>
                  <a:pt x="17597" y="5358"/>
                  <a:pt x="17561" y="5399"/>
                  <a:pt x="17438" y="5531"/>
                </a:cubicBezTo>
                <a:cubicBezTo>
                  <a:pt x="17628" y="5737"/>
                  <a:pt x="17664" y="5658"/>
                  <a:pt x="17983" y="5631"/>
                </a:cubicBezTo>
              </a:path>
              <a:path w="4193" h="1217">
                <a:moveTo>
                  <a:pt x="18008" y="5358"/>
                </a:moveTo>
                <a:cubicBezTo>
                  <a:pt x="17963" y="5537"/>
                  <a:pt x="18190" y="5532"/>
                  <a:pt x="18281" y="5655"/>
                </a:cubicBezTo>
                <a:cubicBezTo>
                  <a:pt x="18447" y="5879"/>
                  <a:pt x="17779" y="5641"/>
                  <a:pt x="17760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3080" y="1785960"/>
            <a:ext cx="1820880" cy="258840"/>
          </a:xfrm>
          <a:custGeom>
            <a:avLst/>
            <a:gdLst/>
            <a:ahLst/>
            <a:rect l="l" t="t" r="r" b="b"/>
            <a:pathLst>
              <a:path w="5061" h="720">
                <a:moveTo>
                  <a:pt x="19199" y="5333"/>
                </a:moveTo>
                <a:cubicBezTo>
                  <a:pt x="19036" y="5402"/>
                  <a:pt x="19021" y="5412"/>
                  <a:pt x="18951" y="5581"/>
                </a:cubicBezTo>
                <a:cubicBezTo>
                  <a:pt x="19062" y="5630"/>
                  <a:pt x="19387" y="5700"/>
                  <a:pt x="19298" y="5432"/>
                </a:cubicBezTo>
                <a:cubicBezTo>
                  <a:pt x="19232" y="5366"/>
                  <a:pt x="19215" y="5349"/>
                  <a:pt x="19174" y="5308"/>
                </a:cubicBezTo>
              </a:path>
              <a:path w="5061" h="720">
                <a:moveTo>
                  <a:pt x="19596" y="5606"/>
                </a:moveTo>
                <a:cubicBezTo>
                  <a:pt x="19497" y="5631"/>
                  <a:pt x="19511" y="5423"/>
                  <a:pt x="19596" y="5358"/>
                </a:cubicBezTo>
                <a:cubicBezTo>
                  <a:pt x="19785" y="5214"/>
                  <a:pt x="20001" y="5384"/>
                  <a:pt x="19993" y="5581"/>
                </a:cubicBezTo>
                <a:cubicBezTo>
                  <a:pt x="19985" y="5589"/>
                  <a:pt x="19976" y="5598"/>
                  <a:pt x="19968" y="5606"/>
                </a:cubicBezTo>
              </a:path>
              <a:path w="5061" h="720">
                <a:moveTo>
                  <a:pt x="21109" y="5135"/>
                </a:moveTo>
                <a:cubicBezTo>
                  <a:pt x="21049" y="5014"/>
                  <a:pt x="20886" y="4845"/>
                  <a:pt x="20762" y="5035"/>
                </a:cubicBezTo>
                <a:cubicBezTo>
                  <a:pt x="20635" y="5229"/>
                  <a:pt x="20829" y="5515"/>
                  <a:pt x="20935" y="5680"/>
                </a:cubicBezTo>
                <a:cubicBezTo>
                  <a:pt x="20935" y="5672"/>
                  <a:pt x="20935" y="5663"/>
                  <a:pt x="20935" y="5655"/>
                </a:cubicBezTo>
              </a:path>
              <a:path w="5061" h="720">
                <a:moveTo>
                  <a:pt x="20439" y="5259"/>
                </a:moveTo>
                <a:cubicBezTo>
                  <a:pt x="20707" y="5298"/>
                  <a:pt x="20962" y="5333"/>
                  <a:pt x="21233" y="5333"/>
                </a:cubicBezTo>
                <a:cubicBezTo>
                  <a:pt x="21172" y="5385"/>
                  <a:pt x="20936" y="5522"/>
                  <a:pt x="21134" y="5606"/>
                </a:cubicBezTo>
                <a:cubicBezTo>
                  <a:pt x="21339" y="5693"/>
                  <a:pt x="21420" y="5615"/>
                  <a:pt x="21506" y="5482"/>
                </a:cubicBezTo>
                <a:cubicBezTo>
                  <a:pt x="21417" y="5399"/>
                  <a:pt x="21368" y="5342"/>
                  <a:pt x="21258" y="5308"/>
                </a:cubicBezTo>
              </a:path>
              <a:path w="5061" h="720">
                <a:moveTo>
                  <a:pt x="21605" y="5507"/>
                </a:moveTo>
                <a:cubicBezTo>
                  <a:pt x="21656" y="5635"/>
                  <a:pt x="21616" y="5601"/>
                  <a:pt x="21630" y="5556"/>
                </a:cubicBezTo>
                <a:cubicBezTo>
                  <a:pt x="21696" y="5341"/>
                  <a:pt x="21802" y="5319"/>
                  <a:pt x="22002" y="5308"/>
                </a:cubicBezTo>
              </a:path>
              <a:path w="5061" h="720">
                <a:moveTo>
                  <a:pt x="22051" y="5407"/>
                </a:moveTo>
                <a:cubicBezTo>
                  <a:pt x="22147" y="5384"/>
                  <a:pt x="22176" y="5379"/>
                  <a:pt x="22225" y="5333"/>
                </a:cubicBezTo>
                <a:cubicBezTo>
                  <a:pt x="22077" y="5290"/>
                  <a:pt x="22034" y="5384"/>
                  <a:pt x="21977" y="5507"/>
                </a:cubicBezTo>
                <a:cubicBezTo>
                  <a:pt x="22096" y="5596"/>
                  <a:pt x="22154" y="5621"/>
                  <a:pt x="22275" y="5581"/>
                </a:cubicBezTo>
              </a:path>
              <a:path w="5061" h="720">
                <a:moveTo>
                  <a:pt x="22523" y="5308"/>
                </a:moveTo>
                <a:cubicBezTo>
                  <a:pt x="22523" y="5408"/>
                  <a:pt x="22500" y="5573"/>
                  <a:pt x="22647" y="5581"/>
                </a:cubicBezTo>
                <a:cubicBezTo>
                  <a:pt x="22781" y="5588"/>
                  <a:pt x="22921" y="5354"/>
                  <a:pt x="22845" y="5234"/>
                </a:cubicBezTo>
                <a:cubicBezTo>
                  <a:pt x="22786" y="5234"/>
                  <a:pt x="22773" y="5243"/>
                  <a:pt x="22820" y="5308"/>
                </a:cubicBezTo>
              </a:path>
              <a:path w="5061" h="720">
                <a:moveTo>
                  <a:pt x="23093" y="5383"/>
                </a:moveTo>
                <a:cubicBezTo>
                  <a:pt x="23158" y="5339"/>
                  <a:pt x="23178" y="5333"/>
                  <a:pt x="23192" y="5283"/>
                </a:cubicBezTo>
                <a:cubicBezTo>
                  <a:pt x="23078" y="5261"/>
                  <a:pt x="22912" y="5325"/>
                  <a:pt x="23019" y="5482"/>
                </a:cubicBezTo>
                <a:cubicBezTo>
                  <a:pt x="23171" y="5707"/>
                  <a:pt x="23340" y="5457"/>
                  <a:pt x="23490" y="5432"/>
                </a:cubicBezTo>
                <a:cubicBezTo>
                  <a:pt x="23502" y="5430"/>
                  <a:pt x="23453" y="5537"/>
                  <a:pt x="23440" y="5556"/>
                </a:cubicBezTo>
                <a:cubicBezTo>
                  <a:pt x="23566" y="5482"/>
                  <a:pt x="23632" y="5309"/>
                  <a:pt x="23788" y="5234"/>
                </a:cubicBezTo>
                <a:cubicBezTo>
                  <a:pt x="23904" y="5211"/>
                  <a:pt x="23937" y="5200"/>
                  <a:pt x="24011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90840" y="2241720"/>
            <a:ext cx="287280" cy="196560"/>
          </a:xfrm>
          <a:custGeom>
            <a:avLst/>
            <a:gdLst/>
            <a:ahLst/>
            <a:rect l="l" t="t" r="r" b="b"/>
            <a:pathLst>
              <a:path w="794" h="547">
                <a:moveTo>
                  <a:pt x="6970" y="6499"/>
                </a:moveTo>
                <a:cubicBezTo>
                  <a:pt x="6970" y="6428"/>
                  <a:pt x="6993" y="6727"/>
                  <a:pt x="6995" y="6747"/>
                </a:cubicBezTo>
                <a:cubicBezTo>
                  <a:pt x="6995" y="6780"/>
                  <a:pt x="6995" y="6780"/>
                  <a:pt x="6995" y="6722"/>
                </a:cubicBezTo>
              </a:path>
              <a:path w="794" h="547">
                <a:moveTo>
                  <a:pt x="6921" y="6226"/>
                </a:moveTo>
                <a:cubicBezTo>
                  <a:pt x="6929" y="6234"/>
                  <a:pt x="6937" y="6243"/>
                  <a:pt x="6945" y="6251"/>
                </a:cubicBezTo>
              </a:path>
              <a:path w="794" h="547">
                <a:moveTo>
                  <a:pt x="6945" y="6251"/>
                </a:moveTo>
                <a:lnTo>
                  <a:pt x="6945" y="6251"/>
                </a:lnTo>
              </a:path>
              <a:path w="794" h="547">
                <a:moveTo>
                  <a:pt x="7268" y="6747"/>
                </a:moveTo>
                <a:cubicBezTo>
                  <a:pt x="7198" y="6770"/>
                  <a:pt x="7239" y="6527"/>
                  <a:pt x="7293" y="6474"/>
                </a:cubicBezTo>
                <a:cubicBezTo>
                  <a:pt x="7489" y="6284"/>
                  <a:pt x="7653" y="6545"/>
                  <a:pt x="7714" y="6697"/>
                </a:cubicBezTo>
                <a:cubicBezTo>
                  <a:pt x="7714" y="6705"/>
                  <a:pt x="7714" y="6714"/>
                  <a:pt x="771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7160" y="2303640"/>
            <a:ext cx="534960" cy="142560"/>
          </a:xfrm>
          <a:custGeom>
            <a:avLst/>
            <a:gdLst/>
            <a:ahLst/>
            <a:rect l="l" t="t" r="r" b="b"/>
            <a:pathLst>
              <a:path w="1489" h="397">
                <a:moveTo>
                  <a:pt x="9178" y="6573"/>
                </a:moveTo>
                <a:cubicBezTo>
                  <a:pt x="9178" y="6530"/>
                  <a:pt x="9166" y="6450"/>
                  <a:pt x="9128" y="6424"/>
                </a:cubicBezTo>
                <a:cubicBezTo>
                  <a:pt x="9103" y="6416"/>
                  <a:pt x="9079" y="6408"/>
                  <a:pt x="9054" y="6400"/>
                </a:cubicBezTo>
                <a:cubicBezTo>
                  <a:pt x="8981" y="6451"/>
                  <a:pt x="8727" y="6765"/>
                  <a:pt x="9004" y="6796"/>
                </a:cubicBezTo>
                <a:cubicBezTo>
                  <a:pt x="9170" y="6815"/>
                  <a:pt x="9184" y="6648"/>
                  <a:pt x="9203" y="6548"/>
                </a:cubicBezTo>
                <a:cubicBezTo>
                  <a:pt x="9105" y="6520"/>
                  <a:pt x="9056" y="6499"/>
                  <a:pt x="8954" y="6499"/>
                </a:cubicBezTo>
              </a:path>
              <a:path w="1489" h="397">
                <a:moveTo>
                  <a:pt x="9351" y="6573"/>
                </a:moveTo>
                <a:lnTo>
                  <a:pt x="9401" y="6672"/>
                </a:lnTo>
                <a:lnTo>
                  <a:pt x="9401" y="6697"/>
                </a:lnTo>
                <a:lnTo>
                  <a:pt x="9401" y="6648"/>
                </a:lnTo>
                <a:lnTo>
                  <a:pt x="9426" y="6548"/>
                </a:lnTo>
                <a:lnTo>
                  <a:pt x="9500" y="6449"/>
                </a:lnTo>
                <a:lnTo>
                  <a:pt x="9599" y="6449"/>
                </a:lnTo>
                <a:lnTo>
                  <a:pt x="9748" y="6548"/>
                </a:lnTo>
                <a:lnTo>
                  <a:pt x="9823" y="6672"/>
                </a:lnTo>
                <a:lnTo>
                  <a:pt x="9823" y="6747"/>
                </a:lnTo>
                <a:lnTo>
                  <a:pt x="9823" y="6722"/>
                </a:lnTo>
              </a:path>
              <a:path w="1489" h="397">
                <a:moveTo>
                  <a:pt x="9897" y="6598"/>
                </a:moveTo>
                <a:cubicBezTo>
                  <a:pt x="10003" y="6588"/>
                  <a:pt x="10072" y="6564"/>
                  <a:pt x="10170" y="6524"/>
                </a:cubicBezTo>
                <a:cubicBezTo>
                  <a:pt x="10170" y="6445"/>
                  <a:pt x="10081" y="6406"/>
                  <a:pt x="9996" y="6449"/>
                </a:cubicBezTo>
                <a:cubicBezTo>
                  <a:pt x="9898" y="6547"/>
                  <a:pt x="9866" y="6578"/>
                  <a:pt x="9847" y="6672"/>
                </a:cubicBezTo>
                <a:cubicBezTo>
                  <a:pt x="10096" y="6774"/>
                  <a:pt x="10099" y="6743"/>
                  <a:pt x="10368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25960" y="2197080"/>
            <a:ext cx="1455840" cy="231840"/>
          </a:xfrm>
          <a:custGeom>
            <a:avLst/>
            <a:gdLst/>
            <a:ahLst/>
            <a:rect l="l" t="t" r="r" b="b"/>
            <a:pathLst>
              <a:path w="4044" h="646">
                <a:moveTo>
                  <a:pt x="11757" y="6524"/>
                </a:moveTo>
                <a:cubicBezTo>
                  <a:pt x="11757" y="6481"/>
                  <a:pt x="11752" y="6456"/>
                  <a:pt x="11733" y="6424"/>
                </a:cubicBezTo>
                <a:cubicBezTo>
                  <a:pt x="11533" y="6425"/>
                  <a:pt x="11496" y="6541"/>
                  <a:pt x="11460" y="6722"/>
                </a:cubicBezTo>
                <a:cubicBezTo>
                  <a:pt x="11690" y="6734"/>
                  <a:pt x="11687" y="6703"/>
                  <a:pt x="11857" y="6548"/>
                </a:cubicBezTo>
              </a:path>
              <a:path w="4044" h="646">
                <a:moveTo>
                  <a:pt x="11683" y="6102"/>
                </a:moveTo>
                <a:cubicBezTo>
                  <a:pt x="11851" y="6271"/>
                  <a:pt x="11785" y="6432"/>
                  <a:pt x="11832" y="6672"/>
                </a:cubicBezTo>
                <a:cubicBezTo>
                  <a:pt x="11867" y="6707"/>
                  <a:pt x="11889" y="6711"/>
                  <a:pt x="11931" y="6672"/>
                </a:cubicBezTo>
              </a:path>
              <a:path w="4044" h="646">
                <a:moveTo>
                  <a:pt x="12055" y="6474"/>
                </a:moveTo>
                <a:cubicBezTo>
                  <a:pt x="12076" y="6599"/>
                  <a:pt x="12077" y="6626"/>
                  <a:pt x="12105" y="6697"/>
                </a:cubicBezTo>
                <a:cubicBezTo>
                  <a:pt x="12105" y="6578"/>
                  <a:pt x="12110" y="6467"/>
                  <a:pt x="12080" y="6350"/>
                </a:cubicBezTo>
                <a:cubicBezTo>
                  <a:pt x="12072" y="6333"/>
                  <a:pt x="12063" y="6317"/>
                  <a:pt x="12055" y="6300"/>
                </a:cubicBezTo>
              </a:path>
              <a:path w="4044" h="646">
                <a:moveTo>
                  <a:pt x="12353" y="6424"/>
                </a:moveTo>
                <a:cubicBezTo>
                  <a:pt x="12386" y="6529"/>
                  <a:pt x="12419" y="6603"/>
                  <a:pt x="12477" y="6697"/>
                </a:cubicBezTo>
                <a:cubicBezTo>
                  <a:pt x="12477" y="6565"/>
                  <a:pt x="12505" y="6453"/>
                  <a:pt x="12626" y="6375"/>
                </a:cubicBezTo>
                <a:cubicBezTo>
                  <a:pt x="12721" y="6351"/>
                  <a:pt x="12750" y="6340"/>
                  <a:pt x="12799" y="6400"/>
                </a:cubicBezTo>
              </a:path>
              <a:path w="4044" h="646">
                <a:moveTo>
                  <a:pt x="12849" y="6524"/>
                </a:moveTo>
                <a:cubicBezTo>
                  <a:pt x="12922" y="6524"/>
                  <a:pt x="12946" y="6525"/>
                  <a:pt x="12973" y="6474"/>
                </a:cubicBezTo>
                <a:cubicBezTo>
                  <a:pt x="12949" y="6332"/>
                  <a:pt x="12802" y="6497"/>
                  <a:pt x="12774" y="6573"/>
                </a:cubicBezTo>
                <a:cubicBezTo>
                  <a:pt x="12654" y="6903"/>
                  <a:pt x="13294" y="6559"/>
                  <a:pt x="13320" y="6548"/>
                </a:cubicBezTo>
              </a:path>
              <a:path w="4044" h="646">
                <a:moveTo>
                  <a:pt x="13444" y="6400"/>
                </a:moveTo>
                <a:cubicBezTo>
                  <a:pt x="13511" y="6443"/>
                  <a:pt x="13451" y="6380"/>
                  <a:pt x="13419" y="6400"/>
                </a:cubicBezTo>
                <a:cubicBezTo>
                  <a:pt x="13257" y="6500"/>
                  <a:pt x="13234" y="6760"/>
                  <a:pt x="13494" y="6697"/>
                </a:cubicBezTo>
                <a:cubicBezTo>
                  <a:pt x="13577" y="6664"/>
                  <a:pt x="13659" y="6631"/>
                  <a:pt x="13742" y="6598"/>
                </a:cubicBezTo>
              </a:path>
              <a:path w="4044" h="646">
                <a:moveTo>
                  <a:pt x="13866" y="6176"/>
                </a:moveTo>
                <a:cubicBezTo>
                  <a:pt x="13866" y="6357"/>
                  <a:pt x="13913" y="6496"/>
                  <a:pt x="13940" y="6672"/>
                </a:cubicBezTo>
                <a:cubicBezTo>
                  <a:pt x="13940" y="6714"/>
                  <a:pt x="13940" y="6739"/>
                  <a:pt x="13940" y="6697"/>
                </a:cubicBezTo>
              </a:path>
              <a:path w="4044" h="646">
                <a:moveTo>
                  <a:pt x="13643" y="6400"/>
                </a:moveTo>
                <a:cubicBezTo>
                  <a:pt x="13799" y="6400"/>
                  <a:pt x="13959" y="6358"/>
                  <a:pt x="14114" y="6375"/>
                </a:cubicBezTo>
                <a:cubicBezTo>
                  <a:pt x="14212" y="6386"/>
                  <a:pt x="14262" y="6494"/>
                  <a:pt x="14288" y="6573"/>
                </a:cubicBezTo>
              </a:path>
              <a:path w="4044" h="646">
                <a:moveTo>
                  <a:pt x="14238" y="6201"/>
                </a:moveTo>
                <a:lnTo>
                  <a:pt x="14238" y="6201"/>
                </a:lnTo>
                <a:lnTo>
                  <a:pt x="14238" y="6201"/>
                </a:lnTo>
              </a:path>
              <a:path w="4044" h="646">
                <a:moveTo>
                  <a:pt x="14238" y="6201"/>
                </a:moveTo>
                <a:lnTo>
                  <a:pt x="14238" y="6201"/>
                </a:lnTo>
              </a:path>
              <a:path w="4044" h="646">
                <a:moveTo>
                  <a:pt x="14734" y="6424"/>
                </a:moveTo>
                <a:cubicBezTo>
                  <a:pt x="14643" y="6432"/>
                  <a:pt x="14498" y="6503"/>
                  <a:pt x="14610" y="6623"/>
                </a:cubicBezTo>
                <a:cubicBezTo>
                  <a:pt x="14707" y="6726"/>
                  <a:pt x="14818" y="6622"/>
                  <a:pt x="14883" y="6573"/>
                </a:cubicBezTo>
                <a:cubicBezTo>
                  <a:pt x="14858" y="6475"/>
                  <a:pt x="14850" y="6460"/>
                  <a:pt x="14759" y="6400"/>
                </a:cubicBezTo>
              </a:path>
              <a:path w="4044" h="646">
                <a:moveTo>
                  <a:pt x="15081" y="6648"/>
                </a:moveTo>
                <a:cubicBezTo>
                  <a:pt x="15081" y="6560"/>
                  <a:pt x="15120" y="6471"/>
                  <a:pt x="15205" y="6424"/>
                </a:cubicBezTo>
                <a:cubicBezTo>
                  <a:pt x="15369" y="6334"/>
                  <a:pt x="15455" y="6583"/>
                  <a:pt x="15503" y="6697"/>
                </a:cubicBezTo>
                <a:cubicBezTo>
                  <a:pt x="15503" y="6705"/>
                  <a:pt x="15503" y="6714"/>
                  <a:pt x="15503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7040" y="2589120"/>
            <a:ext cx="901800" cy="206640"/>
          </a:xfrm>
          <a:custGeom>
            <a:avLst/>
            <a:gdLst/>
            <a:ahLst/>
            <a:rect l="l" t="t" r="r" b="b"/>
            <a:pathLst>
              <a:path w="2506" h="572">
                <a:moveTo>
                  <a:pt x="13667" y="7441"/>
                </a:moveTo>
                <a:cubicBezTo>
                  <a:pt x="13667" y="7417"/>
                  <a:pt x="13667" y="7408"/>
                  <a:pt x="13667" y="7392"/>
                </a:cubicBezTo>
                <a:cubicBezTo>
                  <a:pt x="13640" y="7401"/>
                  <a:pt x="13447" y="7491"/>
                  <a:pt x="13543" y="7541"/>
                </a:cubicBezTo>
                <a:cubicBezTo>
                  <a:pt x="13646" y="7594"/>
                  <a:pt x="13797" y="7473"/>
                  <a:pt x="13692" y="7417"/>
                </a:cubicBezTo>
                <a:cubicBezTo>
                  <a:pt x="13609" y="7373"/>
                  <a:pt x="13574" y="7467"/>
                  <a:pt x="13543" y="7516"/>
                </a:cubicBezTo>
                <a:cubicBezTo>
                  <a:pt x="13575" y="7522"/>
                  <a:pt x="13773" y="7503"/>
                  <a:pt x="13667" y="7417"/>
                </a:cubicBezTo>
                <a:cubicBezTo>
                  <a:pt x="13623" y="7382"/>
                  <a:pt x="13579" y="7445"/>
                  <a:pt x="13568" y="7466"/>
                </a:cubicBezTo>
              </a:path>
              <a:path w="2506" h="572">
                <a:moveTo>
                  <a:pt x="13494" y="7516"/>
                </a:moveTo>
                <a:cubicBezTo>
                  <a:pt x="13536" y="7491"/>
                  <a:pt x="13522" y="7498"/>
                  <a:pt x="13568" y="7491"/>
                </a:cubicBezTo>
                <a:cubicBezTo>
                  <a:pt x="13378" y="7521"/>
                  <a:pt x="13195" y="7516"/>
                  <a:pt x="12998" y="7516"/>
                </a:cubicBezTo>
                <a:cubicBezTo>
                  <a:pt x="12538" y="7516"/>
                  <a:pt x="12091" y="7494"/>
                  <a:pt x="11633" y="7466"/>
                </a:cubicBezTo>
                <a:cubicBezTo>
                  <a:pt x="11532" y="7460"/>
                  <a:pt x="11465" y="7457"/>
                  <a:pt x="11385" y="7466"/>
                </a:cubicBezTo>
                <a:cubicBezTo>
                  <a:pt x="11361" y="7466"/>
                  <a:pt x="11352" y="7466"/>
                  <a:pt x="11336" y="7466"/>
                </a:cubicBezTo>
              </a:path>
              <a:path w="2506" h="572">
                <a:moveTo>
                  <a:pt x="11559" y="7193"/>
                </a:moveTo>
                <a:cubicBezTo>
                  <a:pt x="11511" y="7289"/>
                  <a:pt x="11361" y="7341"/>
                  <a:pt x="11261" y="7392"/>
                </a:cubicBezTo>
                <a:cubicBezTo>
                  <a:pt x="11245" y="7400"/>
                  <a:pt x="11228" y="7409"/>
                  <a:pt x="11212" y="7417"/>
                </a:cubicBezTo>
                <a:cubicBezTo>
                  <a:pt x="11254" y="7522"/>
                  <a:pt x="11384" y="7574"/>
                  <a:pt x="11460" y="7665"/>
                </a:cubicBezTo>
                <a:cubicBezTo>
                  <a:pt x="11483" y="7693"/>
                  <a:pt x="11501" y="7732"/>
                  <a:pt x="11509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2800" y="2562120"/>
            <a:ext cx="206280" cy="30492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15329" y="7938"/>
                </a:moveTo>
                <a:cubicBezTo>
                  <a:pt x="15308" y="7834"/>
                  <a:pt x="15276" y="7853"/>
                  <a:pt x="15205" y="7913"/>
                </a:cubicBezTo>
                <a:cubicBezTo>
                  <a:pt x="15183" y="7935"/>
                  <a:pt x="15174" y="7940"/>
                  <a:pt x="15180" y="7962"/>
                </a:cubicBezTo>
                <a:cubicBezTo>
                  <a:pt x="15289" y="7938"/>
                  <a:pt x="15289" y="7887"/>
                  <a:pt x="15180" y="7863"/>
                </a:cubicBezTo>
              </a:path>
              <a:path w="572" h="844">
                <a:moveTo>
                  <a:pt x="15205" y="7888"/>
                </a:moveTo>
                <a:cubicBezTo>
                  <a:pt x="15272" y="7866"/>
                  <a:pt x="15254" y="7705"/>
                  <a:pt x="15255" y="7640"/>
                </a:cubicBezTo>
                <a:cubicBezTo>
                  <a:pt x="15257" y="7530"/>
                  <a:pt x="15208" y="7254"/>
                  <a:pt x="15230" y="7169"/>
                </a:cubicBezTo>
                <a:cubicBezTo>
                  <a:pt x="15238" y="7169"/>
                  <a:pt x="15247" y="7169"/>
                  <a:pt x="15255" y="7169"/>
                </a:cubicBezTo>
                <a:cubicBezTo>
                  <a:pt x="15169" y="7190"/>
                  <a:pt x="15082" y="7349"/>
                  <a:pt x="15032" y="7417"/>
                </a:cubicBezTo>
                <a:cubicBezTo>
                  <a:pt x="14994" y="7473"/>
                  <a:pt x="14977" y="7519"/>
                  <a:pt x="14982" y="7466"/>
                </a:cubicBezTo>
                <a:cubicBezTo>
                  <a:pt x="15072" y="7349"/>
                  <a:pt x="15146" y="7235"/>
                  <a:pt x="15230" y="7119"/>
                </a:cubicBezTo>
                <a:cubicBezTo>
                  <a:pt x="15278" y="7215"/>
                  <a:pt x="15404" y="7311"/>
                  <a:pt x="15503" y="7367"/>
                </a:cubicBezTo>
                <a:cubicBezTo>
                  <a:pt x="15531" y="7367"/>
                  <a:pt x="15542" y="7369"/>
                  <a:pt x="15553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2643120"/>
            <a:ext cx="152280" cy="295200"/>
          </a:xfrm>
          <a:custGeom>
            <a:avLst/>
            <a:gdLst/>
            <a:ahLst/>
            <a:rect l="l" t="t" r="r" b="b"/>
            <a:pathLst>
              <a:path w="422" h="820">
                <a:moveTo>
                  <a:pt x="16594" y="7441"/>
                </a:moveTo>
                <a:cubicBezTo>
                  <a:pt x="16603" y="7438"/>
                  <a:pt x="16650" y="7380"/>
                  <a:pt x="16619" y="7367"/>
                </a:cubicBezTo>
                <a:cubicBezTo>
                  <a:pt x="16603" y="7367"/>
                  <a:pt x="16586" y="7367"/>
                  <a:pt x="16570" y="7367"/>
                </a:cubicBezTo>
                <a:cubicBezTo>
                  <a:pt x="16604" y="7418"/>
                  <a:pt x="16612" y="7384"/>
                  <a:pt x="16644" y="7342"/>
                </a:cubicBezTo>
                <a:cubicBezTo>
                  <a:pt x="16590" y="7364"/>
                  <a:pt x="16577" y="7390"/>
                  <a:pt x="16545" y="7441"/>
                </a:cubicBezTo>
              </a:path>
              <a:path w="422" h="820">
                <a:moveTo>
                  <a:pt x="16669" y="7491"/>
                </a:moveTo>
                <a:cubicBezTo>
                  <a:pt x="16617" y="7577"/>
                  <a:pt x="16628" y="7853"/>
                  <a:pt x="16619" y="7987"/>
                </a:cubicBezTo>
                <a:cubicBezTo>
                  <a:pt x="16619" y="8045"/>
                  <a:pt x="16619" y="8053"/>
                  <a:pt x="16619" y="8086"/>
                </a:cubicBezTo>
                <a:cubicBezTo>
                  <a:pt x="16551" y="8030"/>
                  <a:pt x="16505" y="7979"/>
                  <a:pt x="16446" y="7913"/>
                </a:cubicBezTo>
                <a:cubicBezTo>
                  <a:pt x="16517" y="8000"/>
                  <a:pt x="16589" y="8081"/>
                  <a:pt x="16669" y="8161"/>
                </a:cubicBezTo>
                <a:cubicBezTo>
                  <a:pt x="16727" y="8115"/>
                  <a:pt x="16780" y="8005"/>
                  <a:pt x="16842" y="7938"/>
                </a:cubicBezTo>
                <a:cubicBezTo>
                  <a:pt x="16850" y="7930"/>
                  <a:pt x="16859" y="7921"/>
                  <a:pt x="1686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56240" y="2857680"/>
            <a:ext cx="438120" cy="206280"/>
          </a:xfrm>
          <a:custGeom>
            <a:avLst/>
            <a:gdLst/>
            <a:ahLst/>
            <a:rect l="l" t="t" r="r" b="b"/>
            <a:pathLst>
              <a:path w="1216" h="571">
                <a:moveTo>
                  <a:pt x="18008" y="8235"/>
                </a:moveTo>
                <a:cubicBezTo>
                  <a:pt x="17983" y="8260"/>
                  <a:pt x="17975" y="8268"/>
                  <a:pt x="17959" y="8285"/>
                </a:cubicBezTo>
                <a:cubicBezTo>
                  <a:pt x="18034" y="8304"/>
                  <a:pt x="18031" y="8308"/>
                  <a:pt x="18083" y="8235"/>
                </a:cubicBezTo>
                <a:cubicBezTo>
                  <a:pt x="18051" y="8240"/>
                  <a:pt x="17981" y="8234"/>
                  <a:pt x="18033" y="8260"/>
                </a:cubicBezTo>
              </a:path>
              <a:path w="1216" h="571">
                <a:moveTo>
                  <a:pt x="18132" y="8310"/>
                </a:moveTo>
                <a:cubicBezTo>
                  <a:pt x="18044" y="8310"/>
                  <a:pt x="18247" y="8261"/>
                  <a:pt x="18331" y="8235"/>
                </a:cubicBezTo>
                <a:cubicBezTo>
                  <a:pt x="18586" y="8156"/>
                  <a:pt x="18844" y="8059"/>
                  <a:pt x="19100" y="7987"/>
                </a:cubicBezTo>
                <a:cubicBezTo>
                  <a:pt x="19108" y="7987"/>
                  <a:pt x="19116" y="7987"/>
                  <a:pt x="19124" y="7987"/>
                </a:cubicBezTo>
                <a:cubicBezTo>
                  <a:pt x="18972" y="7968"/>
                  <a:pt x="18832" y="7942"/>
                  <a:pt x="18678" y="7938"/>
                </a:cubicBezTo>
                <a:cubicBezTo>
                  <a:pt x="18661" y="7938"/>
                  <a:pt x="18645" y="7938"/>
                  <a:pt x="18628" y="7938"/>
                </a:cubicBezTo>
                <a:cubicBezTo>
                  <a:pt x="18756" y="7956"/>
                  <a:pt x="18900" y="7963"/>
                  <a:pt x="19025" y="7987"/>
                </a:cubicBezTo>
                <a:cubicBezTo>
                  <a:pt x="19070" y="7996"/>
                  <a:pt x="19112" y="8012"/>
                  <a:pt x="19124" y="8037"/>
                </a:cubicBezTo>
                <a:cubicBezTo>
                  <a:pt x="19187" y="8172"/>
                  <a:pt x="19096" y="8258"/>
                  <a:pt x="19050" y="8384"/>
                </a:cubicBezTo>
                <a:cubicBezTo>
                  <a:pt x="19050" y="8392"/>
                  <a:pt x="19050" y="8401"/>
                  <a:pt x="19050" y="8409"/>
                </a:cubicBezTo>
              </a:path>
              <a:path w="1216" h="571">
                <a:moveTo>
                  <a:pt x="18157" y="8359"/>
                </a:moveTo>
                <a:cubicBezTo>
                  <a:pt x="18071" y="8373"/>
                  <a:pt x="17979" y="8381"/>
                  <a:pt x="17934" y="8458"/>
                </a:cubicBezTo>
                <a:cubicBezTo>
                  <a:pt x="17934" y="8466"/>
                  <a:pt x="17934" y="8475"/>
                  <a:pt x="17934" y="8483"/>
                </a:cubicBezTo>
                <a:cubicBezTo>
                  <a:pt x="18001" y="8487"/>
                  <a:pt x="18293" y="8486"/>
                  <a:pt x="18157" y="8334"/>
                </a:cubicBezTo>
                <a:cubicBezTo>
                  <a:pt x="18083" y="8285"/>
                  <a:pt x="18058" y="8269"/>
                  <a:pt x="18008" y="8334"/>
                </a:cubicBezTo>
                <a:cubicBezTo>
                  <a:pt x="18008" y="8412"/>
                  <a:pt x="18049" y="8404"/>
                  <a:pt x="18107" y="8384"/>
                </a:cubicBezTo>
                <a:cubicBezTo>
                  <a:pt x="18133" y="8333"/>
                  <a:pt x="18115" y="8334"/>
                  <a:pt x="1805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84960" y="2562120"/>
            <a:ext cx="1187280" cy="233640"/>
          </a:xfrm>
          <a:custGeom>
            <a:avLst/>
            <a:gdLst/>
            <a:ahLst/>
            <a:rect l="l" t="t" r="r" b="b"/>
            <a:pathLst>
              <a:path w="3300" h="646">
                <a:moveTo>
                  <a:pt x="17859" y="7119"/>
                </a:moveTo>
                <a:cubicBezTo>
                  <a:pt x="17766" y="7119"/>
                  <a:pt x="17806" y="7114"/>
                  <a:pt x="17735" y="7193"/>
                </a:cubicBezTo>
                <a:cubicBezTo>
                  <a:pt x="17787" y="7239"/>
                  <a:pt x="17990" y="7340"/>
                  <a:pt x="18033" y="7193"/>
                </a:cubicBezTo>
                <a:cubicBezTo>
                  <a:pt x="18062" y="7095"/>
                  <a:pt x="17892" y="7137"/>
                  <a:pt x="17859" y="7144"/>
                </a:cubicBezTo>
                <a:cubicBezTo>
                  <a:pt x="17920" y="7180"/>
                  <a:pt x="17940" y="7223"/>
                  <a:pt x="17959" y="7169"/>
                </a:cubicBezTo>
              </a:path>
              <a:path w="3300" h="646">
                <a:moveTo>
                  <a:pt x="18008" y="7243"/>
                </a:moveTo>
                <a:cubicBezTo>
                  <a:pt x="18157" y="7257"/>
                  <a:pt x="18303" y="7281"/>
                  <a:pt x="18455" y="7293"/>
                </a:cubicBezTo>
                <a:cubicBezTo>
                  <a:pt x="18967" y="7335"/>
                  <a:pt x="19481" y="7354"/>
                  <a:pt x="19993" y="7392"/>
                </a:cubicBezTo>
                <a:cubicBezTo>
                  <a:pt x="20257" y="7412"/>
                  <a:pt x="20523" y="7453"/>
                  <a:pt x="20786" y="7466"/>
                </a:cubicBezTo>
                <a:cubicBezTo>
                  <a:pt x="20794" y="7466"/>
                  <a:pt x="20803" y="7466"/>
                  <a:pt x="20811" y="7466"/>
                </a:cubicBezTo>
              </a:path>
              <a:path w="3300" h="646">
                <a:moveTo>
                  <a:pt x="20513" y="7218"/>
                </a:moveTo>
                <a:cubicBezTo>
                  <a:pt x="20688" y="7265"/>
                  <a:pt x="20825" y="7334"/>
                  <a:pt x="20985" y="7417"/>
                </a:cubicBezTo>
                <a:cubicBezTo>
                  <a:pt x="21001" y="7425"/>
                  <a:pt x="21018" y="7433"/>
                  <a:pt x="21034" y="7441"/>
                </a:cubicBezTo>
                <a:cubicBezTo>
                  <a:pt x="20935" y="7555"/>
                  <a:pt x="20763" y="7657"/>
                  <a:pt x="20638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0080" y="3643200"/>
            <a:ext cx="795240" cy="214560"/>
          </a:xfrm>
          <a:custGeom>
            <a:avLst/>
            <a:gdLst/>
            <a:ahLst/>
            <a:rect l="l" t="t" r="r" b="b"/>
            <a:pathLst>
              <a:path w="2209" h="597">
                <a:moveTo>
                  <a:pt x="9277" y="10120"/>
                </a:moveTo>
                <a:cubicBezTo>
                  <a:pt x="9348" y="10313"/>
                  <a:pt x="9446" y="10498"/>
                  <a:pt x="9525" y="10691"/>
                </a:cubicBezTo>
                <a:cubicBezTo>
                  <a:pt x="9542" y="10683"/>
                  <a:pt x="9457" y="10455"/>
                  <a:pt x="9475" y="10368"/>
                </a:cubicBezTo>
                <a:cubicBezTo>
                  <a:pt x="9522" y="10140"/>
                  <a:pt x="9956" y="10342"/>
                  <a:pt x="9947" y="10542"/>
                </a:cubicBezTo>
                <a:cubicBezTo>
                  <a:pt x="9940" y="10704"/>
                  <a:pt x="9636" y="10794"/>
                  <a:pt x="9550" y="10666"/>
                </a:cubicBezTo>
                <a:cubicBezTo>
                  <a:pt x="9550" y="10649"/>
                  <a:pt x="9550" y="10633"/>
                  <a:pt x="9550" y="10616"/>
                </a:cubicBezTo>
              </a:path>
              <a:path w="2209" h="597">
                <a:moveTo>
                  <a:pt x="10071" y="10319"/>
                </a:moveTo>
                <a:cubicBezTo>
                  <a:pt x="9975" y="10390"/>
                  <a:pt x="9943" y="10411"/>
                  <a:pt x="9922" y="10492"/>
                </a:cubicBezTo>
                <a:cubicBezTo>
                  <a:pt x="10009" y="10618"/>
                  <a:pt x="10262" y="10693"/>
                  <a:pt x="10393" y="10492"/>
                </a:cubicBezTo>
                <a:cubicBezTo>
                  <a:pt x="10461" y="10387"/>
                  <a:pt x="10232" y="10375"/>
                  <a:pt x="10120" y="10319"/>
                </a:cubicBezTo>
              </a:path>
              <a:path w="2209" h="597">
                <a:moveTo>
                  <a:pt x="10666" y="10120"/>
                </a:moveTo>
                <a:cubicBezTo>
                  <a:pt x="10725" y="10302"/>
                  <a:pt x="10813" y="10480"/>
                  <a:pt x="10840" y="10666"/>
                </a:cubicBezTo>
              </a:path>
              <a:path w="2209" h="597">
                <a:moveTo>
                  <a:pt x="10393" y="10344"/>
                </a:moveTo>
                <a:cubicBezTo>
                  <a:pt x="10473" y="10342"/>
                  <a:pt x="11069" y="10373"/>
                  <a:pt x="11038" y="10244"/>
                </a:cubicBezTo>
                <a:cubicBezTo>
                  <a:pt x="11021" y="10228"/>
                  <a:pt x="11005" y="10211"/>
                  <a:pt x="10988" y="10195"/>
                </a:cubicBezTo>
                <a:cubicBezTo>
                  <a:pt x="11002" y="10251"/>
                  <a:pt x="11150" y="10514"/>
                  <a:pt x="11112" y="10567"/>
                </a:cubicBezTo>
                <a:cubicBezTo>
                  <a:pt x="11104" y="10559"/>
                  <a:pt x="11096" y="10550"/>
                  <a:pt x="11088" y="10542"/>
                </a:cubicBezTo>
                <a:cubicBezTo>
                  <a:pt x="11063" y="10367"/>
                  <a:pt x="11088" y="10242"/>
                  <a:pt x="11311" y="10319"/>
                </a:cubicBezTo>
                <a:cubicBezTo>
                  <a:pt x="11422" y="10358"/>
                  <a:pt x="11485" y="10660"/>
                  <a:pt x="11485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83080" y="3500280"/>
            <a:ext cx="1268280" cy="322560"/>
          </a:xfrm>
          <a:custGeom>
            <a:avLst/>
            <a:gdLst/>
            <a:ahLst/>
            <a:rect l="l" t="t" r="r" b="b"/>
            <a:pathLst>
              <a:path w="3523" h="894">
                <a:moveTo>
                  <a:pt x="12774" y="10344"/>
                </a:moveTo>
                <a:cubicBezTo>
                  <a:pt x="12774" y="10292"/>
                  <a:pt x="12755" y="10265"/>
                  <a:pt x="12700" y="10244"/>
                </a:cubicBezTo>
                <a:cubicBezTo>
                  <a:pt x="12593" y="10276"/>
                  <a:pt x="12252" y="10520"/>
                  <a:pt x="12551" y="10616"/>
                </a:cubicBezTo>
                <a:cubicBezTo>
                  <a:pt x="12776" y="10688"/>
                  <a:pt x="12774" y="10369"/>
                  <a:pt x="12774" y="10344"/>
                </a:cubicBezTo>
                <a:cubicBezTo>
                  <a:pt x="12911" y="10538"/>
                  <a:pt x="12979" y="10512"/>
                  <a:pt x="13196" y="10468"/>
                </a:cubicBezTo>
              </a:path>
              <a:path w="3523" h="894">
                <a:moveTo>
                  <a:pt x="13593" y="10120"/>
                </a:moveTo>
                <a:cubicBezTo>
                  <a:pt x="13423" y="10206"/>
                  <a:pt x="13549" y="10240"/>
                  <a:pt x="13717" y="10294"/>
                </a:cubicBezTo>
                <a:cubicBezTo>
                  <a:pt x="13783" y="10311"/>
                  <a:pt x="13849" y="10327"/>
                  <a:pt x="13915" y="10344"/>
                </a:cubicBezTo>
                <a:cubicBezTo>
                  <a:pt x="14014" y="10439"/>
                  <a:pt x="13627" y="10378"/>
                  <a:pt x="13568" y="10344"/>
                </a:cubicBezTo>
              </a:path>
              <a:path w="3523" h="894">
                <a:moveTo>
                  <a:pt x="14064" y="9947"/>
                </a:moveTo>
                <a:cubicBezTo>
                  <a:pt x="14096" y="10009"/>
                  <a:pt x="14263" y="10367"/>
                  <a:pt x="14288" y="10344"/>
                </a:cubicBezTo>
              </a:path>
              <a:path w="3523" h="894">
                <a:moveTo>
                  <a:pt x="13891" y="10170"/>
                </a:moveTo>
                <a:cubicBezTo>
                  <a:pt x="14135" y="10126"/>
                  <a:pt x="14315" y="10106"/>
                  <a:pt x="14560" y="10120"/>
                </a:cubicBezTo>
              </a:path>
              <a:path w="3523" h="894">
                <a:moveTo>
                  <a:pt x="14684" y="10170"/>
                </a:moveTo>
                <a:cubicBezTo>
                  <a:pt x="14658" y="10090"/>
                  <a:pt x="14495" y="10179"/>
                  <a:pt x="14461" y="10220"/>
                </a:cubicBezTo>
                <a:cubicBezTo>
                  <a:pt x="14445" y="10261"/>
                  <a:pt x="14428" y="10303"/>
                  <a:pt x="14412" y="10344"/>
                </a:cubicBezTo>
                <a:cubicBezTo>
                  <a:pt x="14569" y="10362"/>
                  <a:pt x="14735" y="10380"/>
                  <a:pt x="14684" y="10170"/>
                </a:cubicBezTo>
                <a:cubicBezTo>
                  <a:pt x="14676" y="10162"/>
                  <a:pt x="14668" y="10153"/>
                  <a:pt x="14660" y="10145"/>
                </a:cubicBezTo>
                <a:cubicBezTo>
                  <a:pt x="14722" y="10263"/>
                  <a:pt x="14851" y="10458"/>
                  <a:pt x="15007" y="10319"/>
                </a:cubicBezTo>
                <a:cubicBezTo>
                  <a:pt x="15068" y="10265"/>
                  <a:pt x="15032" y="10375"/>
                  <a:pt x="15032" y="10294"/>
                </a:cubicBezTo>
                <a:cubicBezTo>
                  <a:pt x="15032" y="10277"/>
                  <a:pt x="15032" y="10261"/>
                  <a:pt x="15032" y="10244"/>
                </a:cubicBezTo>
                <a:cubicBezTo>
                  <a:pt x="15044" y="10049"/>
                  <a:pt x="15058" y="9997"/>
                  <a:pt x="15255" y="9947"/>
                </a:cubicBezTo>
                <a:cubicBezTo>
                  <a:pt x="15296" y="9939"/>
                  <a:pt x="15338" y="9930"/>
                  <a:pt x="15379" y="9922"/>
                </a:cubicBezTo>
              </a:path>
              <a:path w="3523" h="894">
                <a:moveTo>
                  <a:pt x="15528" y="9723"/>
                </a:moveTo>
                <a:cubicBezTo>
                  <a:pt x="15585" y="9914"/>
                  <a:pt x="15651" y="10100"/>
                  <a:pt x="15701" y="10294"/>
                </a:cubicBezTo>
              </a:path>
              <a:path w="3523" h="894">
                <a:moveTo>
                  <a:pt x="15429" y="10071"/>
                </a:moveTo>
                <a:cubicBezTo>
                  <a:pt x="15614" y="10047"/>
                  <a:pt x="15788" y="10028"/>
                  <a:pt x="15974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73840" y="3483000"/>
            <a:ext cx="590400" cy="214200"/>
          </a:xfrm>
          <a:custGeom>
            <a:avLst/>
            <a:gdLst/>
            <a:ahLst/>
            <a:rect l="l" t="t" r="r" b="b"/>
            <a:pathLst>
              <a:path w="1638" h="596">
                <a:moveTo>
                  <a:pt x="17041" y="10145"/>
                </a:moveTo>
                <a:cubicBezTo>
                  <a:pt x="17007" y="10061"/>
                  <a:pt x="16905" y="9950"/>
                  <a:pt x="16793" y="9971"/>
                </a:cubicBezTo>
                <a:cubicBezTo>
                  <a:pt x="16513" y="10024"/>
                  <a:pt x="16579" y="10358"/>
                  <a:pt x="16842" y="10269"/>
                </a:cubicBezTo>
                <a:cubicBezTo>
                  <a:pt x="16948" y="10184"/>
                  <a:pt x="16976" y="10171"/>
                  <a:pt x="17016" y="10096"/>
                </a:cubicBezTo>
                <a:cubicBezTo>
                  <a:pt x="17058" y="10178"/>
                  <a:pt x="17153" y="10244"/>
                  <a:pt x="17264" y="10220"/>
                </a:cubicBezTo>
                <a:cubicBezTo>
                  <a:pt x="17289" y="10203"/>
                  <a:pt x="17313" y="10187"/>
                  <a:pt x="17338" y="10170"/>
                </a:cubicBezTo>
                <a:cubicBezTo>
                  <a:pt x="17406" y="10124"/>
                  <a:pt x="17338" y="10207"/>
                  <a:pt x="17314" y="10145"/>
                </a:cubicBezTo>
                <a:cubicBezTo>
                  <a:pt x="17240" y="9955"/>
                  <a:pt x="17399" y="9884"/>
                  <a:pt x="17562" y="9947"/>
                </a:cubicBezTo>
                <a:cubicBezTo>
                  <a:pt x="17727" y="10010"/>
                  <a:pt x="17692" y="10149"/>
                  <a:pt x="17785" y="10195"/>
                </a:cubicBezTo>
              </a:path>
              <a:path w="1638" h="596">
                <a:moveTo>
                  <a:pt x="18182" y="9996"/>
                </a:moveTo>
                <a:cubicBezTo>
                  <a:pt x="17956" y="9917"/>
                  <a:pt x="17889" y="9946"/>
                  <a:pt x="17735" y="10120"/>
                </a:cubicBezTo>
                <a:cubicBezTo>
                  <a:pt x="17831" y="10224"/>
                  <a:pt x="18111" y="10356"/>
                  <a:pt x="18107" y="10071"/>
                </a:cubicBezTo>
                <a:cubicBezTo>
                  <a:pt x="18105" y="9945"/>
                  <a:pt x="18043" y="9782"/>
                  <a:pt x="17983" y="9674"/>
                </a:cubicBezTo>
                <a:cubicBezTo>
                  <a:pt x="18066" y="9839"/>
                  <a:pt x="18149" y="10004"/>
                  <a:pt x="18231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24800" y="3419640"/>
            <a:ext cx="517320" cy="250560"/>
          </a:xfrm>
          <a:custGeom>
            <a:avLst/>
            <a:gdLst/>
            <a:ahLst/>
            <a:rect l="l" t="t" r="r" b="b"/>
            <a:pathLst>
              <a:path w="1440" h="696">
                <a:moveTo>
                  <a:pt x="18678" y="10046"/>
                </a:moveTo>
                <a:cubicBezTo>
                  <a:pt x="18795" y="10007"/>
                  <a:pt x="18913" y="9965"/>
                  <a:pt x="19025" y="9922"/>
                </a:cubicBezTo>
                <a:cubicBezTo>
                  <a:pt x="19033" y="9922"/>
                  <a:pt x="19042" y="9922"/>
                  <a:pt x="19050" y="9922"/>
                </a:cubicBezTo>
                <a:cubicBezTo>
                  <a:pt x="18958" y="9891"/>
                  <a:pt x="18849" y="9785"/>
                  <a:pt x="18752" y="9897"/>
                </a:cubicBezTo>
                <a:cubicBezTo>
                  <a:pt x="18569" y="10109"/>
                  <a:pt x="18809" y="10226"/>
                  <a:pt x="19000" y="10170"/>
                </a:cubicBezTo>
                <a:cubicBezTo>
                  <a:pt x="19093" y="10143"/>
                  <a:pt x="19248" y="9941"/>
                  <a:pt x="19248" y="9947"/>
                </a:cubicBezTo>
                <a:cubicBezTo>
                  <a:pt x="19248" y="10021"/>
                  <a:pt x="19248" y="10046"/>
                  <a:pt x="19248" y="10096"/>
                </a:cubicBezTo>
                <a:cubicBezTo>
                  <a:pt x="19248" y="10178"/>
                  <a:pt x="19226" y="9976"/>
                  <a:pt x="19248" y="9897"/>
                </a:cubicBezTo>
                <a:cubicBezTo>
                  <a:pt x="19265" y="9864"/>
                  <a:pt x="19281" y="9831"/>
                  <a:pt x="19298" y="9798"/>
                </a:cubicBezTo>
                <a:cubicBezTo>
                  <a:pt x="19541" y="9798"/>
                  <a:pt x="19612" y="9840"/>
                  <a:pt x="19645" y="10096"/>
                </a:cubicBezTo>
                <a:cubicBezTo>
                  <a:pt x="19645" y="10104"/>
                  <a:pt x="19645" y="10112"/>
                  <a:pt x="19645" y="10120"/>
                </a:cubicBezTo>
              </a:path>
              <a:path w="1440" h="696">
                <a:moveTo>
                  <a:pt x="19968" y="9823"/>
                </a:moveTo>
                <a:cubicBezTo>
                  <a:pt x="19755" y="9809"/>
                  <a:pt x="19701" y="9879"/>
                  <a:pt x="19621" y="10071"/>
                </a:cubicBezTo>
                <a:cubicBezTo>
                  <a:pt x="19910" y="10200"/>
                  <a:pt x="19970" y="10148"/>
                  <a:pt x="20092" y="9872"/>
                </a:cubicBezTo>
              </a:path>
              <a:path w="1440" h="696">
                <a:moveTo>
                  <a:pt x="19918" y="9500"/>
                </a:moveTo>
                <a:cubicBezTo>
                  <a:pt x="19974" y="9696"/>
                  <a:pt x="20045" y="9881"/>
                  <a:pt x="20117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240" y="3367080"/>
            <a:ext cx="839880" cy="365040"/>
          </a:xfrm>
          <a:custGeom>
            <a:avLst/>
            <a:gdLst/>
            <a:ahLst/>
            <a:rect l="l" t="t" r="r" b="b"/>
            <a:pathLst>
              <a:path w="2333" h="1018">
                <a:moveTo>
                  <a:pt x="20861" y="9971"/>
                </a:moveTo>
                <a:cubicBezTo>
                  <a:pt x="20908" y="10118"/>
                  <a:pt x="21149" y="10436"/>
                  <a:pt x="21010" y="10368"/>
                </a:cubicBezTo>
                <a:cubicBezTo>
                  <a:pt x="20985" y="10352"/>
                  <a:pt x="20960" y="10335"/>
                  <a:pt x="20935" y="10319"/>
                </a:cubicBezTo>
                <a:cubicBezTo>
                  <a:pt x="20875" y="10179"/>
                  <a:pt x="20668" y="9627"/>
                  <a:pt x="21084" y="9748"/>
                </a:cubicBezTo>
                <a:cubicBezTo>
                  <a:pt x="21222" y="9863"/>
                  <a:pt x="21269" y="9890"/>
                  <a:pt x="21258" y="10021"/>
                </a:cubicBezTo>
                <a:cubicBezTo>
                  <a:pt x="21073" y="10137"/>
                  <a:pt x="21059" y="10124"/>
                  <a:pt x="20836" y="10071"/>
                </a:cubicBezTo>
              </a:path>
              <a:path w="2333" h="1018">
                <a:moveTo>
                  <a:pt x="21431" y="9798"/>
                </a:moveTo>
                <a:cubicBezTo>
                  <a:pt x="21307" y="9798"/>
                  <a:pt x="21266" y="9798"/>
                  <a:pt x="21208" y="9872"/>
                </a:cubicBezTo>
                <a:cubicBezTo>
                  <a:pt x="21259" y="9975"/>
                  <a:pt x="21543" y="10265"/>
                  <a:pt x="21654" y="9996"/>
                </a:cubicBezTo>
                <a:cubicBezTo>
                  <a:pt x="21723" y="9830"/>
                  <a:pt x="21490" y="9799"/>
                  <a:pt x="21406" y="9773"/>
                </a:cubicBezTo>
              </a:path>
              <a:path w="2333" h="1018">
                <a:moveTo>
                  <a:pt x="21853" y="9847"/>
                </a:moveTo>
                <a:cubicBezTo>
                  <a:pt x="21876" y="9939"/>
                  <a:pt x="21882" y="9964"/>
                  <a:pt x="21903" y="10021"/>
                </a:cubicBezTo>
              </a:path>
              <a:path w="2333" h="1018">
                <a:moveTo>
                  <a:pt x="21828" y="9599"/>
                </a:moveTo>
                <a:lnTo>
                  <a:pt x="21828" y="9599"/>
                </a:lnTo>
                <a:lnTo>
                  <a:pt x="21828" y="9599"/>
                </a:lnTo>
              </a:path>
              <a:path w="2333" h="1018">
                <a:moveTo>
                  <a:pt x="21828" y="9599"/>
                </a:moveTo>
                <a:lnTo>
                  <a:pt x="21828" y="9599"/>
                </a:lnTo>
              </a:path>
              <a:path w="2333" h="1018">
                <a:moveTo>
                  <a:pt x="22151" y="9996"/>
                </a:moveTo>
                <a:cubicBezTo>
                  <a:pt x="22151" y="10114"/>
                  <a:pt x="22125" y="9944"/>
                  <a:pt x="22126" y="9922"/>
                </a:cubicBezTo>
                <a:cubicBezTo>
                  <a:pt x="22134" y="9772"/>
                  <a:pt x="22291" y="9586"/>
                  <a:pt x="22448" y="9723"/>
                </a:cubicBezTo>
                <a:cubicBezTo>
                  <a:pt x="22570" y="9829"/>
                  <a:pt x="22547" y="9888"/>
                  <a:pt x="22547" y="10021"/>
                </a:cubicBezTo>
              </a:path>
              <a:path w="2333" h="1018">
                <a:moveTo>
                  <a:pt x="22796" y="9351"/>
                </a:moveTo>
                <a:cubicBezTo>
                  <a:pt x="22833" y="9574"/>
                  <a:pt x="22914" y="9792"/>
                  <a:pt x="22944" y="10021"/>
                </a:cubicBezTo>
                <a:cubicBezTo>
                  <a:pt x="22944" y="10063"/>
                  <a:pt x="22944" y="10088"/>
                  <a:pt x="22944" y="10046"/>
                </a:cubicBezTo>
              </a:path>
              <a:path w="2333" h="1018">
                <a:moveTo>
                  <a:pt x="22597" y="9674"/>
                </a:moveTo>
                <a:cubicBezTo>
                  <a:pt x="22784" y="9668"/>
                  <a:pt x="22959" y="9651"/>
                  <a:pt x="23143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22920" y="4125960"/>
            <a:ext cx="865080" cy="98280"/>
          </a:xfrm>
          <a:custGeom>
            <a:avLst/>
            <a:gdLst/>
            <a:ahLst/>
            <a:rect l="l" t="t" r="r" b="b"/>
            <a:pathLst>
              <a:path w="2407" h="274">
                <a:moveTo>
                  <a:pt x="13444" y="11460"/>
                </a:moveTo>
                <a:cubicBezTo>
                  <a:pt x="13406" y="11604"/>
                  <a:pt x="13369" y="11608"/>
                  <a:pt x="13469" y="11708"/>
                </a:cubicBezTo>
                <a:cubicBezTo>
                  <a:pt x="13535" y="11675"/>
                  <a:pt x="13667" y="11461"/>
                  <a:pt x="13469" y="11460"/>
                </a:cubicBezTo>
                <a:cubicBezTo>
                  <a:pt x="13359" y="11460"/>
                  <a:pt x="13451" y="11647"/>
                  <a:pt x="13568" y="11633"/>
                </a:cubicBezTo>
                <a:cubicBezTo>
                  <a:pt x="13548" y="11552"/>
                  <a:pt x="13549" y="11554"/>
                  <a:pt x="13469" y="11534"/>
                </a:cubicBezTo>
              </a:path>
              <a:path w="2407" h="274">
                <a:moveTo>
                  <a:pt x="13593" y="11633"/>
                </a:moveTo>
                <a:cubicBezTo>
                  <a:pt x="14173" y="11633"/>
                  <a:pt x="14751" y="11630"/>
                  <a:pt x="15329" y="11609"/>
                </a:cubicBezTo>
                <a:cubicBezTo>
                  <a:pt x="15419" y="11606"/>
                  <a:pt x="15511" y="11609"/>
                  <a:pt x="15602" y="11609"/>
                </a:cubicBezTo>
                <a:cubicBezTo>
                  <a:pt x="15598" y="11584"/>
                  <a:pt x="15580" y="11435"/>
                  <a:pt x="15528" y="11584"/>
                </a:cubicBezTo>
                <a:cubicBezTo>
                  <a:pt x="15473" y="11743"/>
                  <a:pt x="15677" y="11723"/>
                  <a:pt x="15751" y="11658"/>
                </a:cubicBezTo>
                <a:cubicBezTo>
                  <a:pt x="15759" y="11642"/>
                  <a:pt x="15768" y="11625"/>
                  <a:pt x="15776" y="11609"/>
                </a:cubicBezTo>
                <a:cubicBezTo>
                  <a:pt x="15674" y="11529"/>
                  <a:pt x="15694" y="11535"/>
                  <a:pt x="15577" y="11584"/>
                </a:cubicBezTo>
                <a:cubicBezTo>
                  <a:pt x="15649" y="11833"/>
                  <a:pt x="15886" y="11678"/>
                  <a:pt x="15751" y="11559"/>
                </a:cubicBezTo>
                <a:cubicBezTo>
                  <a:pt x="15664" y="11515"/>
                  <a:pt x="15640" y="11489"/>
                  <a:pt x="15602" y="11559"/>
                </a:cubicBezTo>
                <a:cubicBezTo>
                  <a:pt x="15625" y="11672"/>
                  <a:pt x="15626" y="11620"/>
                  <a:pt x="15652" y="11633"/>
                </a:cubicBezTo>
              </a:path>
              <a:path w="2407" h="274">
                <a:moveTo>
                  <a:pt x="13543" y="11633"/>
                </a:moveTo>
                <a:cubicBezTo>
                  <a:pt x="13515" y="11548"/>
                  <a:pt x="13437" y="11663"/>
                  <a:pt x="13419" y="11708"/>
                </a:cubicBezTo>
                <a:cubicBezTo>
                  <a:pt x="13419" y="11716"/>
                  <a:pt x="13419" y="11725"/>
                  <a:pt x="13419" y="11733"/>
                </a:cubicBezTo>
                <a:cubicBezTo>
                  <a:pt x="13447" y="11731"/>
                  <a:pt x="13719" y="11682"/>
                  <a:pt x="13593" y="11584"/>
                </a:cubicBezTo>
                <a:cubicBezTo>
                  <a:pt x="13548" y="11584"/>
                  <a:pt x="13535" y="11580"/>
                  <a:pt x="13519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62800" y="3902040"/>
            <a:ext cx="90360" cy="465120"/>
          </a:xfrm>
          <a:custGeom>
            <a:avLst/>
            <a:gdLst/>
            <a:ahLst/>
            <a:rect l="l" t="t" r="r" b="b"/>
            <a:pathLst>
              <a:path w="249" h="1290">
                <a:moveTo>
                  <a:pt x="18331" y="10988"/>
                </a:moveTo>
                <a:cubicBezTo>
                  <a:pt x="18331" y="10929"/>
                  <a:pt x="18338" y="10932"/>
                  <a:pt x="18306" y="10889"/>
                </a:cubicBezTo>
                <a:cubicBezTo>
                  <a:pt x="18257" y="10944"/>
                  <a:pt x="18209" y="11094"/>
                  <a:pt x="18355" y="11013"/>
                </a:cubicBezTo>
                <a:cubicBezTo>
                  <a:pt x="18408" y="10984"/>
                  <a:pt x="18401" y="10858"/>
                  <a:pt x="18306" y="10914"/>
                </a:cubicBezTo>
                <a:cubicBezTo>
                  <a:pt x="18298" y="10922"/>
                  <a:pt x="18289" y="10931"/>
                  <a:pt x="18281" y="10939"/>
                </a:cubicBezTo>
                <a:cubicBezTo>
                  <a:pt x="18337" y="10967"/>
                  <a:pt x="18449" y="10933"/>
                  <a:pt x="18405" y="10889"/>
                </a:cubicBezTo>
                <a:cubicBezTo>
                  <a:pt x="18332" y="10816"/>
                  <a:pt x="18345" y="10959"/>
                  <a:pt x="18455" y="10864"/>
                </a:cubicBezTo>
                <a:cubicBezTo>
                  <a:pt x="18502" y="10823"/>
                  <a:pt x="18371" y="10853"/>
                  <a:pt x="18380" y="10914"/>
                </a:cubicBezTo>
              </a:path>
              <a:path w="249" h="1290">
                <a:moveTo>
                  <a:pt x="18331" y="11063"/>
                </a:moveTo>
                <a:cubicBezTo>
                  <a:pt x="18331" y="11055"/>
                  <a:pt x="18331" y="11046"/>
                  <a:pt x="18331" y="11038"/>
                </a:cubicBezTo>
                <a:cubicBezTo>
                  <a:pt x="18276" y="11020"/>
                  <a:pt x="18352" y="11333"/>
                  <a:pt x="18355" y="11385"/>
                </a:cubicBezTo>
                <a:cubicBezTo>
                  <a:pt x="18365" y="11578"/>
                  <a:pt x="18345" y="11771"/>
                  <a:pt x="18380" y="11956"/>
                </a:cubicBezTo>
                <a:cubicBezTo>
                  <a:pt x="18385" y="11982"/>
                  <a:pt x="18285" y="12033"/>
                  <a:pt x="18256" y="12055"/>
                </a:cubicBezTo>
                <a:cubicBezTo>
                  <a:pt x="18273" y="12175"/>
                  <a:pt x="18380" y="12127"/>
                  <a:pt x="18455" y="12055"/>
                </a:cubicBezTo>
                <a:cubicBezTo>
                  <a:pt x="18476" y="12011"/>
                  <a:pt x="18489" y="12000"/>
                  <a:pt x="18455" y="11981"/>
                </a:cubicBezTo>
                <a:cubicBezTo>
                  <a:pt x="18404" y="11972"/>
                  <a:pt x="18230" y="12056"/>
                  <a:pt x="18306" y="12080"/>
                </a:cubicBezTo>
                <a:cubicBezTo>
                  <a:pt x="18369" y="12100"/>
                  <a:pt x="18471" y="11981"/>
                  <a:pt x="18405" y="11981"/>
                </a:cubicBezTo>
                <a:cubicBezTo>
                  <a:pt x="18340" y="12002"/>
                  <a:pt x="18315" y="12001"/>
                  <a:pt x="18331" y="12055"/>
                </a:cubicBezTo>
                <a:cubicBezTo>
                  <a:pt x="18331" y="12088"/>
                  <a:pt x="18339" y="12096"/>
                  <a:pt x="18380" y="12080"/>
                </a:cubicBezTo>
                <a:cubicBezTo>
                  <a:pt x="18413" y="12014"/>
                  <a:pt x="18291" y="11942"/>
                  <a:pt x="18331" y="12005"/>
                </a:cubicBezTo>
                <a:cubicBezTo>
                  <a:pt x="18339" y="12005"/>
                  <a:pt x="18347" y="12005"/>
                  <a:pt x="18355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96120" y="3894120"/>
            <a:ext cx="544680" cy="357120"/>
          </a:xfrm>
          <a:custGeom>
            <a:avLst/>
            <a:gdLst/>
            <a:ahLst/>
            <a:rect l="l" t="t" r="r" b="b"/>
            <a:pathLst>
              <a:path w="1515" h="993">
                <a:moveTo>
                  <a:pt x="20439" y="11609"/>
                </a:moveTo>
                <a:cubicBezTo>
                  <a:pt x="20351" y="11657"/>
                  <a:pt x="20223" y="11755"/>
                  <a:pt x="20389" y="11807"/>
                </a:cubicBezTo>
                <a:cubicBezTo>
                  <a:pt x="20406" y="11807"/>
                  <a:pt x="20422" y="11807"/>
                  <a:pt x="20439" y="11807"/>
                </a:cubicBezTo>
                <a:cubicBezTo>
                  <a:pt x="20446" y="11726"/>
                  <a:pt x="20368" y="11560"/>
                  <a:pt x="20265" y="11708"/>
                </a:cubicBezTo>
                <a:cubicBezTo>
                  <a:pt x="20295" y="11738"/>
                  <a:pt x="20309" y="11749"/>
                  <a:pt x="20340" y="11757"/>
                </a:cubicBezTo>
                <a:cubicBezTo>
                  <a:pt x="20367" y="11721"/>
                  <a:pt x="20384" y="11698"/>
                  <a:pt x="20340" y="11683"/>
                </a:cubicBezTo>
              </a:path>
              <a:path w="1515" h="993">
                <a:moveTo>
                  <a:pt x="20439" y="11733"/>
                </a:moveTo>
                <a:cubicBezTo>
                  <a:pt x="20579" y="11652"/>
                  <a:pt x="20749" y="11528"/>
                  <a:pt x="20886" y="11435"/>
                </a:cubicBezTo>
                <a:cubicBezTo>
                  <a:pt x="21135" y="11266"/>
                  <a:pt x="21410" y="11136"/>
                  <a:pt x="21654" y="10964"/>
                </a:cubicBezTo>
                <a:cubicBezTo>
                  <a:pt x="21666" y="10956"/>
                  <a:pt x="21721" y="10941"/>
                  <a:pt x="21729" y="10914"/>
                </a:cubicBezTo>
                <a:cubicBezTo>
                  <a:pt x="21729" y="10889"/>
                  <a:pt x="21729" y="10881"/>
                  <a:pt x="21729" y="10864"/>
                </a:cubicBezTo>
                <a:cubicBezTo>
                  <a:pt x="21620" y="10932"/>
                  <a:pt x="21602" y="10903"/>
                  <a:pt x="21630" y="11013"/>
                </a:cubicBezTo>
                <a:cubicBezTo>
                  <a:pt x="21696" y="11007"/>
                  <a:pt x="21852" y="10958"/>
                  <a:pt x="21729" y="10864"/>
                </a:cubicBezTo>
                <a:cubicBezTo>
                  <a:pt x="21604" y="10768"/>
                  <a:pt x="21497" y="10950"/>
                  <a:pt x="21630" y="11013"/>
                </a:cubicBezTo>
                <a:cubicBezTo>
                  <a:pt x="21655" y="11013"/>
                  <a:pt x="21679" y="11013"/>
                  <a:pt x="21704" y="11013"/>
                </a:cubicBezTo>
                <a:cubicBezTo>
                  <a:pt x="21711" y="10979"/>
                  <a:pt x="21714" y="10737"/>
                  <a:pt x="21605" y="10815"/>
                </a:cubicBezTo>
                <a:cubicBezTo>
                  <a:pt x="21588" y="10840"/>
                  <a:pt x="21572" y="10864"/>
                  <a:pt x="21555" y="10889"/>
                </a:cubicBezTo>
                <a:cubicBezTo>
                  <a:pt x="21639" y="10974"/>
                  <a:pt x="21695" y="10988"/>
                  <a:pt x="21779" y="10889"/>
                </a:cubicBezTo>
                <a:cubicBezTo>
                  <a:pt x="21731" y="10841"/>
                  <a:pt x="21692" y="10845"/>
                  <a:pt x="21630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8960" y="5160960"/>
            <a:ext cx="6350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4887" y="14362"/>
                </a:moveTo>
                <a:cubicBezTo>
                  <a:pt x="4887" y="14235"/>
                  <a:pt x="4936" y="14559"/>
                  <a:pt x="4961" y="14684"/>
                </a:cubicBezTo>
                <a:cubicBezTo>
                  <a:pt x="4998" y="14869"/>
                  <a:pt x="5035" y="15042"/>
                  <a:pt x="5035" y="15230"/>
                </a:cubicBezTo>
              </a:path>
              <a:path w="1762" h="894">
                <a:moveTo>
                  <a:pt x="5259" y="14883"/>
                </a:moveTo>
                <a:cubicBezTo>
                  <a:pt x="5310" y="14975"/>
                  <a:pt x="5342" y="15010"/>
                  <a:pt x="5358" y="15106"/>
                </a:cubicBezTo>
              </a:path>
              <a:path w="1762" h="894">
                <a:moveTo>
                  <a:pt x="5234" y="14709"/>
                </a:moveTo>
                <a:cubicBezTo>
                  <a:pt x="5242" y="14701"/>
                  <a:pt x="5251" y="14692"/>
                  <a:pt x="5259" y="14684"/>
                </a:cubicBezTo>
              </a:path>
              <a:path w="1762" h="894">
                <a:moveTo>
                  <a:pt x="5259" y="14684"/>
                </a:moveTo>
                <a:lnTo>
                  <a:pt x="5259" y="14684"/>
                </a:lnTo>
              </a:path>
              <a:path w="1762" h="894">
                <a:moveTo>
                  <a:pt x="5606" y="15032"/>
                </a:moveTo>
                <a:cubicBezTo>
                  <a:pt x="5606" y="15048"/>
                  <a:pt x="5606" y="15065"/>
                  <a:pt x="5606" y="15081"/>
                </a:cubicBezTo>
                <a:cubicBezTo>
                  <a:pt x="5568" y="14945"/>
                  <a:pt x="5577" y="14787"/>
                  <a:pt x="5779" y="14808"/>
                </a:cubicBezTo>
                <a:cubicBezTo>
                  <a:pt x="5927" y="14824"/>
                  <a:pt x="5955" y="15040"/>
                  <a:pt x="5928" y="15106"/>
                </a:cubicBezTo>
              </a:path>
              <a:path w="1762" h="894">
                <a:moveTo>
                  <a:pt x="6201" y="14982"/>
                </a:moveTo>
                <a:cubicBezTo>
                  <a:pt x="6266" y="14982"/>
                  <a:pt x="6307" y="14981"/>
                  <a:pt x="6375" y="14957"/>
                </a:cubicBezTo>
                <a:cubicBezTo>
                  <a:pt x="6428" y="14938"/>
                  <a:pt x="6461" y="14934"/>
                  <a:pt x="6474" y="14883"/>
                </a:cubicBezTo>
                <a:cubicBezTo>
                  <a:pt x="6405" y="14855"/>
                  <a:pt x="6319" y="14751"/>
                  <a:pt x="6226" y="14833"/>
                </a:cubicBezTo>
                <a:cubicBezTo>
                  <a:pt x="6118" y="14928"/>
                  <a:pt x="6152" y="15212"/>
                  <a:pt x="6325" y="15205"/>
                </a:cubicBezTo>
                <a:cubicBezTo>
                  <a:pt x="6488" y="15151"/>
                  <a:pt x="6550" y="15128"/>
                  <a:pt x="6648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52840" y="5303880"/>
            <a:ext cx="669960" cy="331920"/>
          </a:xfrm>
          <a:custGeom>
            <a:avLst/>
            <a:gdLst/>
            <a:ahLst/>
            <a:rect l="l" t="t" r="r" b="b"/>
            <a:pathLst>
              <a:path w="1861" h="919">
                <a:moveTo>
                  <a:pt x="7764" y="14784"/>
                </a:moveTo>
                <a:cubicBezTo>
                  <a:pt x="7596" y="14744"/>
                  <a:pt x="7306" y="14846"/>
                  <a:pt x="7417" y="15106"/>
                </a:cubicBezTo>
                <a:cubicBezTo>
                  <a:pt x="7528" y="15367"/>
                  <a:pt x="7751" y="14897"/>
                  <a:pt x="7764" y="14833"/>
                </a:cubicBezTo>
                <a:cubicBezTo>
                  <a:pt x="7840" y="15011"/>
                  <a:pt x="8003" y="15182"/>
                  <a:pt x="7962" y="15404"/>
                </a:cubicBezTo>
                <a:cubicBezTo>
                  <a:pt x="7923" y="15615"/>
                  <a:pt x="7367" y="15819"/>
                  <a:pt x="7367" y="15528"/>
                </a:cubicBezTo>
                <a:cubicBezTo>
                  <a:pt x="7400" y="15453"/>
                  <a:pt x="7433" y="15379"/>
                  <a:pt x="7466" y="15304"/>
                </a:cubicBezTo>
              </a:path>
              <a:path w="1861" h="919">
                <a:moveTo>
                  <a:pt x="8062" y="14833"/>
                </a:moveTo>
                <a:cubicBezTo>
                  <a:pt x="7972" y="14967"/>
                  <a:pt x="7935" y="15000"/>
                  <a:pt x="7987" y="15106"/>
                </a:cubicBezTo>
                <a:cubicBezTo>
                  <a:pt x="8105" y="15133"/>
                  <a:pt x="8570" y="15145"/>
                  <a:pt x="8334" y="14883"/>
                </a:cubicBezTo>
                <a:cubicBezTo>
                  <a:pt x="8250" y="14789"/>
                  <a:pt x="8090" y="14852"/>
                  <a:pt x="8037" y="14883"/>
                </a:cubicBezTo>
              </a:path>
              <a:path w="1861" h="919">
                <a:moveTo>
                  <a:pt x="8508" y="14932"/>
                </a:moveTo>
                <a:lnTo>
                  <a:pt x="8582" y="14932"/>
                </a:lnTo>
                <a:lnTo>
                  <a:pt x="8706" y="14908"/>
                </a:lnTo>
                <a:lnTo>
                  <a:pt x="8781" y="14908"/>
                </a:lnTo>
                <a:lnTo>
                  <a:pt x="8756" y="14908"/>
                </a:lnTo>
                <a:lnTo>
                  <a:pt x="8682" y="14858"/>
                </a:lnTo>
                <a:lnTo>
                  <a:pt x="8558" y="14833"/>
                </a:lnTo>
                <a:lnTo>
                  <a:pt x="8458" y="14858"/>
                </a:lnTo>
                <a:lnTo>
                  <a:pt x="8384" y="15007"/>
                </a:lnTo>
                <a:lnTo>
                  <a:pt x="8458" y="15156"/>
                </a:lnTo>
                <a:lnTo>
                  <a:pt x="8607" y="15180"/>
                </a:lnTo>
                <a:lnTo>
                  <a:pt x="8830" y="15106"/>
                </a:lnTo>
                <a:lnTo>
                  <a:pt x="9029" y="14957"/>
                </a:lnTo>
                <a:lnTo>
                  <a:pt x="9153" y="14808"/>
                </a:lnTo>
                <a:lnTo>
                  <a:pt x="9128" y="14759"/>
                </a:lnTo>
                <a:lnTo>
                  <a:pt x="9029" y="14734"/>
                </a:lnTo>
                <a:lnTo>
                  <a:pt x="8905" y="14784"/>
                </a:lnTo>
                <a:lnTo>
                  <a:pt x="8855" y="14833"/>
                </a:lnTo>
                <a:lnTo>
                  <a:pt x="8954" y="14883"/>
                </a:lnTo>
                <a:lnTo>
                  <a:pt x="9128" y="14932"/>
                </a:lnTo>
                <a:lnTo>
                  <a:pt x="9227" y="15007"/>
                </a:lnTo>
                <a:lnTo>
                  <a:pt x="9203" y="15081"/>
                </a:lnTo>
                <a:lnTo>
                  <a:pt x="9054" y="15156"/>
                </a:lnTo>
                <a:lnTo>
                  <a:pt x="8855" y="15131"/>
                </a:lnTo>
                <a:lnTo>
                  <a:pt x="8830" y="1500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5249880"/>
            <a:ext cx="357120" cy="135000"/>
          </a:xfrm>
          <a:custGeom>
            <a:avLst/>
            <a:gdLst/>
            <a:ahLst/>
            <a:rect l="l" t="t" r="r" b="b"/>
            <a:pathLst>
              <a:path w="993" h="373">
                <a:moveTo>
                  <a:pt x="10294" y="14610"/>
                </a:moveTo>
                <a:cubicBezTo>
                  <a:pt x="10095" y="14671"/>
                  <a:pt x="10086" y="14759"/>
                  <a:pt x="10096" y="14957"/>
                </a:cubicBezTo>
                <a:cubicBezTo>
                  <a:pt x="10198" y="14945"/>
                  <a:pt x="10656" y="14866"/>
                  <a:pt x="10368" y="14684"/>
                </a:cubicBezTo>
                <a:cubicBezTo>
                  <a:pt x="10277" y="14666"/>
                  <a:pt x="10202" y="14658"/>
                  <a:pt x="10269" y="14660"/>
                </a:cubicBezTo>
              </a:path>
              <a:path w="993" h="373">
                <a:moveTo>
                  <a:pt x="10691" y="14858"/>
                </a:moveTo>
                <a:cubicBezTo>
                  <a:pt x="10691" y="14859"/>
                  <a:pt x="10655" y="14643"/>
                  <a:pt x="10790" y="14585"/>
                </a:cubicBezTo>
                <a:cubicBezTo>
                  <a:pt x="11014" y="14489"/>
                  <a:pt x="11053" y="14741"/>
                  <a:pt x="11063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5054760"/>
            <a:ext cx="1063440" cy="295200"/>
          </a:xfrm>
          <a:custGeom>
            <a:avLst/>
            <a:gdLst/>
            <a:ahLst/>
            <a:rect l="l" t="t" r="r" b="b"/>
            <a:pathLst>
              <a:path w="2953" h="820">
                <a:moveTo>
                  <a:pt x="12105" y="14089"/>
                </a:moveTo>
                <a:cubicBezTo>
                  <a:pt x="11919" y="14009"/>
                  <a:pt x="11732" y="14005"/>
                  <a:pt x="11757" y="14288"/>
                </a:cubicBezTo>
                <a:cubicBezTo>
                  <a:pt x="11775" y="14498"/>
                  <a:pt x="12110" y="14853"/>
                  <a:pt x="11981" y="14808"/>
                </a:cubicBezTo>
              </a:path>
              <a:path w="2953" h="820">
                <a:moveTo>
                  <a:pt x="11708" y="14610"/>
                </a:moveTo>
                <a:cubicBezTo>
                  <a:pt x="11923" y="14570"/>
                  <a:pt x="12136" y="14541"/>
                  <a:pt x="12353" y="14511"/>
                </a:cubicBezTo>
                <a:cubicBezTo>
                  <a:pt x="12276" y="14665"/>
                  <a:pt x="12175" y="14889"/>
                  <a:pt x="12477" y="14784"/>
                </a:cubicBezTo>
                <a:cubicBezTo>
                  <a:pt x="12518" y="14759"/>
                  <a:pt x="12560" y="14734"/>
                  <a:pt x="12601" y="14709"/>
                </a:cubicBezTo>
                <a:cubicBezTo>
                  <a:pt x="12548" y="14569"/>
                  <a:pt x="12500" y="14407"/>
                  <a:pt x="12328" y="14511"/>
                </a:cubicBezTo>
              </a:path>
              <a:path w="2953" h="820">
                <a:moveTo>
                  <a:pt x="12750" y="14734"/>
                </a:moveTo>
                <a:cubicBezTo>
                  <a:pt x="12778" y="14719"/>
                  <a:pt x="12718" y="14637"/>
                  <a:pt x="12750" y="14560"/>
                </a:cubicBezTo>
                <a:cubicBezTo>
                  <a:pt x="12825" y="14460"/>
                  <a:pt x="12850" y="14427"/>
                  <a:pt x="12948" y="14436"/>
                </a:cubicBezTo>
              </a:path>
              <a:path w="2953" h="820">
                <a:moveTo>
                  <a:pt x="13122" y="14560"/>
                </a:moveTo>
                <a:cubicBezTo>
                  <a:pt x="13213" y="14546"/>
                  <a:pt x="13338" y="14545"/>
                  <a:pt x="13295" y="14436"/>
                </a:cubicBezTo>
                <a:cubicBezTo>
                  <a:pt x="13153" y="14461"/>
                  <a:pt x="12884" y="14555"/>
                  <a:pt x="13047" y="14759"/>
                </a:cubicBezTo>
                <a:cubicBezTo>
                  <a:pt x="13184" y="14841"/>
                  <a:pt x="13239" y="14859"/>
                  <a:pt x="13345" y="14759"/>
                </a:cubicBezTo>
              </a:path>
              <a:path w="2953" h="820">
                <a:moveTo>
                  <a:pt x="13543" y="14511"/>
                </a:moveTo>
                <a:cubicBezTo>
                  <a:pt x="13613" y="14665"/>
                  <a:pt x="13633" y="14706"/>
                  <a:pt x="13767" y="14808"/>
                </a:cubicBezTo>
                <a:cubicBezTo>
                  <a:pt x="13755" y="14674"/>
                  <a:pt x="13723" y="14547"/>
                  <a:pt x="13717" y="14412"/>
                </a:cubicBezTo>
                <a:cubicBezTo>
                  <a:pt x="13717" y="14387"/>
                  <a:pt x="13717" y="14379"/>
                  <a:pt x="13742" y="14387"/>
                </a:cubicBezTo>
              </a:path>
              <a:path w="2953" h="820">
                <a:moveTo>
                  <a:pt x="14039" y="14560"/>
                </a:moveTo>
                <a:cubicBezTo>
                  <a:pt x="14114" y="14511"/>
                  <a:pt x="14139" y="14495"/>
                  <a:pt x="14163" y="14436"/>
                </a:cubicBezTo>
                <a:cubicBezTo>
                  <a:pt x="14049" y="14446"/>
                  <a:pt x="13835" y="14609"/>
                  <a:pt x="14015" y="14759"/>
                </a:cubicBezTo>
                <a:cubicBezTo>
                  <a:pt x="14159" y="14788"/>
                  <a:pt x="14220" y="14788"/>
                  <a:pt x="14312" y="14709"/>
                </a:cubicBezTo>
              </a:path>
              <a:path w="2953" h="820">
                <a:moveTo>
                  <a:pt x="14387" y="14610"/>
                </a:moveTo>
                <a:cubicBezTo>
                  <a:pt x="14387" y="14693"/>
                  <a:pt x="14387" y="14726"/>
                  <a:pt x="14387" y="14784"/>
                </a:cubicBezTo>
                <a:cubicBezTo>
                  <a:pt x="14484" y="14735"/>
                  <a:pt x="14394" y="14597"/>
                  <a:pt x="14461" y="14511"/>
                </a:cubicBezTo>
                <a:cubicBezTo>
                  <a:pt x="14531" y="14421"/>
                  <a:pt x="14569" y="14436"/>
                  <a:pt x="1466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3160" y="5160960"/>
            <a:ext cx="3031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15280" y="14511"/>
                </a:moveTo>
                <a:cubicBezTo>
                  <a:pt x="15331" y="14587"/>
                  <a:pt x="15472" y="14783"/>
                  <a:pt x="15354" y="14759"/>
                </a:cubicBezTo>
              </a:path>
              <a:path w="844" h="448">
                <a:moveTo>
                  <a:pt x="15230" y="14337"/>
                </a:moveTo>
                <a:cubicBezTo>
                  <a:pt x="15238" y="14337"/>
                  <a:pt x="15247" y="14337"/>
                  <a:pt x="15255" y="14337"/>
                </a:cubicBezTo>
              </a:path>
              <a:path w="844" h="448">
                <a:moveTo>
                  <a:pt x="15255" y="14337"/>
                </a:moveTo>
                <a:lnTo>
                  <a:pt x="15255" y="14337"/>
                </a:lnTo>
              </a:path>
              <a:path w="844" h="448">
                <a:moveTo>
                  <a:pt x="15652" y="14684"/>
                </a:moveTo>
                <a:cubicBezTo>
                  <a:pt x="15652" y="14742"/>
                  <a:pt x="15628" y="14613"/>
                  <a:pt x="15652" y="14560"/>
                </a:cubicBezTo>
                <a:cubicBezTo>
                  <a:pt x="15750" y="14342"/>
                  <a:pt x="15974" y="14489"/>
                  <a:pt x="16049" y="14635"/>
                </a:cubicBezTo>
                <a:cubicBezTo>
                  <a:pt x="16057" y="14668"/>
                  <a:pt x="16065" y="14701"/>
                  <a:pt x="16073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27840" y="5054760"/>
            <a:ext cx="625320" cy="276120"/>
          </a:xfrm>
          <a:custGeom>
            <a:avLst/>
            <a:gdLst/>
            <a:ahLst/>
            <a:rect l="l" t="t" r="r" b="b"/>
            <a:pathLst>
              <a:path w="1737" h="770">
                <a:moveTo>
                  <a:pt x="16743" y="14039"/>
                </a:moveTo>
                <a:cubicBezTo>
                  <a:pt x="16774" y="14286"/>
                  <a:pt x="16827" y="14549"/>
                  <a:pt x="16917" y="14784"/>
                </a:cubicBezTo>
                <a:cubicBezTo>
                  <a:pt x="16925" y="14792"/>
                  <a:pt x="16934" y="14800"/>
                  <a:pt x="16942" y="14808"/>
                </a:cubicBezTo>
                <a:cubicBezTo>
                  <a:pt x="16898" y="14679"/>
                  <a:pt x="16855" y="14296"/>
                  <a:pt x="17140" y="14412"/>
                </a:cubicBezTo>
                <a:cubicBezTo>
                  <a:pt x="17250" y="14543"/>
                  <a:pt x="17287" y="14571"/>
                  <a:pt x="17289" y="14684"/>
                </a:cubicBezTo>
                <a:cubicBezTo>
                  <a:pt x="17096" y="14793"/>
                  <a:pt x="16960" y="14800"/>
                  <a:pt x="16917" y="14585"/>
                </a:cubicBezTo>
              </a:path>
              <a:path w="1737" h="770">
                <a:moveTo>
                  <a:pt x="17462" y="14387"/>
                </a:moveTo>
                <a:cubicBezTo>
                  <a:pt x="17335" y="14482"/>
                  <a:pt x="17337" y="14524"/>
                  <a:pt x="17314" y="14684"/>
                </a:cubicBezTo>
                <a:cubicBezTo>
                  <a:pt x="17392" y="14721"/>
                  <a:pt x="17753" y="14781"/>
                  <a:pt x="17611" y="14536"/>
                </a:cubicBezTo>
                <a:cubicBezTo>
                  <a:pt x="17547" y="14426"/>
                  <a:pt x="17402" y="14430"/>
                  <a:pt x="17338" y="14387"/>
                </a:cubicBezTo>
              </a:path>
              <a:path w="1737" h="770">
                <a:moveTo>
                  <a:pt x="17636" y="14089"/>
                </a:moveTo>
                <a:cubicBezTo>
                  <a:pt x="17723" y="14269"/>
                  <a:pt x="17846" y="14485"/>
                  <a:pt x="17884" y="14684"/>
                </a:cubicBezTo>
                <a:cubicBezTo>
                  <a:pt x="17876" y="14668"/>
                  <a:pt x="17867" y="14651"/>
                  <a:pt x="17859" y="14635"/>
                </a:cubicBezTo>
              </a:path>
              <a:path w="1737" h="770">
                <a:moveTo>
                  <a:pt x="17462" y="14362"/>
                </a:moveTo>
                <a:cubicBezTo>
                  <a:pt x="17638" y="14416"/>
                  <a:pt x="17980" y="14558"/>
                  <a:pt x="18008" y="14263"/>
                </a:cubicBezTo>
                <a:cubicBezTo>
                  <a:pt x="17990" y="14172"/>
                  <a:pt x="17981" y="14097"/>
                  <a:pt x="17983" y="14163"/>
                </a:cubicBezTo>
                <a:cubicBezTo>
                  <a:pt x="17991" y="14327"/>
                  <a:pt x="18002" y="14481"/>
                  <a:pt x="18058" y="14635"/>
                </a:cubicBezTo>
                <a:cubicBezTo>
                  <a:pt x="18071" y="14509"/>
                  <a:pt x="18100" y="14307"/>
                  <a:pt x="18281" y="14337"/>
                </a:cubicBezTo>
                <a:cubicBezTo>
                  <a:pt x="18430" y="14362"/>
                  <a:pt x="18521" y="14568"/>
                  <a:pt x="18455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9000" y="4991040"/>
            <a:ext cx="1455840" cy="260280"/>
          </a:xfrm>
          <a:custGeom>
            <a:avLst/>
            <a:gdLst/>
            <a:ahLst/>
            <a:rect l="l" t="t" r="r" b="b"/>
            <a:pathLst>
              <a:path w="4044" h="720">
                <a:moveTo>
                  <a:pt x="19521" y="14288"/>
                </a:moveTo>
                <a:cubicBezTo>
                  <a:pt x="19548" y="14234"/>
                  <a:pt x="19517" y="14204"/>
                  <a:pt x="19472" y="14139"/>
                </a:cubicBezTo>
                <a:cubicBezTo>
                  <a:pt x="19358" y="14202"/>
                  <a:pt x="19086" y="14472"/>
                  <a:pt x="19372" y="14560"/>
                </a:cubicBezTo>
                <a:cubicBezTo>
                  <a:pt x="19578" y="14560"/>
                  <a:pt x="19648" y="14553"/>
                  <a:pt x="19670" y="14362"/>
                </a:cubicBezTo>
              </a:path>
              <a:path w="4044" h="720">
                <a:moveTo>
                  <a:pt x="19496" y="13965"/>
                </a:moveTo>
                <a:cubicBezTo>
                  <a:pt x="19552" y="14105"/>
                  <a:pt x="19614" y="14451"/>
                  <a:pt x="19745" y="14536"/>
                </a:cubicBezTo>
                <a:cubicBezTo>
                  <a:pt x="19753" y="14528"/>
                  <a:pt x="19761" y="14519"/>
                  <a:pt x="19769" y="14511"/>
                </a:cubicBezTo>
              </a:path>
              <a:path w="4044" h="720">
                <a:moveTo>
                  <a:pt x="19893" y="14238"/>
                </a:moveTo>
                <a:cubicBezTo>
                  <a:pt x="19938" y="14356"/>
                  <a:pt x="19976" y="14480"/>
                  <a:pt x="20042" y="14585"/>
                </a:cubicBezTo>
              </a:path>
              <a:path w="4044" h="720">
                <a:moveTo>
                  <a:pt x="20042" y="14585"/>
                </a:moveTo>
                <a:lnTo>
                  <a:pt x="20042" y="14585"/>
                </a:lnTo>
              </a:path>
              <a:path w="4044" h="720">
                <a:moveTo>
                  <a:pt x="19893" y="14064"/>
                </a:moveTo>
                <a:cubicBezTo>
                  <a:pt x="19901" y="14064"/>
                  <a:pt x="19910" y="14064"/>
                  <a:pt x="19918" y="14064"/>
                </a:cubicBezTo>
              </a:path>
              <a:path w="4044" h="720">
                <a:moveTo>
                  <a:pt x="20216" y="14387"/>
                </a:moveTo>
                <a:cubicBezTo>
                  <a:pt x="20257" y="14470"/>
                  <a:pt x="20265" y="14486"/>
                  <a:pt x="20290" y="14536"/>
                </a:cubicBezTo>
                <a:cubicBezTo>
                  <a:pt x="20290" y="14414"/>
                  <a:pt x="20290" y="14332"/>
                  <a:pt x="20340" y="14213"/>
                </a:cubicBezTo>
                <a:cubicBezTo>
                  <a:pt x="20412" y="14042"/>
                  <a:pt x="20532" y="14084"/>
                  <a:pt x="20638" y="14163"/>
                </a:cubicBezTo>
              </a:path>
              <a:path w="4044" h="720">
                <a:moveTo>
                  <a:pt x="20811" y="14238"/>
                </a:moveTo>
                <a:cubicBezTo>
                  <a:pt x="20899" y="14194"/>
                  <a:pt x="20932" y="14189"/>
                  <a:pt x="20910" y="14114"/>
                </a:cubicBezTo>
                <a:cubicBezTo>
                  <a:pt x="20764" y="14133"/>
                  <a:pt x="20565" y="14184"/>
                  <a:pt x="20638" y="14387"/>
                </a:cubicBezTo>
                <a:cubicBezTo>
                  <a:pt x="20739" y="14488"/>
                  <a:pt x="20775" y="14521"/>
                  <a:pt x="20886" y="14486"/>
                </a:cubicBezTo>
              </a:path>
              <a:path w="4044" h="720">
                <a:moveTo>
                  <a:pt x="21258" y="14114"/>
                </a:moveTo>
                <a:cubicBezTo>
                  <a:pt x="21258" y="14219"/>
                  <a:pt x="21261" y="14086"/>
                  <a:pt x="21183" y="14089"/>
                </a:cubicBezTo>
                <a:cubicBezTo>
                  <a:pt x="20987" y="14096"/>
                  <a:pt x="20927" y="14447"/>
                  <a:pt x="21134" y="14486"/>
                </a:cubicBezTo>
                <a:cubicBezTo>
                  <a:pt x="21342" y="14460"/>
                  <a:pt x="21415" y="14445"/>
                  <a:pt x="21506" y="14312"/>
                </a:cubicBezTo>
              </a:path>
              <a:path w="4044" h="720">
                <a:moveTo>
                  <a:pt x="21506" y="13866"/>
                </a:moveTo>
                <a:cubicBezTo>
                  <a:pt x="21547" y="14066"/>
                  <a:pt x="21571" y="14263"/>
                  <a:pt x="21630" y="14461"/>
                </a:cubicBezTo>
              </a:path>
              <a:path w="4044" h="720">
                <a:moveTo>
                  <a:pt x="21332" y="14114"/>
                </a:moveTo>
                <a:cubicBezTo>
                  <a:pt x="21562" y="14114"/>
                  <a:pt x="21800" y="14025"/>
                  <a:pt x="21828" y="14288"/>
                </a:cubicBezTo>
                <a:cubicBezTo>
                  <a:pt x="21833" y="14332"/>
                  <a:pt x="21814" y="14448"/>
                  <a:pt x="21853" y="14412"/>
                </a:cubicBezTo>
              </a:path>
              <a:path w="4044" h="720">
                <a:moveTo>
                  <a:pt x="21779" y="13915"/>
                </a:moveTo>
                <a:cubicBezTo>
                  <a:pt x="21779" y="13923"/>
                  <a:pt x="21779" y="13932"/>
                  <a:pt x="21779" y="13940"/>
                </a:cubicBezTo>
              </a:path>
              <a:path w="4044" h="720">
                <a:moveTo>
                  <a:pt x="21779" y="13940"/>
                </a:moveTo>
                <a:lnTo>
                  <a:pt x="21779" y="13940"/>
                </a:lnTo>
              </a:path>
              <a:path w="4044" h="720">
                <a:moveTo>
                  <a:pt x="22225" y="14114"/>
                </a:moveTo>
                <a:cubicBezTo>
                  <a:pt x="22100" y="14134"/>
                  <a:pt x="21780" y="14263"/>
                  <a:pt x="22051" y="14412"/>
                </a:cubicBezTo>
                <a:cubicBezTo>
                  <a:pt x="22222" y="14506"/>
                  <a:pt x="22478" y="14309"/>
                  <a:pt x="22324" y="14139"/>
                </a:cubicBezTo>
                <a:cubicBezTo>
                  <a:pt x="22231" y="14083"/>
                  <a:pt x="22216" y="14032"/>
                  <a:pt x="22175" y="14089"/>
                </a:cubicBezTo>
              </a:path>
              <a:path w="4044" h="720">
                <a:moveTo>
                  <a:pt x="22498" y="14213"/>
                </a:moveTo>
                <a:cubicBezTo>
                  <a:pt x="22523" y="14263"/>
                  <a:pt x="22531" y="14279"/>
                  <a:pt x="22547" y="14312"/>
                </a:cubicBezTo>
                <a:cubicBezTo>
                  <a:pt x="22523" y="14224"/>
                  <a:pt x="22565" y="14091"/>
                  <a:pt x="22671" y="14039"/>
                </a:cubicBezTo>
                <a:cubicBezTo>
                  <a:pt x="22832" y="13961"/>
                  <a:pt x="22869" y="14317"/>
                  <a:pt x="22895" y="14412"/>
                </a:cubicBezTo>
              </a:path>
              <a:path w="4044" h="720">
                <a:moveTo>
                  <a:pt x="23217" y="13940"/>
                </a:moveTo>
                <a:cubicBezTo>
                  <a:pt x="23094" y="13954"/>
                  <a:pt x="23023" y="13970"/>
                  <a:pt x="22920" y="14039"/>
                </a:cubicBezTo>
                <a:cubicBezTo>
                  <a:pt x="23045" y="14119"/>
                  <a:pt x="23188" y="14159"/>
                  <a:pt x="23316" y="14238"/>
                </a:cubicBezTo>
                <a:cubicBezTo>
                  <a:pt x="23226" y="14525"/>
                  <a:pt x="23051" y="14438"/>
                  <a:pt x="22796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87720" y="5643720"/>
            <a:ext cx="2492280" cy="687240"/>
          </a:xfrm>
          <a:custGeom>
            <a:avLst/>
            <a:gdLst/>
            <a:ahLst/>
            <a:rect l="l" t="t" r="r" b="b"/>
            <a:pathLst>
              <a:path w="6922" h="1911">
                <a:moveTo>
                  <a:pt x="6276" y="16743"/>
                </a:moveTo>
                <a:cubicBezTo>
                  <a:pt x="6614" y="16763"/>
                  <a:pt x="6954" y="16787"/>
                  <a:pt x="7293" y="16793"/>
                </a:cubicBezTo>
                <a:cubicBezTo>
                  <a:pt x="7961" y="16806"/>
                  <a:pt x="8635" y="16794"/>
                  <a:pt x="9302" y="16768"/>
                </a:cubicBezTo>
                <a:cubicBezTo>
                  <a:pt x="9700" y="16753"/>
                  <a:pt x="10093" y="16718"/>
                  <a:pt x="10492" y="16718"/>
                </a:cubicBezTo>
                <a:cubicBezTo>
                  <a:pt x="10517" y="16718"/>
                  <a:pt x="10525" y="16718"/>
                  <a:pt x="10542" y="16718"/>
                </a:cubicBezTo>
              </a:path>
              <a:path w="6922" h="1911">
                <a:moveTo>
                  <a:pt x="10244" y="16470"/>
                </a:moveTo>
                <a:cubicBezTo>
                  <a:pt x="10411" y="16496"/>
                  <a:pt x="10486" y="16609"/>
                  <a:pt x="10641" y="16669"/>
                </a:cubicBezTo>
                <a:cubicBezTo>
                  <a:pt x="10748" y="16691"/>
                  <a:pt x="10772" y="16699"/>
                  <a:pt x="10840" y="16694"/>
                </a:cubicBezTo>
                <a:cubicBezTo>
                  <a:pt x="10686" y="16728"/>
                  <a:pt x="10593" y="16849"/>
                  <a:pt x="10468" y="16942"/>
                </a:cubicBezTo>
                <a:cubicBezTo>
                  <a:pt x="10451" y="16950"/>
                  <a:pt x="10435" y="16958"/>
                  <a:pt x="10418" y="16966"/>
                </a:cubicBezTo>
              </a:path>
              <a:path w="6922" h="1911">
                <a:moveTo>
                  <a:pt x="6573" y="16570"/>
                </a:moveTo>
                <a:cubicBezTo>
                  <a:pt x="6449" y="16692"/>
                  <a:pt x="6323" y="16752"/>
                  <a:pt x="6176" y="16842"/>
                </a:cubicBezTo>
                <a:cubicBezTo>
                  <a:pt x="6120" y="16880"/>
                  <a:pt x="6117" y="16897"/>
                  <a:pt x="6077" y="16892"/>
                </a:cubicBezTo>
                <a:cubicBezTo>
                  <a:pt x="6226" y="16892"/>
                  <a:pt x="6312" y="16962"/>
                  <a:pt x="6449" y="17016"/>
                </a:cubicBezTo>
                <a:cubicBezTo>
                  <a:pt x="6564" y="17055"/>
                  <a:pt x="6578" y="17071"/>
                  <a:pt x="6648" y="17066"/>
                </a:cubicBezTo>
              </a:path>
              <a:path w="6922" h="1911">
                <a:moveTo>
                  <a:pt x="12526" y="15776"/>
                </a:moveTo>
                <a:cubicBezTo>
                  <a:pt x="12541" y="16042"/>
                  <a:pt x="12576" y="16303"/>
                  <a:pt x="12601" y="16570"/>
                </a:cubicBezTo>
                <a:cubicBezTo>
                  <a:pt x="12629" y="16875"/>
                  <a:pt x="12636" y="17187"/>
                  <a:pt x="12700" y="17487"/>
                </a:cubicBezTo>
                <a:cubicBezTo>
                  <a:pt x="12700" y="17479"/>
                  <a:pt x="12700" y="17470"/>
                  <a:pt x="12700" y="17462"/>
                </a:cubicBezTo>
              </a:path>
              <a:path w="6922" h="1911">
                <a:moveTo>
                  <a:pt x="12402" y="15875"/>
                </a:moveTo>
                <a:cubicBezTo>
                  <a:pt x="12413" y="15842"/>
                  <a:pt x="12416" y="15852"/>
                  <a:pt x="12452" y="15825"/>
                </a:cubicBezTo>
                <a:cubicBezTo>
                  <a:pt x="12418" y="15888"/>
                  <a:pt x="12261" y="16195"/>
                  <a:pt x="12204" y="16197"/>
                </a:cubicBezTo>
                <a:cubicBezTo>
                  <a:pt x="12204" y="16189"/>
                  <a:pt x="12204" y="16181"/>
                  <a:pt x="12204" y="16173"/>
                </a:cubicBezTo>
                <a:cubicBezTo>
                  <a:pt x="12333" y="16021"/>
                  <a:pt x="12424" y="15850"/>
                  <a:pt x="12526" y="15677"/>
                </a:cubicBezTo>
                <a:cubicBezTo>
                  <a:pt x="12665" y="15777"/>
                  <a:pt x="12850" y="15860"/>
                  <a:pt x="12973" y="15974"/>
                </a:cubicBezTo>
                <a:cubicBezTo>
                  <a:pt x="13006" y="16005"/>
                  <a:pt x="12942" y="16005"/>
                  <a:pt x="12998" y="16024"/>
                </a:cubicBezTo>
              </a:path>
              <a:path w="6922" h="1911">
                <a:moveTo>
                  <a:pt x="12303" y="17239"/>
                </a:moveTo>
                <a:cubicBezTo>
                  <a:pt x="12427" y="17281"/>
                  <a:pt x="12551" y="17399"/>
                  <a:pt x="12650" y="17487"/>
                </a:cubicBezTo>
                <a:cubicBezTo>
                  <a:pt x="12708" y="17545"/>
                  <a:pt x="12717" y="17554"/>
                  <a:pt x="12750" y="17587"/>
                </a:cubicBezTo>
                <a:cubicBezTo>
                  <a:pt x="12827" y="17467"/>
                  <a:pt x="12853" y="17354"/>
                  <a:pt x="12948" y="17239"/>
                </a:cubicBezTo>
                <a:cubicBezTo>
                  <a:pt x="12956" y="17231"/>
                  <a:pt x="12965" y="17222"/>
                  <a:pt x="12973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0960" y="5634000"/>
            <a:ext cx="1117440" cy="625680"/>
          </a:xfrm>
          <a:custGeom>
            <a:avLst/>
            <a:gdLst/>
            <a:ahLst/>
            <a:rect l="l" t="t" r="r" b="b"/>
            <a:pathLst>
              <a:path w="3102" h="1737">
                <a:moveTo>
                  <a:pt x="14486" y="17190"/>
                </a:moveTo>
                <a:cubicBezTo>
                  <a:pt x="14580" y="17129"/>
                  <a:pt x="14728" y="17034"/>
                  <a:pt x="14833" y="16966"/>
                </a:cubicBezTo>
                <a:cubicBezTo>
                  <a:pt x="15311" y="16655"/>
                  <a:pt x="15813" y="16406"/>
                  <a:pt x="16321" y="16148"/>
                </a:cubicBezTo>
                <a:cubicBezTo>
                  <a:pt x="16646" y="15983"/>
                  <a:pt x="16979" y="15862"/>
                  <a:pt x="17314" y="15726"/>
                </a:cubicBezTo>
                <a:cubicBezTo>
                  <a:pt x="17435" y="15677"/>
                  <a:pt x="17421" y="15705"/>
                  <a:pt x="17438" y="15701"/>
                </a:cubicBezTo>
                <a:cubicBezTo>
                  <a:pt x="17340" y="15691"/>
                  <a:pt x="17226" y="15677"/>
                  <a:pt x="17115" y="15677"/>
                </a:cubicBezTo>
                <a:cubicBezTo>
                  <a:pt x="17074" y="15677"/>
                  <a:pt x="17032" y="15677"/>
                  <a:pt x="16991" y="15677"/>
                </a:cubicBezTo>
                <a:cubicBezTo>
                  <a:pt x="17111" y="15671"/>
                  <a:pt x="17169" y="15662"/>
                  <a:pt x="17289" y="15652"/>
                </a:cubicBezTo>
                <a:cubicBezTo>
                  <a:pt x="17339" y="15648"/>
                  <a:pt x="17388" y="15654"/>
                  <a:pt x="17438" y="15652"/>
                </a:cubicBezTo>
                <a:cubicBezTo>
                  <a:pt x="17397" y="15801"/>
                  <a:pt x="17356" y="15920"/>
                  <a:pt x="17264" y="16049"/>
                </a:cubicBezTo>
                <a:cubicBezTo>
                  <a:pt x="17256" y="16057"/>
                  <a:pt x="17247" y="16065"/>
                  <a:pt x="17239" y="16073"/>
                </a:cubicBezTo>
              </a:path>
              <a:path w="3102" h="1737">
                <a:moveTo>
                  <a:pt x="14486" y="16867"/>
                </a:moveTo>
                <a:cubicBezTo>
                  <a:pt x="14469" y="17023"/>
                  <a:pt x="14444" y="17167"/>
                  <a:pt x="14387" y="17314"/>
                </a:cubicBezTo>
                <a:cubicBezTo>
                  <a:pt x="14365" y="17357"/>
                  <a:pt x="14361" y="17369"/>
                  <a:pt x="14337" y="17388"/>
                </a:cubicBezTo>
                <a:cubicBezTo>
                  <a:pt x="14478" y="17388"/>
                  <a:pt x="14618" y="17388"/>
                  <a:pt x="14759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0fb2"/>
                </a:solidFill>
                <a:latin typeface="Comic Sans MS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0fb2"/>
                </a:solidFill>
                <a:latin typeface="Comic Sans MS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48040" y="3733920"/>
            <a:ext cx="1447920" cy="129528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3384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65360" y="144792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447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320920" y="901800"/>
            <a:ext cx="1009800" cy="339480"/>
          </a:xfrm>
          <a:custGeom>
            <a:avLst/>
            <a:gdLst/>
            <a:ahLst/>
            <a:rect l="l" t="t" r="r" b="b"/>
            <a:pathLst>
              <a:path w="2804" h="944">
                <a:moveTo>
                  <a:pt x="6772" y="3076"/>
                </a:moveTo>
                <a:cubicBezTo>
                  <a:pt x="6772" y="3026"/>
                  <a:pt x="6772" y="2977"/>
                  <a:pt x="6772" y="2927"/>
                </a:cubicBezTo>
                <a:cubicBezTo>
                  <a:pt x="6678" y="2870"/>
                  <a:pt x="6592" y="2895"/>
                  <a:pt x="6524" y="3001"/>
                </a:cubicBezTo>
                <a:cubicBezTo>
                  <a:pt x="6369" y="3244"/>
                  <a:pt x="6463" y="3443"/>
                  <a:pt x="6747" y="3448"/>
                </a:cubicBezTo>
                <a:cubicBezTo>
                  <a:pt x="6864" y="3424"/>
                  <a:pt x="6900" y="3421"/>
                  <a:pt x="6945" y="3349"/>
                </a:cubicBezTo>
              </a:path>
              <a:path w="2804" h="944">
                <a:moveTo>
                  <a:pt x="6995" y="2580"/>
                </a:moveTo>
                <a:cubicBezTo>
                  <a:pt x="7027" y="2767"/>
                  <a:pt x="7069" y="2965"/>
                  <a:pt x="7119" y="3150"/>
                </a:cubicBezTo>
                <a:cubicBezTo>
                  <a:pt x="7158" y="3265"/>
                  <a:pt x="7174" y="3279"/>
                  <a:pt x="7169" y="3349"/>
                </a:cubicBezTo>
              </a:path>
              <a:path w="2804" h="944">
                <a:moveTo>
                  <a:pt x="7417" y="2952"/>
                </a:moveTo>
                <a:cubicBezTo>
                  <a:pt x="7270" y="3085"/>
                  <a:pt x="7232" y="3178"/>
                  <a:pt x="7243" y="3373"/>
                </a:cubicBezTo>
                <a:cubicBezTo>
                  <a:pt x="7395" y="3409"/>
                  <a:pt x="7589" y="3385"/>
                  <a:pt x="7565" y="3150"/>
                </a:cubicBezTo>
                <a:cubicBezTo>
                  <a:pt x="7551" y="3008"/>
                  <a:pt x="7447" y="3001"/>
                  <a:pt x="7342" y="3001"/>
                </a:cubicBezTo>
              </a:path>
              <a:path w="2804" h="944">
                <a:moveTo>
                  <a:pt x="7888" y="2952"/>
                </a:moveTo>
                <a:cubicBezTo>
                  <a:pt x="7851" y="2964"/>
                  <a:pt x="7864" y="2968"/>
                  <a:pt x="7813" y="3001"/>
                </a:cubicBezTo>
                <a:cubicBezTo>
                  <a:pt x="7879" y="3084"/>
                  <a:pt x="8031" y="3119"/>
                  <a:pt x="8136" y="3175"/>
                </a:cubicBezTo>
                <a:cubicBezTo>
                  <a:pt x="8092" y="3308"/>
                  <a:pt x="7981" y="3411"/>
                  <a:pt x="7813" y="3398"/>
                </a:cubicBezTo>
                <a:cubicBezTo>
                  <a:pt x="7744" y="3363"/>
                  <a:pt x="7741" y="3336"/>
                  <a:pt x="7838" y="3274"/>
                </a:cubicBezTo>
              </a:path>
              <a:path w="2804" h="944">
                <a:moveTo>
                  <a:pt x="8359" y="3076"/>
                </a:moveTo>
                <a:cubicBezTo>
                  <a:pt x="8450" y="3076"/>
                  <a:pt x="8541" y="3076"/>
                  <a:pt x="8632" y="3076"/>
                </a:cubicBezTo>
                <a:cubicBezTo>
                  <a:pt x="8615" y="2989"/>
                  <a:pt x="8561" y="2885"/>
                  <a:pt x="8458" y="2877"/>
                </a:cubicBezTo>
                <a:cubicBezTo>
                  <a:pt x="8274" y="2864"/>
                  <a:pt x="8128" y="3187"/>
                  <a:pt x="8235" y="3324"/>
                </a:cubicBezTo>
                <a:cubicBezTo>
                  <a:pt x="8353" y="3476"/>
                  <a:pt x="8568" y="3382"/>
                  <a:pt x="8706" y="3349"/>
                </a:cubicBezTo>
              </a:path>
              <a:path w="2804" h="944">
                <a:moveTo>
                  <a:pt x="9252" y="3026"/>
                </a:moveTo>
                <a:cubicBezTo>
                  <a:pt x="9162" y="2936"/>
                  <a:pt x="9075" y="2842"/>
                  <a:pt x="8930" y="2927"/>
                </a:cubicBezTo>
                <a:cubicBezTo>
                  <a:pt x="8730" y="3045"/>
                  <a:pt x="8788" y="3147"/>
                  <a:pt x="8855" y="3299"/>
                </a:cubicBezTo>
                <a:cubicBezTo>
                  <a:pt x="9131" y="3325"/>
                  <a:pt x="9074" y="3291"/>
                  <a:pt x="9203" y="3026"/>
                </a:cubicBezTo>
              </a:path>
              <a:path w="2804" h="944">
                <a:moveTo>
                  <a:pt x="9079" y="2505"/>
                </a:moveTo>
                <a:cubicBezTo>
                  <a:pt x="9095" y="2736"/>
                  <a:pt x="9141" y="2952"/>
                  <a:pt x="9203" y="3175"/>
                </a:cubicBezTo>
                <a:cubicBezTo>
                  <a:pt x="9222" y="3232"/>
                  <a:pt x="9230" y="3239"/>
                  <a:pt x="9227" y="3274"/>
                </a:cubicBezTo>
              </a:path>
              <a:path w="2804" h="944">
                <a:moveTo>
                  <a:pt x="7838" y="3101"/>
                </a:moveTo>
                <a:cubicBezTo>
                  <a:pt x="7838" y="3093"/>
                  <a:pt x="7838" y="3084"/>
                  <a:pt x="7838" y="3076"/>
                </a:cubicBezTo>
                <a:cubicBezTo>
                  <a:pt x="7876" y="3063"/>
                  <a:pt x="7951" y="2997"/>
                  <a:pt x="7987" y="2952"/>
                </a:cubicBezTo>
                <a:cubicBezTo>
                  <a:pt x="8007" y="2911"/>
                  <a:pt x="8005" y="2895"/>
                  <a:pt x="8037" y="29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76760" y="866880"/>
            <a:ext cx="1125360" cy="455400"/>
          </a:xfrm>
          <a:custGeom>
            <a:avLst/>
            <a:gdLst/>
            <a:ahLst/>
            <a:rect l="l" t="t" r="r" b="b"/>
            <a:pathLst>
              <a:path w="3127" h="1266">
                <a:moveTo>
                  <a:pt x="10914" y="2604"/>
                </a:moveTo>
                <a:cubicBezTo>
                  <a:pt x="10880" y="2515"/>
                  <a:pt x="10858" y="2466"/>
                  <a:pt x="10790" y="2406"/>
                </a:cubicBezTo>
                <a:cubicBezTo>
                  <a:pt x="10578" y="2490"/>
                  <a:pt x="10589" y="2714"/>
                  <a:pt x="10641" y="2927"/>
                </a:cubicBezTo>
                <a:cubicBezTo>
                  <a:pt x="10667" y="3032"/>
                  <a:pt x="10734" y="3106"/>
                  <a:pt x="10765" y="3200"/>
                </a:cubicBezTo>
              </a:path>
              <a:path w="3127" h="1266">
                <a:moveTo>
                  <a:pt x="10492" y="2927"/>
                </a:moveTo>
                <a:cubicBezTo>
                  <a:pt x="10702" y="2902"/>
                  <a:pt x="11017" y="2788"/>
                  <a:pt x="11162" y="2977"/>
                </a:cubicBezTo>
                <a:cubicBezTo>
                  <a:pt x="11206" y="3065"/>
                  <a:pt x="11223" y="3086"/>
                  <a:pt x="11212" y="3150"/>
                </a:cubicBezTo>
              </a:path>
              <a:path w="3127" h="1266">
                <a:moveTo>
                  <a:pt x="11137" y="2704"/>
                </a:moveTo>
                <a:lnTo>
                  <a:pt x="11137" y="2704"/>
                </a:lnTo>
                <a:lnTo>
                  <a:pt x="11137" y="2704"/>
                </a:lnTo>
              </a:path>
              <a:path w="3127" h="1266">
                <a:moveTo>
                  <a:pt x="11137" y="2704"/>
                </a:moveTo>
                <a:lnTo>
                  <a:pt x="11137" y="2704"/>
                </a:lnTo>
              </a:path>
              <a:path w="3127" h="1266">
                <a:moveTo>
                  <a:pt x="11757" y="2853"/>
                </a:moveTo>
                <a:cubicBezTo>
                  <a:pt x="11638" y="2880"/>
                  <a:pt x="11436" y="3012"/>
                  <a:pt x="11609" y="3150"/>
                </a:cubicBezTo>
                <a:cubicBezTo>
                  <a:pt x="11770" y="3279"/>
                  <a:pt x="11800" y="3014"/>
                  <a:pt x="11807" y="2927"/>
                </a:cubicBezTo>
                <a:cubicBezTo>
                  <a:pt x="11825" y="3090"/>
                  <a:pt x="11998" y="3226"/>
                  <a:pt x="11956" y="3398"/>
                </a:cubicBezTo>
                <a:cubicBezTo>
                  <a:pt x="11888" y="3678"/>
                  <a:pt x="11564" y="3668"/>
                  <a:pt x="11385" y="3597"/>
                </a:cubicBezTo>
              </a:path>
              <a:path w="3127" h="1266">
                <a:moveTo>
                  <a:pt x="12254" y="2803"/>
                </a:moveTo>
                <a:cubicBezTo>
                  <a:pt x="12254" y="2898"/>
                  <a:pt x="12255" y="3028"/>
                  <a:pt x="12328" y="3101"/>
                </a:cubicBezTo>
                <a:cubicBezTo>
                  <a:pt x="12444" y="3217"/>
                  <a:pt x="12540" y="2887"/>
                  <a:pt x="12551" y="2853"/>
                </a:cubicBezTo>
                <a:cubicBezTo>
                  <a:pt x="12551" y="2826"/>
                  <a:pt x="12576" y="2969"/>
                  <a:pt x="12626" y="3026"/>
                </a:cubicBezTo>
                <a:cubicBezTo>
                  <a:pt x="12732" y="3146"/>
                  <a:pt x="12720" y="3085"/>
                  <a:pt x="12774" y="2977"/>
                </a:cubicBezTo>
              </a:path>
              <a:path w="3127" h="1266">
                <a:moveTo>
                  <a:pt x="12799" y="2902"/>
                </a:moveTo>
                <a:cubicBezTo>
                  <a:pt x="12819" y="2943"/>
                  <a:pt x="12828" y="2949"/>
                  <a:pt x="12824" y="2977"/>
                </a:cubicBezTo>
                <a:cubicBezTo>
                  <a:pt x="12806" y="2867"/>
                  <a:pt x="12751" y="2780"/>
                  <a:pt x="12874" y="2704"/>
                </a:cubicBezTo>
                <a:cubicBezTo>
                  <a:pt x="13010" y="2620"/>
                  <a:pt x="13103" y="2681"/>
                  <a:pt x="13221" y="2753"/>
                </a:cubicBezTo>
              </a:path>
              <a:path w="3127" h="1266">
                <a:moveTo>
                  <a:pt x="13271" y="2803"/>
                </a:moveTo>
                <a:cubicBezTo>
                  <a:pt x="13366" y="2803"/>
                  <a:pt x="13388" y="2832"/>
                  <a:pt x="13395" y="2729"/>
                </a:cubicBezTo>
                <a:cubicBezTo>
                  <a:pt x="13395" y="2721"/>
                  <a:pt x="13395" y="2712"/>
                  <a:pt x="13395" y="2704"/>
                </a:cubicBezTo>
                <a:cubicBezTo>
                  <a:pt x="13322" y="2777"/>
                  <a:pt x="13174" y="2872"/>
                  <a:pt x="13295" y="2977"/>
                </a:cubicBezTo>
                <a:cubicBezTo>
                  <a:pt x="13396" y="3066"/>
                  <a:pt x="13507" y="3003"/>
                  <a:pt x="13618" y="29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27160" y="1152360"/>
            <a:ext cx="115920" cy="803520"/>
          </a:xfrm>
          <a:custGeom>
            <a:avLst/>
            <a:gdLst/>
            <a:ahLst/>
            <a:rect l="l" t="t" r="r" b="b"/>
            <a:pathLst>
              <a:path w="323" h="2233">
                <a:moveTo>
                  <a:pt x="5655" y="3225"/>
                </a:moveTo>
                <a:cubicBezTo>
                  <a:pt x="5748" y="3209"/>
                  <a:pt x="5831" y="3200"/>
                  <a:pt x="5928" y="3200"/>
                </a:cubicBezTo>
                <a:cubicBezTo>
                  <a:pt x="5936" y="3200"/>
                  <a:pt x="5945" y="3200"/>
                  <a:pt x="5953" y="3200"/>
                </a:cubicBezTo>
              </a:path>
              <a:path w="323" h="2233">
                <a:moveTo>
                  <a:pt x="5655" y="4341"/>
                </a:moveTo>
                <a:cubicBezTo>
                  <a:pt x="5711" y="4352"/>
                  <a:pt x="5854" y="4342"/>
                  <a:pt x="5904" y="4366"/>
                </a:cubicBezTo>
                <a:cubicBezTo>
                  <a:pt x="5912" y="4374"/>
                  <a:pt x="5920" y="4382"/>
                  <a:pt x="5928" y="4390"/>
                </a:cubicBezTo>
              </a:path>
              <a:path w="323" h="2233">
                <a:moveTo>
                  <a:pt x="5631" y="5432"/>
                </a:moveTo>
                <a:cubicBezTo>
                  <a:pt x="5649" y="5376"/>
                  <a:pt x="5812" y="5429"/>
                  <a:pt x="5879" y="5432"/>
                </a:cubicBezTo>
                <a:cubicBezTo>
                  <a:pt x="5904" y="5432"/>
                  <a:pt x="5912" y="5432"/>
                  <a:pt x="592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7000" y="1428840"/>
            <a:ext cx="34776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6921" y="4291"/>
                </a:moveTo>
                <a:cubicBezTo>
                  <a:pt x="6862" y="4194"/>
                  <a:pt x="6717" y="4144"/>
                  <a:pt x="6623" y="4266"/>
                </a:cubicBezTo>
                <a:cubicBezTo>
                  <a:pt x="6497" y="4430"/>
                  <a:pt x="6596" y="4520"/>
                  <a:pt x="6697" y="4614"/>
                </a:cubicBezTo>
                <a:cubicBezTo>
                  <a:pt x="6805" y="4477"/>
                  <a:pt x="6821" y="4424"/>
                  <a:pt x="6821" y="4242"/>
                </a:cubicBezTo>
                <a:cubicBezTo>
                  <a:pt x="6841" y="4294"/>
                  <a:pt x="6960" y="4519"/>
                  <a:pt x="7045" y="4514"/>
                </a:cubicBezTo>
                <a:cubicBezTo>
                  <a:pt x="7053" y="4498"/>
                  <a:pt x="7061" y="4481"/>
                  <a:pt x="7069" y="4465"/>
                </a:cubicBezTo>
              </a:path>
              <a:path w="969" h="646">
                <a:moveTo>
                  <a:pt x="7045" y="4018"/>
                </a:moveTo>
                <a:cubicBezTo>
                  <a:pt x="7112" y="4191"/>
                  <a:pt x="7160" y="4368"/>
                  <a:pt x="7218" y="4539"/>
                </a:cubicBezTo>
                <a:cubicBezTo>
                  <a:pt x="7218" y="4531"/>
                  <a:pt x="7218" y="4522"/>
                  <a:pt x="7218" y="4514"/>
                </a:cubicBezTo>
              </a:path>
              <a:path w="969" h="646">
                <a:moveTo>
                  <a:pt x="7218" y="3969"/>
                </a:moveTo>
                <a:cubicBezTo>
                  <a:pt x="7325" y="4146"/>
                  <a:pt x="7417" y="4343"/>
                  <a:pt x="7491" y="4539"/>
                </a:cubicBezTo>
                <a:cubicBezTo>
                  <a:pt x="7491" y="4572"/>
                  <a:pt x="7499" y="4581"/>
                  <a:pt x="7541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6160" y="1312920"/>
            <a:ext cx="1474920" cy="401760"/>
          </a:xfrm>
          <a:custGeom>
            <a:avLst/>
            <a:gdLst/>
            <a:ahLst/>
            <a:rect l="l" t="t" r="r" b="b"/>
            <a:pathLst>
              <a:path w="4094" h="1117">
                <a:moveTo>
                  <a:pt x="8731" y="3969"/>
                </a:moveTo>
                <a:cubicBezTo>
                  <a:pt x="8674" y="3988"/>
                  <a:pt x="8649" y="3979"/>
                  <a:pt x="8657" y="4018"/>
                </a:cubicBezTo>
                <a:cubicBezTo>
                  <a:pt x="8838" y="4072"/>
                  <a:pt x="8995" y="4083"/>
                  <a:pt x="9103" y="4217"/>
                </a:cubicBezTo>
                <a:cubicBezTo>
                  <a:pt x="8966" y="4334"/>
                  <a:pt x="8884" y="4418"/>
                  <a:pt x="8731" y="4316"/>
                </a:cubicBezTo>
              </a:path>
              <a:path w="4094" h="1117">
                <a:moveTo>
                  <a:pt x="9252" y="3646"/>
                </a:moveTo>
                <a:cubicBezTo>
                  <a:pt x="9328" y="3875"/>
                  <a:pt x="9432" y="4093"/>
                  <a:pt x="9525" y="4316"/>
                </a:cubicBezTo>
                <a:cubicBezTo>
                  <a:pt x="9533" y="4341"/>
                  <a:pt x="9542" y="4365"/>
                  <a:pt x="9550" y="4390"/>
                </a:cubicBezTo>
              </a:path>
              <a:path w="4094" h="1117">
                <a:moveTo>
                  <a:pt x="9103" y="4167"/>
                </a:moveTo>
                <a:cubicBezTo>
                  <a:pt x="9296" y="4140"/>
                  <a:pt x="9479" y="4118"/>
                  <a:pt x="9674" y="4118"/>
                </a:cubicBezTo>
                <a:cubicBezTo>
                  <a:pt x="9737" y="4118"/>
                  <a:pt x="9807" y="4290"/>
                  <a:pt x="9847" y="4341"/>
                </a:cubicBezTo>
                <a:cubicBezTo>
                  <a:pt x="9775" y="4249"/>
                  <a:pt x="9753" y="4170"/>
                  <a:pt x="9823" y="4068"/>
                </a:cubicBezTo>
                <a:cubicBezTo>
                  <a:pt x="9912" y="3939"/>
                  <a:pt x="9979" y="3958"/>
                  <a:pt x="10120" y="3944"/>
                </a:cubicBezTo>
              </a:path>
              <a:path w="4094" h="1117">
                <a:moveTo>
                  <a:pt x="10616" y="4192"/>
                </a:moveTo>
                <a:cubicBezTo>
                  <a:pt x="10567" y="4132"/>
                  <a:pt x="10521" y="4076"/>
                  <a:pt x="10468" y="4018"/>
                </a:cubicBezTo>
                <a:cubicBezTo>
                  <a:pt x="10293" y="4072"/>
                  <a:pt x="10252" y="4162"/>
                  <a:pt x="10220" y="4341"/>
                </a:cubicBezTo>
                <a:cubicBezTo>
                  <a:pt x="10400" y="4366"/>
                  <a:pt x="10487" y="4375"/>
                  <a:pt x="10592" y="4192"/>
                </a:cubicBezTo>
                <a:cubicBezTo>
                  <a:pt x="10675" y="4300"/>
                  <a:pt x="10726" y="4405"/>
                  <a:pt x="10864" y="4366"/>
                </a:cubicBezTo>
              </a:path>
              <a:path w="4094" h="1117">
                <a:moveTo>
                  <a:pt x="10914" y="4142"/>
                </a:moveTo>
                <a:cubicBezTo>
                  <a:pt x="10943" y="4240"/>
                  <a:pt x="10958" y="4265"/>
                  <a:pt x="10988" y="4341"/>
                </a:cubicBezTo>
              </a:path>
              <a:path w="4094" h="1117">
                <a:moveTo>
                  <a:pt x="10988" y="4341"/>
                </a:moveTo>
                <a:lnTo>
                  <a:pt x="10988" y="4341"/>
                </a:lnTo>
              </a:path>
              <a:path w="4094" h="1117">
                <a:moveTo>
                  <a:pt x="10840" y="3919"/>
                </a:moveTo>
                <a:cubicBezTo>
                  <a:pt x="10840" y="3884"/>
                  <a:pt x="10849" y="3880"/>
                  <a:pt x="10889" y="3919"/>
                </a:cubicBezTo>
              </a:path>
              <a:path w="4094" h="1117">
                <a:moveTo>
                  <a:pt x="11460" y="4142"/>
                </a:moveTo>
                <a:cubicBezTo>
                  <a:pt x="11350" y="4100"/>
                  <a:pt x="11294" y="4230"/>
                  <a:pt x="11237" y="4316"/>
                </a:cubicBezTo>
                <a:cubicBezTo>
                  <a:pt x="11377" y="4359"/>
                  <a:pt x="11417" y="4338"/>
                  <a:pt x="11460" y="4192"/>
                </a:cubicBezTo>
                <a:cubicBezTo>
                  <a:pt x="11460" y="4184"/>
                  <a:pt x="11460" y="4175"/>
                  <a:pt x="11460" y="4167"/>
                </a:cubicBezTo>
                <a:cubicBezTo>
                  <a:pt x="11508" y="4314"/>
                  <a:pt x="11658" y="4414"/>
                  <a:pt x="11658" y="4589"/>
                </a:cubicBezTo>
                <a:cubicBezTo>
                  <a:pt x="11658" y="4813"/>
                  <a:pt x="11205" y="4831"/>
                  <a:pt x="11187" y="4638"/>
                </a:cubicBezTo>
                <a:cubicBezTo>
                  <a:pt x="11212" y="4589"/>
                  <a:pt x="11236" y="4539"/>
                  <a:pt x="11261" y="4490"/>
                </a:cubicBezTo>
              </a:path>
              <a:path w="4094" h="1117">
                <a:moveTo>
                  <a:pt x="11782" y="3870"/>
                </a:moveTo>
                <a:cubicBezTo>
                  <a:pt x="11786" y="3968"/>
                  <a:pt x="11865" y="4279"/>
                  <a:pt x="11807" y="4192"/>
                </a:cubicBezTo>
                <a:cubicBezTo>
                  <a:pt x="11838" y="4034"/>
                  <a:pt x="11922" y="3926"/>
                  <a:pt x="12105" y="4043"/>
                </a:cubicBezTo>
                <a:cubicBezTo>
                  <a:pt x="12220" y="4117"/>
                  <a:pt x="12213" y="4204"/>
                  <a:pt x="12254" y="4316"/>
                </a:cubicBezTo>
              </a:path>
              <a:path w="4094" h="1117">
                <a:moveTo>
                  <a:pt x="12378" y="3671"/>
                </a:moveTo>
                <a:cubicBezTo>
                  <a:pt x="12472" y="3851"/>
                  <a:pt x="12544" y="4035"/>
                  <a:pt x="12626" y="4217"/>
                </a:cubicBezTo>
                <a:cubicBezTo>
                  <a:pt x="12634" y="4225"/>
                  <a:pt x="12642" y="4234"/>
                  <a:pt x="12650" y="4242"/>
                </a:cubicBezTo>
              </a:path>
              <a:path w="4094" h="1117">
                <a:moveTo>
                  <a:pt x="12303" y="3944"/>
                </a:moveTo>
                <a:cubicBezTo>
                  <a:pt x="12452" y="3944"/>
                  <a:pt x="12601" y="3944"/>
                  <a:pt x="12750" y="39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89680" y="1285920"/>
            <a:ext cx="679320" cy="250920"/>
          </a:xfrm>
          <a:custGeom>
            <a:avLst/>
            <a:gdLst/>
            <a:ahLst/>
            <a:rect l="l" t="t" r="r" b="b"/>
            <a:pathLst>
              <a:path w="1886" h="695">
                <a:moveTo>
                  <a:pt x="14436" y="3845"/>
                </a:moveTo>
                <a:cubicBezTo>
                  <a:pt x="14329" y="3840"/>
                  <a:pt x="14195" y="3807"/>
                  <a:pt x="14139" y="3919"/>
                </a:cubicBezTo>
                <a:cubicBezTo>
                  <a:pt x="14318" y="3995"/>
                  <a:pt x="14473" y="4031"/>
                  <a:pt x="14610" y="4167"/>
                </a:cubicBezTo>
                <a:cubicBezTo>
                  <a:pt x="14499" y="4306"/>
                  <a:pt x="14342" y="4290"/>
                  <a:pt x="14163" y="4217"/>
                </a:cubicBezTo>
                <a:cubicBezTo>
                  <a:pt x="14134" y="4187"/>
                  <a:pt x="14129" y="4172"/>
                  <a:pt x="14163" y="4142"/>
                </a:cubicBezTo>
              </a:path>
              <a:path w="1886" h="695">
                <a:moveTo>
                  <a:pt x="14833" y="3969"/>
                </a:moveTo>
                <a:cubicBezTo>
                  <a:pt x="14854" y="4094"/>
                  <a:pt x="14855" y="4121"/>
                  <a:pt x="14883" y="4192"/>
                </a:cubicBezTo>
              </a:path>
              <a:path w="1886" h="695">
                <a:moveTo>
                  <a:pt x="14734" y="3721"/>
                </a:moveTo>
                <a:cubicBezTo>
                  <a:pt x="14734" y="3713"/>
                  <a:pt x="14734" y="3704"/>
                  <a:pt x="14734" y="3696"/>
                </a:cubicBezTo>
              </a:path>
              <a:path w="1886" h="695">
                <a:moveTo>
                  <a:pt x="14734" y="3696"/>
                </a:moveTo>
                <a:lnTo>
                  <a:pt x="14734" y="3696"/>
                </a:lnTo>
              </a:path>
              <a:path w="1886" h="695">
                <a:moveTo>
                  <a:pt x="15304" y="3944"/>
                </a:moveTo>
                <a:cubicBezTo>
                  <a:pt x="15304" y="3861"/>
                  <a:pt x="15286" y="3820"/>
                  <a:pt x="15180" y="3820"/>
                </a:cubicBezTo>
                <a:cubicBezTo>
                  <a:pt x="15024" y="3820"/>
                  <a:pt x="14888" y="4021"/>
                  <a:pt x="15032" y="4142"/>
                </a:cubicBezTo>
                <a:cubicBezTo>
                  <a:pt x="15073" y="4159"/>
                  <a:pt x="15115" y="4175"/>
                  <a:pt x="15156" y="4192"/>
                </a:cubicBezTo>
                <a:cubicBezTo>
                  <a:pt x="15355" y="4051"/>
                  <a:pt x="15379" y="3899"/>
                  <a:pt x="15280" y="3646"/>
                </a:cubicBezTo>
                <a:cubicBezTo>
                  <a:pt x="15230" y="3519"/>
                  <a:pt x="15294" y="3738"/>
                  <a:pt x="15329" y="3870"/>
                </a:cubicBezTo>
                <a:cubicBezTo>
                  <a:pt x="15358" y="3980"/>
                  <a:pt x="15359" y="4125"/>
                  <a:pt x="15453" y="4093"/>
                </a:cubicBezTo>
              </a:path>
              <a:path w="1886" h="695">
                <a:moveTo>
                  <a:pt x="15627" y="3944"/>
                </a:moveTo>
                <a:cubicBezTo>
                  <a:pt x="15708" y="3903"/>
                  <a:pt x="15782" y="3894"/>
                  <a:pt x="15875" y="3894"/>
                </a:cubicBezTo>
                <a:cubicBezTo>
                  <a:pt x="15814" y="3819"/>
                  <a:pt x="15738" y="3727"/>
                  <a:pt x="15652" y="3845"/>
                </a:cubicBezTo>
                <a:cubicBezTo>
                  <a:pt x="15554" y="3979"/>
                  <a:pt x="15577" y="4161"/>
                  <a:pt x="15751" y="4192"/>
                </a:cubicBezTo>
                <a:cubicBezTo>
                  <a:pt x="15850" y="4210"/>
                  <a:pt x="15942" y="4183"/>
                  <a:pt x="16024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3640" y="1795320"/>
            <a:ext cx="214200" cy="31284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6548" y="5159"/>
                </a:moveTo>
                <a:cubicBezTo>
                  <a:pt x="6645" y="5112"/>
                  <a:pt x="6730" y="5001"/>
                  <a:pt x="6871" y="4986"/>
                </a:cubicBezTo>
                <a:cubicBezTo>
                  <a:pt x="6896" y="4994"/>
                  <a:pt x="6920" y="5003"/>
                  <a:pt x="6945" y="5011"/>
                </a:cubicBezTo>
                <a:cubicBezTo>
                  <a:pt x="6902" y="5173"/>
                  <a:pt x="6818" y="5262"/>
                  <a:pt x="6697" y="5383"/>
                </a:cubicBezTo>
                <a:cubicBezTo>
                  <a:pt x="6825" y="5376"/>
                  <a:pt x="7162" y="5425"/>
                  <a:pt x="6945" y="5655"/>
                </a:cubicBezTo>
                <a:cubicBezTo>
                  <a:pt x="6810" y="5798"/>
                  <a:pt x="6572" y="5879"/>
                  <a:pt x="6424" y="5829"/>
                </a:cubicBezTo>
                <a:cubicBezTo>
                  <a:pt x="6416" y="5829"/>
                  <a:pt x="6408" y="5829"/>
                  <a:pt x="6400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14760" y="1884240"/>
            <a:ext cx="330120" cy="187560"/>
          </a:xfrm>
          <a:custGeom>
            <a:avLst/>
            <a:gdLst/>
            <a:ahLst/>
            <a:rect l="l" t="t" r="r" b="b"/>
            <a:pathLst>
              <a:path w="918" h="522">
                <a:moveTo>
                  <a:pt x="7838" y="5358"/>
                </a:moveTo>
                <a:cubicBezTo>
                  <a:pt x="7724" y="5282"/>
                  <a:pt x="7629" y="5310"/>
                  <a:pt x="7565" y="5457"/>
                </a:cubicBezTo>
                <a:cubicBezTo>
                  <a:pt x="7467" y="5684"/>
                  <a:pt x="7681" y="5881"/>
                  <a:pt x="7863" y="5655"/>
                </a:cubicBezTo>
                <a:cubicBezTo>
                  <a:pt x="8027" y="5453"/>
                  <a:pt x="7825" y="5444"/>
                  <a:pt x="7739" y="5358"/>
                </a:cubicBezTo>
                <a:cubicBezTo>
                  <a:pt x="7747" y="5358"/>
                  <a:pt x="7756" y="5358"/>
                  <a:pt x="7764" y="5358"/>
                </a:cubicBezTo>
              </a:path>
              <a:path w="918" h="522">
                <a:moveTo>
                  <a:pt x="8062" y="5482"/>
                </a:moveTo>
                <a:cubicBezTo>
                  <a:pt x="8081" y="5583"/>
                  <a:pt x="8079" y="5603"/>
                  <a:pt x="8111" y="5655"/>
                </a:cubicBezTo>
                <a:cubicBezTo>
                  <a:pt x="8084" y="5551"/>
                  <a:pt x="8019" y="5443"/>
                  <a:pt x="8111" y="5333"/>
                </a:cubicBezTo>
                <a:cubicBezTo>
                  <a:pt x="8197" y="5230"/>
                  <a:pt x="8342" y="5241"/>
                  <a:pt x="8458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67080" y="1839960"/>
            <a:ext cx="785880" cy="196920"/>
          </a:xfrm>
          <a:custGeom>
            <a:avLst/>
            <a:gdLst/>
            <a:ahLst/>
            <a:rect l="l" t="t" r="r" b="b"/>
            <a:pathLst>
              <a:path w="2184" h="546">
                <a:moveTo>
                  <a:pt x="9376" y="5407"/>
                </a:moveTo>
                <a:cubicBezTo>
                  <a:pt x="9393" y="5494"/>
                  <a:pt x="9424" y="5587"/>
                  <a:pt x="9401" y="5655"/>
                </a:cubicBezTo>
                <a:cubicBezTo>
                  <a:pt x="9379" y="5527"/>
                  <a:pt x="9274" y="5278"/>
                  <a:pt x="9475" y="5209"/>
                </a:cubicBezTo>
                <a:cubicBezTo>
                  <a:pt x="9652" y="5149"/>
                  <a:pt x="9785" y="5441"/>
                  <a:pt x="9847" y="5556"/>
                </a:cubicBezTo>
                <a:cubicBezTo>
                  <a:pt x="9795" y="5356"/>
                  <a:pt x="9789" y="5315"/>
                  <a:pt x="9947" y="5184"/>
                </a:cubicBezTo>
                <a:cubicBezTo>
                  <a:pt x="10103" y="5316"/>
                  <a:pt x="10175" y="5392"/>
                  <a:pt x="10195" y="5606"/>
                </a:cubicBezTo>
              </a:path>
              <a:path w="2184" h="546">
                <a:moveTo>
                  <a:pt x="10443" y="5184"/>
                </a:moveTo>
                <a:cubicBezTo>
                  <a:pt x="10340" y="5303"/>
                  <a:pt x="10293" y="5384"/>
                  <a:pt x="10244" y="5531"/>
                </a:cubicBezTo>
                <a:cubicBezTo>
                  <a:pt x="10405" y="5612"/>
                  <a:pt x="10697" y="5641"/>
                  <a:pt x="10641" y="5333"/>
                </a:cubicBezTo>
                <a:cubicBezTo>
                  <a:pt x="10622" y="5231"/>
                  <a:pt x="10336" y="5234"/>
                  <a:pt x="10468" y="5234"/>
                </a:cubicBezTo>
              </a:path>
              <a:path w="2184" h="546">
                <a:moveTo>
                  <a:pt x="10840" y="5457"/>
                </a:moveTo>
                <a:cubicBezTo>
                  <a:pt x="10840" y="5499"/>
                  <a:pt x="10840" y="5524"/>
                  <a:pt x="10840" y="5482"/>
                </a:cubicBezTo>
                <a:cubicBezTo>
                  <a:pt x="10858" y="5268"/>
                  <a:pt x="10862" y="5203"/>
                  <a:pt x="11063" y="5110"/>
                </a:cubicBezTo>
              </a:path>
              <a:path w="2184" h="546">
                <a:moveTo>
                  <a:pt x="11187" y="5333"/>
                </a:moveTo>
                <a:cubicBezTo>
                  <a:pt x="11286" y="5308"/>
                  <a:pt x="11401" y="5322"/>
                  <a:pt x="11410" y="5209"/>
                </a:cubicBezTo>
                <a:cubicBezTo>
                  <a:pt x="11410" y="5201"/>
                  <a:pt x="11410" y="5192"/>
                  <a:pt x="11410" y="5184"/>
                </a:cubicBezTo>
                <a:cubicBezTo>
                  <a:pt x="11266" y="5160"/>
                  <a:pt x="11056" y="5258"/>
                  <a:pt x="11112" y="5457"/>
                </a:cubicBezTo>
                <a:cubicBezTo>
                  <a:pt x="11168" y="5656"/>
                  <a:pt x="11421" y="5552"/>
                  <a:pt x="11534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731960"/>
            <a:ext cx="874440" cy="233280"/>
          </a:xfrm>
          <a:custGeom>
            <a:avLst/>
            <a:gdLst/>
            <a:ahLst/>
            <a:rect l="l" t="t" r="r" b="b"/>
            <a:pathLst>
              <a:path w="2431" h="646">
                <a:moveTo>
                  <a:pt x="12799" y="4986"/>
                </a:moveTo>
                <a:cubicBezTo>
                  <a:pt x="12672" y="5000"/>
                  <a:pt x="12639" y="4997"/>
                  <a:pt x="12551" y="5085"/>
                </a:cubicBezTo>
                <a:cubicBezTo>
                  <a:pt x="12721" y="5178"/>
                  <a:pt x="12903" y="5189"/>
                  <a:pt x="12973" y="5358"/>
                </a:cubicBezTo>
                <a:cubicBezTo>
                  <a:pt x="12919" y="5385"/>
                  <a:pt x="12478" y="5464"/>
                  <a:pt x="12502" y="5432"/>
                </a:cubicBezTo>
                <a:cubicBezTo>
                  <a:pt x="12551" y="5391"/>
                  <a:pt x="12601" y="5349"/>
                  <a:pt x="12650" y="5308"/>
                </a:cubicBezTo>
              </a:path>
              <a:path w="2431" h="646">
                <a:moveTo>
                  <a:pt x="13146" y="5234"/>
                </a:moveTo>
                <a:cubicBezTo>
                  <a:pt x="13188" y="5358"/>
                  <a:pt x="13196" y="5383"/>
                  <a:pt x="13221" y="5457"/>
                </a:cubicBezTo>
              </a:path>
              <a:path w="2431" h="646">
                <a:moveTo>
                  <a:pt x="13221" y="5457"/>
                </a:moveTo>
                <a:lnTo>
                  <a:pt x="13221" y="5457"/>
                </a:lnTo>
              </a:path>
              <a:path w="2431" h="646">
                <a:moveTo>
                  <a:pt x="13122" y="4936"/>
                </a:moveTo>
                <a:cubicBezTo>
                  <a:pt x="13130" y="4936"/>
                  <a:pt x="13138" y="4936"/>
                  <a:pt x="13146" y="4936"/>
                </a:cubicBezTo>
              </a:path>
              <a:path w="2431" h="646">
                <a:moveTo>
                  <a:pt x="13767" y="5234"/>
                </a:moveTo>
                <a:cubicBezTo>
                  <a:pt x="13683" y="5109"/>
                  <a:pt x="13623" y="5000"/>
                  <a:pt x="13469" y="5159"/>
                </a:cubicBezTo>
                <a:cubicBezTo>
                  <a:pt x="13403" y="5270"/>
                  <a:pt x="13378" y="5297"/>
                  <a:pt x="13395" y="5383"/>
                </a:cubicBezTo>
                <a:cubicBezTo>
                  <a:pt x="13635" y="5449"/>
                  <a:pt x="13582" y="5429"/>
                  <a:pt x="13742" y="5234"/>
                </a:cubicBezTo>
              </a:path>
              <a:path w="2431" h="646">
                <a:moveTo>
                  <a:pt x="13618" y="4812"/>
                </a:moveTo>
                <a:cubicBezTo>
                  <a:pt x="13703" y="5011"/>
                  <a:pt x="13734" y="5202"/>
                  <a:pt x="13791" y="5407"/>
                </a:cubicBezTo>
                <a:cubicBezTo>
                  <a:pt x="13799" y="5424"/>
                  <a:pt x="13808" y="5440"/>
                  <a:pt x="13816" y="5457"/>
                </a:cubicBezTo>
              </a:path>
              <a:path w="2431" h="646">
                <a:moveTo>
                  <a:pt x="14039" y="5159"/>
                </a:moveTo>
                <a:cubicBezTo>
                  <a:pt x="14127" y="5143"/>
                  <a:pt x="14198" y="5135"/>
                  <a:pt x="14288" y="5135"/>
                </a:cubicBezTo>
                <a:cubicBezTo>
                  <a:pt x="14251" y="5073"/>
                  <a:pt x="14137" y="4929"/>
                  <a:pt x="14039" y="5011"/>
                </a:cubicBezTo>
                <a:cubicBezTo>
                  <a:pt x="13912" y="5117"/>
                  <a:pt x="13882" y="5432"/>
                  <a:pt x="14114" y="5432"/>
                </a:cubicBezTo>
                <a:cubicBezTo>
                  <a:pt x="14297" y="5372"/>
                  <a:pt x="14373" y="5332"/>
                  <a:pt x="14461" y="5209"/>
                </a:cubicBezTo>
              </a:path>
              <a:path w="2431" h="646">
                <a:moveTo>
                  <a:pt x="14610" y="4961"/>
                </a:moveTo>
                <a:cubicBezTo>
                  <a:pt x="14525" y="4977"/>
                  <a:pt x="14525" y="4973"/>
                  <a:pt x="14461" y="5035"/>
                </a:cubicBezTo>
                <a:cubicBezTo>
                  <a:pt x="14443" y="5143"/>
                  <a:pt x="14693" y="5133"/>
                  <a:pt x="14808" y="5184"/>
                </a:cubicBezTo>
                <a:cubicBezTo>
                  <a:pt x="14849" y="5209"/>
                  <a:pt x="14891" y="5234"/>
                  <a:pt x="14932" y="5259"/>
                </a:cubicBezTo>
                <a:cubicBezTo>
                  <a:pt x="14843" y="5483"/>
                  <a:pt x="14706" y="5462"/>
                  <a:pt x="14486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240" y="3429000"/>
            <a:ext cx="822600" cy="98280"/>
          </a:xfrm>
          <a:custGeom>
            <a:avLst/>
            <a:gdLst/>
            <a:ahLst/>
            <a:rect l="l" t="t" r="r" b="b"/>
            <a:pathLst>
              <a:path w="2283" h="274">
                <a:moveTo>
                  <a:pt x="1910" y="9798"/>
                </a:moveTo>
                <a:cubicBezTo>
                  <a:pt x="1986" y="9789"/>
                  <a:pt x="2058" y="9771"/>
                  <a:pt x="2133" y="9748"/>
                </a:cubicBezTo>
                <a:cubicBezTo>
                  <a:pt x="2319" y="9692"/>
                  <a:pt x="2512" y="9674"/>
                  <a:pt x="2704" y="9649"/>
                </a:cubicBezTo>
                <a:cubicBezTo>
                  <a:pt x="3008" y="9609"/>
                  <a:pt x="3319" y="9591"/>
                  <a:pt x="3621" y="9550"/>
                </a:cubicBezTo>
                <a:cubicBezTo>
                  <a:pt x="3726" y="9536"/>
                  <a:pt x="3811" y="9525"/>
                  <a:pt x="3919" y="9525"/>
                </a:cubicBezTo>
                <a:cubicBezTo>
                  <a:pt x="4010" y="9525"/>
                  <a:pt x="4101" y="9525"/>
                  <a:pt x="4192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0240" y="3375000"/>
            <a:ext cx="6372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5085" y="9401"/>
                </a:moveTo>
                <a:cubicBezTo>
                  <a:pt x="5147" y="9401"/>
                  <a:pt x="5199" y="9386"/>
                  <a:pt x="5259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3080" y="3178080"/>
            <a:ext cx="938160" cy="403200"/>
          </a:xfrm>
          <a:custGeom>
            <a:avLst/>
            <a:gdLst/>
            <a:ahLst/>
            <a:rect l="l" t="t" r="r" b="b"/>
            <a:pathLst>
              <a:path w="2606" h="1118">
                <a:moveTo>
                  <a:pt x="6176" y="9302"/>
                </a:moveTo>
                <a:cubicBezTo>
                  <a:pt x="6258" y="9485"/>
                  <a:pt x="6349" y="9612"/>
                  <a:pt x="6375" y="9823"/>
                </a:cubicBezTo>
                <a:cubicBezTo>
                  <a:pt x="6376" y="9830"/>
                  <a:pt x="6375" y="10110"/>
                  <a:pt x="6375" y="9847"/>
                </a:cubicBezTo>
              </a:path>
              <a:path w="2606" h="1118">
                <a:moveTo>
                  <a:pt x="5953" y="9103"/>
                </a:moveTo>
                <a:cubicBezTo>
                  <a:pt x="6290" y="9124"/>
                  <a:pt x="6376" y="9099"/>
                  <a:pt x="6623" y="9302"/>
                </a:cubicBezTo>
                <a:cubicBezTo>
                  <a:pt x="6562" y="9398"/>
                  <a:pt x="6272" y="9714"/>
                  <a:pt x="6127" y="9500"/>
                </a:cubicBezTo>
                <a:cubicBezTo>
                  <a:pt x="6143" y="9475"/>
                  <a:pt x="6160" y="9451"/>
                  <a:pt x="6176" y="9426"/>
                </a:cubicBezTo>
              </a:path>
              <a:path w="2606" h="1118">
                <a:moveTo>
                  <a:pt x="6846" y="9153"/>
                </a:moveTo>
                <a:cubicBezTo>
                  <a:pt x="6716" y="9205"/>
                  <a:pt x="6523" y="9349"/>
                  <a:pt x="6722" y="9500"/>
                </a:cubicBezTo>
                <a:cubicBezTo>
                  <a:pt x="6873" y="9615"/>
                  <a:pt x="7145" y="9388"/>
                  <a:pt x="7020" y="9227"/>
                </a:cubicBezTo>
                <a:cubicBezTo>
                  <a:pt x="6924" y="9180"/>
                  <a:pt x="6895" y="9163"/>
                  <a:pt x="6821" y="9178"/>
                </a:cubicBezTo>
              </a:path>
              <a:path w="2606" h="1118">
                <a:moveTo>
                  <a:pt x="7193" y="9327"/>
                </a:moveTo>
                <a:cubicBezTo>
                  <a:pt x="7238" y="9412"/>
                  <a:pt x="7271" y="9556"/>
                  <a:pt x="7293" y="9451"/>
                </a:cubicBezTo>
              </a:path>
              <a:path w="2606" h="1118">
                <a:moveTo>
                  <a:pt x="7045" y="9029"/>
                </a:moveTo>
                <a:lnTo>
                  <a:pt x="7045" y="9029"/>
                </a:lnTo>
                <a:lnTo>
                  <a:pt x="7045" y="9029"/>
                </a:lnTo>
              </a:path>
              <a:path w="2606" h="1118">
                <a:moveTo>
                  <a:pt x="7045" y="9029"/>
                </a:moveTo>
                <a:lnTo>
                  <a:pt x="7045" y="9029"/>
                </a:lnTo>
              </a:path>
              <a:path w="2606" h="1118">
                <a:moveTo>
                  <a:pt x="7441" y="9376"/>
                </a:moveTo>
                <a:cubicBezTo>
                  <a:pt x="7458" y="9401"/>
                  <a:pt x="7474" y="9426"/>
                  <a:pt x="7491" y="9451"/>
                </a:cubicBezTo>
                <a:cubicBezTo>
                  <a:pt x="7466" y="9364"/>
                  <a:pt x="7369" y="9203"/>
                  <a:pt x="7491" y="9128"/>
                </a:cubicBezTo>
                <a:cubicBezTo>
                  <a:pt x="7703" y="8998"/>
                  <a:pt x="7804" y="9284"/>
                  <a:pt x="7838" y="9426"/>
                </a:cubicBezTo>
                <a:cubicBezTo>
                  <a:pt x="7838" y="9461"/>
                  <a:pt x="7843" y="9460"/>
                  <a:pt x="7863" y="9401"/>
                </a:cubicBezTo>
              </a:path>
              <a:path w="2606" h="1118">
                <a:moveTo>
                  <a:pt x="8012" y="8830"/>
                </a:moveTo>
                <a:lnTo>
                  <a:pt x="8111" y="9029"/>
                </a:lnTo>
                <a:lnTo>
                  <a:pt x="8186" y="9227"/>
                </a:lnTo>
                <a:lnTo>
                  <a:pt x="8235" y="9376"/>
                </a:lnTo>
                <a:lnTo>
                  <a:pt x="8235" y="9451"/>
                </a:lnTo>
                <a:lnTo>
                  <a:pt x="8235" y="9426"/>
                </a:lnTo>
              </a:path>
              <a:path w="2606" h="1118">
                <a:moveTo>
                  <a:pt x="7813" y="9178"/>
                </a:moveTo>
                <a:cubicBezTo>
                  <a:pt x="8061" y="9163"/>
                  <a:pt x="8309" y="9146"/>
                  <a:pt x="855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03720" y="3187800"/>
            <a:ext cx="866520" cy="187200"/>
          </a:xfrm>
          <a:custGeom>
            <a:avLst/>
            <a:gdLst/>
            <a:ahLst/>
            <a:rect l="l" t="t" r="r" b="b"/>
            <a:pathLst>
              <a:path w="2407" h="522">
                <a:moveTo>
                  <a:pt x="9178" y="9054"/>
                </a:moveTo>
                <a:cubicBezTo>
                  <a:pt x="9187" y="9176"/>
                  <a:pt x="9173" y="9387"/>
                  <a:pt x="9351" y="9351"/>
                </a:cubicBezTo>
                <a:cubicBezTo>
                  <a:pt x="9430" y="9335"/>
                  <a:pt x="9414" y="9275"/>
                  <a:pt x="9451" y="9203"/>
                </a:cubicBezTo>
                <a:cubicBezTo>
                  <a:pt x="9556" y="9308"/>
                  <a:pt x="9818" y="9519"/>
                  <a:pt x="9872" y="9203"/>
                </a:cubicBezTo>
                <a:cubicBezTo>
                  <a:pt x="9917" y="8938"/>
                  <a:pt x="9682" y="8930"/>
                  <a:pt x="9500" y="8930"/>
                </a:cubicBezTo>
              </a:path>
              <a:path w="2407" h="522">
                <a:moveTo>
                  <a:pt x="9798" y="8855"/>
                </a:moveTo>
                <a:cubicBezTo>
                  <a:pt x="9855" y="9046"/>
                  <a:pt x="9902" y="9156"/>
                  <a:pt x="9996" y="9327"/>
                </a:cubicBezTo>
                <a:cubicBezTo>
                  <a:pt x="9913" y="9260"/>
                  <a:pt x="9801" y="9118"/>
                  <a:pt x="9897" y="9004"/>
                </a:cubicBezTo>
                <a:cubicBezTo>
                  <a:pt x="10060" y="8810"/>
                  <a:pt x="10302" y="9085"/>
                  <a:pt x="10344" y="9227"/>
                </a:cubicBezTo>
                <a:cubicBezTo>
                  <a:pt x="10344" y="9244"/>
                  <a:pt x="10344" y="9260"/>
                  <a:pt x="10344" y="9277"/>
                </a:cubicBezTo>
              </a:path>
              <a:path w="2407" h="522">
                <a:moveTo>
                  <a:pt x="10468" y="9079"/>
                </a:moveTo>
                <a:cubicBezTo>
                  <a:pt x="10564" y="9051"/>
                  <a:pt x="10636" y="9030"/>
                  <a:pt x="10716" y="8979"/>
                </a:cubicBezTo>
                <a:cubicBezTo>
                  <a:pt x="10640" y="8878"/>
                  <a:pt x="10502" y="8886"/>
                  <a:pt x="10418" y="9004"/>
                </a:cubicBezTo>
                <a:cubicBezTo>
                  <a:pt x="10274" y="9207"/>
                  <a:pt x="10596" y="9315"/>
                  <a:pt x="10740" y="9203"/>
                </a:cubicBezTo>
                <a:cubicBezTo>
                  <a:pt x="10773" y="9162"/>
                  <a:pt x="10807" y="9120"/>
                  <a:pt x="10840" y="9079"/>
                </a:cubicBezTo>
              </a:path>
              <a:path w="2407" h="522">
                <a:moveTo>
                  <a:pt x="10864" y="9054"/>
                </a:moveTo>
                <a:cubicBezTo>
                  <a:pt x="10903" y="9131"/>
                  <a:pt x="10902" y="9146"/>
                  <a:pt x="10939" y="9178"/>
                </a:cubicBezTo>
                <a:cubicBezTo>
                  <a:pt x="10926" y="9072"/>
                  <a:pt x="10870" y="8928"/>
                  <a:pt x="11013" y="8880"/>
                </a:cubicBezTo>
                <a:cubicBezTo>
                  <a:pt x="11105" y="8880"/>
                  <a:pt x="11132" y="8878"/>
                  <a:pt x="11187" y="8905"/>
                </a:cubicBezTo>
              </a:path>
              <a:path w="2407" h="522">
                <a:moveTo>
                  <a:pt x="11361" y="9004"/>
                </a:moveTo>
                <a:cubicBezTo>
                  <a:pt x="11456" y="8970"/>
                  <a:pt x="11467" y="8972"/>
                  <a:pt x="11534" y="8905"/>
                </a:cubicBezTo>
                <a:cubicBezTo>
                  <a:pt x="11441" y="8792"/>
                  <a:pt x="11299" y="8911"/>
                  <a:pt x="11237" y="9029"/>
                </a:cubicBezTo>
                <a:cubicBezTo>
                  <a:pt x="11075" y="9339"/>
                  <a:pt x="11502" y="9171"/>
                  <a:pt x="11584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2894040"/>
            <a:ext cx="3741840" cy="455760"/>
          </a:xfrm>
          <a:custGeom>
            <a:avLst/>
            <a:gdLst/>
            <a:ahLst/>
            <a:rect l="l" t="t" r="r" b="b"/>
            <a:pathLst>
              <a:path w="10394" h="1266">
                <a:moveTo>
                  <a:pt x="12576" y="8830"/>
                </a:moveTo>
                <a:cubicBezTo>
                  <a:pt x="12478" y="8830"/>
                  <a:pt x="12409" y="8883"/>
                  <a:pt x="12328" y="8930"/>
                </a:cubicBezTo>
                <a:cubicBezTo>
                  <a:pt x="12371" y="8993"/>
                  <a:pt x="12668" y="9025"/>
                  <a:pt x="12774" y="9054"/>
                </a:cubicBezTo>
                <a:cubicBezTo>
                  <a:pt x="12700" y="9153"/>
                  <a:pt x="12457" y="9325"/>
                  <a:pt x="12303" y="9227"/>
                </a:cubicBezTo>
                <a:cubicBezTo>
                  <a:pt x="12303" y="9202"/>
                  <a:pt x="12303" y="9178"/>
                  <a:pt x="12303" y="9153"/>
                </a:cubicBezTo>
              </a:path>
              <a:path w="10394" h="1266">
                <a:moveTo>
                  <a:pt x="12898" y="8930"/>
                </a:moveTo>
                <a:cubicBezTo>
                  <a:pt x="12934" y="9020"/>
                  <a:pt x="12951" y="9025"/>
                  <a:pt x="12948" y="9079"/>
                </a:cubicBezTo>
              </a:path>
              <a:path w="10394" h="1266">
                <a:moveTo>
                  <a:pt x="12824" y="8706"/>
                </a:moveTo>
                <a:cubicBezTo>
                  <a:pt x="12832" y="8706"/>
                  <a:pt x="12841" y="8706"/>
                  <a:pt x="12849" y="8706"/>
                </a:cubicBezTo>
              </a:path>
              <a:path w="10394" h="1266">
                <a:moveTo>
                  <a:pt x="12849" y="8706"/>
                </a:moveTo>
                <a:lnTo>
                  <a:pt x="12849" y="8706"/>
                </a:lnTo>
              </a:path>
              <a:path w="10394" h="1266">
                <a:moveTo>
                  <a:pt x="13469" y="8880"/>
                </a:moveTo>
                <a:cubicBezTo>
                  <a:pt x="13377" y="8779"/>
                  <a:pt x="13176" y="8675"/>
                  <a:pt x="13122" y="8905"/>
                </a:cubicBezTo>
                <a:cubicBezTo>
                  <a:pt x="13043" y="9242"/>
                  <a:pt x="13375" y="9011"/>
                  <a:pt x="13444" y="8905"/>
                </a:cubicBezTo>
              </a:path>
              <a:path w="10394" h="1266">
                <a:moveTo>
                  <a:pt x="13295" y="8483"/>
                </a:moveTo>
                <a:cubicBezTo>
                  <a:pt x="13415" y="8603"/>
                  <a:pt x="13494" y="8811"/>
                  <a:pt x="13568" y="8979"/>
                </a:cubicBezTo>
                <a:cubicBezTo>
                  <a:pt x="13576" y="8996"/>
                  <a:pt x="13585" y="9012"/>
                  <a:pt x="13593" y="9029"/>
                </a:cubicBezTo>
              </a:path>
              <a:path w="10394" h="1266">
                <a:moveTo>
                  <a:pt x="13742" y="8855"/>
                </a:moveTo>
                <a:cubicBezTo>
                  <a:pt x="13826" y="8819"/>
                  <a:pt x="13906" y="8790"/>
                  <a:pt x="13990" y="8756"/>
                </a:cubicBezTo>
                <a:cubicBezTo>
                  <a:pt x="13946" y="8683"/>
                  <a:pt x="13790" y="8623"/>
                  <a:pt x="13717" y="8731"/>
                </a:cubicBezTo>
                <a:cubicBezTo>
                  <a:pt x="13533" y="9002"/>
                  <a:pt x="13931" y="8971"/>
                  <a:pt x="14039" y="8954"/>
                </a:cubicBezTo>
              </a:path>
              <a:path w="10394" h="1266">
                <a:moveTo>
                  <a:pt x="14337" y="8607"/>
                </a:moveTo>
                <a:cubicBezTo>
                  <a:pt x="14244" y="8654"/>
                  <a:pt x="14217" y="8667"/>
                  <a:pt x="14163" y="8706"/>
                </a:cubicBezTo>
                <a:cubicBezTo>
                  <a:pt x="14221" y="8821"/>
                  <a:pt x="14401" y="8712"/>
                  <a:pt x="14511" y="8830"/>
                </a:cubicBezTo>
                <a:cubicBezTo>
                  <a:pt x="14725" y="9061"/>
                  <a:pt x="14204" y="8968"/>
                  <a:pt x="14163" y="8954"/>
                </a:cubicBezTo>
              </a:path>
              <a:path w="10394" h="1266">
                <a:moveTo>
                  <a:pt x="15081" y="8260"/>
                </a:moveTo>
                <a:cubicBezTo>
                  <a:pt x="15010" y="8439"/>
                  <a:pt x="14865" y="8667"/>
                  <a:pt x="14858" y="8880"/>
                </a:cubicBezTo>
                <a:cubicBezTo>
                  <a:pt x="14855" y="8974"/>
                  <a:pt x="14993" y="9296"/>
                  <a:pt x="15156" y="9203"/>
                </a:cubicBezTo>
                <a:cubicBezTo>
                  <a:pt x="15156" y="9195"/>
                  <a:pt x="15156" y="9186"/>
                  <a:pt x="15156" y="9178"/>
                </a:cubicBezTo>
              </a:path>
              <a:path w="10394" h="1266">
                <a:moveTo>
                  <a:pt x="15404" y="8558"/>
                </a:moveTo>
                <a:cubicBezTo>
                  <a:pt x="15246" y="8582"/>
                  <a:pt x="15215" y="8588"/>
                  <a:pt x="15106" y="8706"/>
                </a:cubicBezTo>
                <a:cubicBezTo>
                  <a:pt x="15259" y="8745"/>
                  <a:pt x="15413" y="8761"/>
                  <a:pt x="15553" y="8830"/>
                </a:cubicBezTo>
                <a:cubicBezTo>
                  <a:pt x="15399" y="8943"/>
                  <a:pt x="15278" y="9019"/>
                  <a:pt x="15180" y="8855"/>
                </a:cubicBezTo>
              </a:path>
              <a:path w="10394" h="1266">
                <a:moveTo>
                  <a:pt x="15751" y="8657"/>
                </a:moveTo>
                <a:cubicBezTo>
                  <a:pt x="15855" y="8657"/>
                  <a:pt x="15947" y="8647"/>
                  <a:pt x="16049" y="8632"/>
                </a:cubicBezTo>
                <a:cubicBezTo>
                  <a:pt x="15950" y="8583"/>
                  <a:pt x="15881" y="8464"/>
                  <a:pt x="15751" y="8582"/>
                </a:cubicBezTo>
                <a:cubicBezTo>
                  <a:pt x="15455" y="8851"/>
                  <a:pt x="15913" y="8880"/>
                  <a:pt x="16049" y="8880"/>
                </a:cubicBezTo>
              </a:path>
              <a:path w="10394" h="1266">
                <a:moveTo>
                  <a:pt x="16421" y="8533"/>
                </a:moveTo>
                <a:cubicBezTo>
                  <a:pt x="16347" y="8538"/>
                  <a:pt x="15963" y="8727"/>
                  <a:pt x="16197" y="8830"/>
                </a:cubicBezTo>
                <a:cubicBezTo>
                  <a:pt x="16379" y="8910"/>
                  <a:pt x="16434" y="8765"/>
                  <a:pt x="16470" y="8657"/>
                </a:cubicBezTo>
                <a:cubicBezTo>
                  <a:pt x="16470" y="8665"/>
                  <a:pt x="16470" y="8674"/>
                  <a:pt x="16470" y="8682"/>
                </a:cubicBezTo>
                <a:cubicBezTo>
                  <a:pt x="16568" y="8869"/>
                  <a:pt x="16752" y="9144"/>
                  <a:pt x="16470" y="9277"/>
                </a:cubicBezTo>
                <a:cubicBezTo>
                  <a:pt x="16289" y="9303"/>
                  <a:pt x="16224" y="9307"/>
                  <a:pt x="16123" y="9203"/>
                </a:cubicBezTo>
              </a:path>
              <a:path w="10394" h="1266">
                <a:moveTo>
                  <a:pt x="16570" y="8483"/>
                </a:moveTo>
                <a:cubicBezTo>
                  <a:pt x="16634" y="8575"/>
                  <a:pt x="16672" y="8678"/>
                  <a:pt x="16718" y="8781"/>
                </a:cubicBezTo>
                <a:cubicBezTo>
                  <a:pt x="16670" y="8713"/>
                  <a:pt x="16569" y="8496"/>
                  <a:pt x="16768" y="8533"/>
                </a:cubicBezTo>
                <a:cubicBezTo>
                  <a:pt x="16893" y="8556"/>
                  <a:pt x="17089" y="8767"/>
                  <a:pt x="17016" y="8806"/>
                </a:cubicBezTo>
                <a:cubicBezTo>
                  <a:pt x="17026" y="8637"/>
                  <a:pt x="17019" y="8635"/>
                  <a:pt x="17140" y="8533"/>
                </a:cubicBezTo>
                <a:cubicBezTo>
                  <a:pt x="17266" y="8641"/>
                  <a:pt x="17314" y="8699"/>
                  <a:pt x="17314" y="8880"/>
                </a:cubicBezTo>
              </a:path>
              <a:path w="10394" h="1266">
                <a:moveTo>
                  <a:pt x="17512" y="8607"/>
                </a:moveTo>
                <a:cubicBezTo>
                  <a:pt x="17575" y="8607"/>
                  <a:pt x="17644" y="8633"/>
                  <a:pt x="17661" y="8582"/>
                </a:cubicBezTo>
                <a:cubicBezTo>
                  <a:pt x="17649" y="8490"/>
                  <a:pt x="17558" y="8374"/>
                  <a:pt x="17487" y="8533"/>
                </a:cubicBezTo>
                <a:cubicBezTo>
                  <a:pt x="17463" y="8674"/>
                  <a:pt x="17453" y="8716"/>
                  <a:pt x="17487" y="8806"/>
                </a:cubicBezTo>
                <a:cubicBezTo>
                  <a:pt x="17749" y="8834"/>
                  <a:pt x="17764" y="8752"/>
                  <a:pt x="17934" y="8582"/>
                </a:cubicBezTo>
                <a:cubicBezTo>
                  <a:pt x="17951" y="8565"/>
                  <a:pt x="17912" y="8725"/>
                  <a:pt x="17909" y="8781"/>
                </a:cubicBezTo>
                <a:cubicBezTo>
                  <a:pt x="17909" y="8814"/>
                  <a:pt x="17909" y="8814"/>
                  <a:pt x="17909" y="8756"/>
                </a:cubicBezTo>
                <a:cubicBezTo>
                  <a:pt x="17926" y="8600"/>
                  <a:pt x="17907" y="8589"/>
                  <a:pt x="18033" y="8508"/>
                </a:cubicBezTo>
                <a:cubicBezTo>
                  <a:pt x="18160" y="8576"/>
                  <a:pt x="18240" y="8644"/>
                  <a:pt x="18256" y="8806"/>
                </a:cubicBezTo>
                <a:cubicBezTo>
                  <a:pt x="18256" y="8863"/>
                  <a:pt x="18256" y="8871"/>
                  <a:pt x="18256" y="8781"/>
                </a:cubicBezTo>
              </a:path>
              <a:path w="10394" h="1266">
                <a:moveTo>
                  <a:pt x="18405" y="8161"/>
                </a:moveTo>
                <a:cubicBezTo>
                  <a:pt x="18461" y="8385"/>
                  <a:pt x="18579" y="9061"/>
                  <a:pt x="18579" y="8830"/>
                </a:cubicBezTo>
                <a:cubicBezTo>
                  <a:pt x="18571" y="8797"/>
                  <a:pt x="18562" y="8764"/>
                  <a:pt x="18554" y="8731"/>
                </a:cubicBezTo>
              </a:path>
              <a:path w="10394" h="1266">
                <a:moveTo>
                  <a:pt x="18207" y="8483"/>
                </a:moveTo>
                <a:cubicBezTo>
                  <a:pt x="18391" y="8483"/>
                  <a:pt x="18573" y="8492"/>
                  <a:pt x="18752" y="8458"/>
                </a:cubicBezTo>
              </a:path>
              <a:path w="10394" h="1266">
                <a:moveTo>
                  <a:pt x="18976" y="8434"/>
                </a:moveTo>
                <a:cubicBezTo>
                  <a:pt x="18902" y="8460"/>
                  <a:pt x="18864" y="8483"/>
                  <a:pt x="18802" y="8508"/>
                </a:cubicBezTo>
                <a:cubicBezTo>
                  <a:pt x="18967" y="8581"/>
                  <a:pt x="19101" y="8610"/>
                  <a:pt x="19199" y="8756"/>
                </a:cubicBezTo>
                <a:cubicBezTo>
                  <a:pt x="19011" y="8819"/>
                  <a:pt x="19023" y="8824"/>
                  <a:pt x="18876" y="8706"/>
                </a:cubicBezTo>
              </a:path>
              <a:path w="10394" h="1266">
                <a:moveTo>
                  <a:pt x="19149" y="8161"/>
                </a:moveTo>
                <a:cubicBezTo>
                  <a:pt x="19342" y="8362"/>
                  <a:pt x="19564" y="8599"/>
                  <a:pt x="19397" y="8905"/>
                </a:cubicBezTo>
                <a:cubicBezTo>
                  <a:pt x="19285" y="9017"/>
                  <a:pt x="19261" y="9058"/>
                  <a:pt x="19149" y="9029"/>
                </a:cubicBezTo>
              </a:path>
              <a:path w="10394" h="1266">
                <a:moveTo>
                  <a:pt x="19695" y="8434"/>
                </a:moveTo>
                <a:cubicBezTo>
                  <a:pt x="19695" y="8465"/>
                  <a:pt x="19710" y="8791"/>
                  <a:pt x="19670" y="8781"/>
                </a:cubicBezTo>
                <a:cubicBezTo>
                  <a:pt x="19662" y="8764"/>
                  <a:pt x="19653" y="8748"/>
                  <a:pt x="19645" y="8731"/>
                </a:cubicBezTo>
                <a:cubicBezTo>
                  <a:pt x="19660" y="8589"/>
                  <a:pt x="19729" y="8312"/>
                  <a:pt x="19943" y="8483"/>
                </a:cubicBezTo>
                <a:cubicBezTo>
                  <a:pt x="20008" y="8535"/>
                  <a:pt x="20049" y="8682"/>
                  <a:pt x="20067" y="8756"/>
                </a:cubicBezTo>
                <a:cubicBezTo>
                  <a:pt x="20067" y="8645"/>
                  <a:pt x="20042" y="8545"/>
                  <a:pt x="20141" y="8458"/>
                </a:cubicBezTo>
                <a:cubicBezTo>
                  <a:pt x="20368" y="8258"/>
                  <a:pt x="20478" y="8540"/>
                  <a:pt x="20513" y="8706"/>
                </a:cubicBezTo>
                <a:cubicBezTo>
                  <a:pt x="20513" y="8714"/>
                  <a:pt x="20513" y="8723"/>
                  <a:pt x="20513" y="8731"/>
                </a:cubicBezTo>
              </a:path>
              <a:path w="10394" h="1266">
                <a:moveTo>
                  <a:pt x="20786" y="8508"/>
                </a:moveTo>
                <a:cubicBezTo>
                  <a:pt x="20887" y="8500"/>
                  <a:pt x="20981" y="8483"/>
                  <a:pt x="21084" y="8483"/>
                </a:cubicBezTo>
                <a:cubicBezTo>
                  <a:pt x="21020" y="8403"/>
                  <a:pt x="20998" y="8367"/>
                  <a:pt x="20886" y="8409"/>
                </a:cubicBezTo>
                <a:cubicBezTo>
                  <a:pt x="20699" y="8478"/>
                  <a:pt x="20624" y="8704"/>
                  <a:pt x="20861" y="8781"/>
                </a:cubicBezTo>
                <a:cubicBezTo>
                  <a:pt x="20997" y="8781"/>
                  <a:pt x="21036" y="8787"/>
                  <a:pt x="21109" y="8731"/>
                </a:cubicBezTo>
              </a:path>
              <a:path w="10394" h="1266">
                <a:moveTo>
                  <a:pt x="21357" y="8483"/>
                </a:moveTo>
                <a:cubicBezTo>
                  <a:pt x="21454" y="8461"/>
                  <a:pt x="21544" y="8440"/>
                  <a:pt x="21630" y="8458"/>
                </a:cubicBezTo>
                <a:cubicBezTo>
                  <a:pt x="21599" y="8397"/>
                  <a:pt x="21465" y="8324"/>
                  <a:pt x="21382" y="8359"/>
                </a:cubicBezTo>
                <a:cubicBezTo>
                  <a:pt x="21197" y="8437"/>
                  <a:pt x="21280" y="8709"/>
                  <a:pt x="21456" y="8731"/>
                </a:cubicBezTo>
                <a:cubicBezTo>
                  <a:pt x="21603" y="8706"/>
                  <a:pt x="21651" y="8699"/>
                  <a:pt x="21729" y="8632"/>
                </a:cubicBezTo>
              </a:path>
              <a:path w="10394" h="1266">
                <a:moveTo>
                  <a:pt x="21927" y="8037"/>
                </a:moveTo>
                <a:cubicBezTo>
                  <a:pt x="22005" y="8202"/>
                  <a:pt x="21979" y="8393"/>
                  <a:pt x="22051" y="8558"/>
                </a:cubicBezTo>
                <a:cubicBezTo>
                  <a:pt x="22097" y="8663"/>
                  <a:pt x="22298" y="8688"/>
                  <a:pt x="22374" y="8607"/>
                </a:cubicBezTo>
                <a:cubicBezTo>
                  <a:pt x="22374" y="8591"/>
                  <a:pt x="22374" y="8574"/>
                  <a:pt x="22374" y="8558"/>
                </a:cubicBezTo>
              </a:path>
              <a:path w="10394" h="1266">
                <a:moveTo>
                  <a:pt x="21779" y="8384"/>
                </a:moveTo>
                <a:cubicBezTo>
                  <a:pt x="21927" y="8326"/>
                  <a:pt x="22114" y="8275"/>
                  <a:pt x="22275" y="8285"/>
                </a:cubicBezTo>
                <a:cubicBezTo>
                  <a:pt x="22332" y="8304"/>
                  <a:pt x="22339" y="8313"/>
                  <a:pt x="22374" y="8310"/>
                </a:cubicBezTo>
              </a:path>
              <a:path w="10394" h="1266">
                <a:moveTo>
                  <a:pt x="22671" y="8582"/>
                </a:moveTo>
                <a:cubicBezTo>
                  <a:pt x="22679" y="8590"/>
                  <a:pt x="22688" y="8599"/>
                  <a:pt x="22696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3120" y="5027760"/>
            <a:ext cx="88920" cy="442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14064" y="14089"/>
                </a:moveTo>
                <a:cubicBezTo>
                  <a:pt x="14005" y="14016"/>
                  <a:pt x="13998" y="13969"/>
                  <a:pt x="13891" y="14015"/>
                </a:cubicBezTo>
                <a:cubicBezTo>
                  <a:pt x="13883" y="14023"/>
                  <a:pt x="13874" y="14031"/>
                  <a:pt x="13866" y="14039"/>
                </a:cubicBezTo>
                <a:cubicBezTo>
                  <a:pt x="13865" y="14124"/>
                  <a:pt x="13977" y="14121"/>
                  <a:pt x="14039" y="14039"/>
                </a:cubicBezTo>
                <a:cubicBezTo>
                  <a:pt x="14059" y="13999"/>
                  <a:pt x="14068" y="13993"/>
                  <a:pt x="14064" y="13965"/>
                </a:cubicBezTo>
                <a:cubicBezTo>
                  <a:pt x="13965" y="13985"/>
                  <a:pt x="13987" y="13972"/>
                  <a:pt x="13940" y="14064"/>
                </a:cubicBezTo>
                <a:cubicBezTo>
                  <a:pt x="13998" y="14077"/>
                  <a:pt x="14177" y="14005"/>
                  <a:pt x="14064" y="13965"/>
                </a:cubicBezTo>
                <a:cubicBezTo>
                  <a:pt x="13967" y="13931"/>
                  <a:pt x="13963" y="14057"/>
                  <a:pt x="13990" y="14064"/>
                </a:cubicBezTo>
                <a:cubicBezTo>
                  <a:pt x="14023" y="14064"/>
                  <a:pt x="14031" y="14056"/>
                  <a:pt x="14015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4320" y="501804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11485" y="14039"/>
                </a:moveTo>
                <a:cubicBezTo>
                  <a:pt x="11457" y="13985"/>
                  <a:pt x="11405" y="13944"/>
                  <a:pt x="11336" y="13990"/>
                </a:cubicBezTo>
                <a:cubicBezTo>
                  <a:pt x="11311" y="14015"/>
                  <a:pt x="11286" y="14039"/>
                  <a:pt x="11261" y="14064"/>
                </a:cubicBezTo>
                <a:cubicBezTo>
                  <a:pt x="11314" y="14096"/>
                  <a:pt x="11485" y="14079"/>
                  <a:pt x="11485" y="13990"/>
                </a:cubicBezTo>
                <a:cubicBezTo>
                  <a:pt x="11485" y="13851"/>
                  <a:pt x="11304" y="14024"/>
                  <a:pt x="11286" y="14064"/>
                </a:cubicBezTo>
                <a:cubicBezTo>
                  <a:pt x="11361" y="14089"/>
                  <a:pt x="11522" y="14095"/>
                  <a:pt x="11435" y="13965"/>
                </a:cubicBezTo>
                <a:cubicBezTo>
                  <a:pt x="11410" y="13965"/>
                  <a:pt x="11402" y="13965"/>
                  <a:pt x="1138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76760" y="4187880"/>
            <a:ext cx="73080" cy="6336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0691" y="11658"/>
                </a:moveTo>
                <a:cubicBezTo>
                  <a:pt x="10681" y="11655"/>
                  <a:pt x="10621" y="11599"/>
                  <a:pt x="10592" y="11633"/>
                </a:cubicBezTo>
                <a:cubicBezTo>
                  <a:pt x="10523" y="11715"/>
                  <a:pt x="10555" y="11899"/>
                  <a:pt x="10666" y="11782"/>
                </a:cubicBezTo>
                <a:cubicBezTo>
                  <a:pt x="10689" y="11715"/>
                  <a:pt x="10700" y="11697"/>
                  <a:pt x="10666" y="11658"/>
                </a:cubicBezTo>
                <a:cubicBezTo>
                  <a:pt x="10629" y="11658"/>
                  <a:pt x="10400" y="11677"/>
                  <a:pt x="10517" y="11757"/>
                </a:cubicBezTo>
                <a:cubicBezTo>
                  <a:pt x="10633" y="11836"/>
                  <a:pt x="10646" y="11731"/>
                  <a:pt x="10666" y="11658"/>
                </a:cubicBezTo>
                <a:cubicBezTo>
                  <a:pt x="10563" y="11675"/>
                  <a:pt x="10591" y="11675"/>
                  <a:pt x="10542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6240" y="4170240"/>
            <a:ext cx="81000" cy="61920"/>
          </a:xfrm>
          <a:custGeom>
            <a:avLst/>
            <a:gdLst/>
            <a:ahLst/>
            <a:rect l="l" t="t" r="r" b="b"/>
            <a:pathLst>
              <a:path w="225" h="174">
                <a:moveTo>
                  <a:pt x="14883" y="11658"/>
                </a:moveTo>
                <a:cubicBezTo>
                  <a:pt x="14924" y="11644"/>
                  <a:pt x="14902" y="11593"/>
                  <a:pt x="14858" y="11584"/>
                </a:cubicBezTo>
                <a:cubicBezTo>
                  <a:pt x="14812" y="11574"/>
                  <a:pt x="14622" y="11681"/>
                  <a:pt x="14684" y="11733"/>
                </a:cubicBezTo>
                <a:cubicBezTo>
                  <a:pt x="14750" y="11787"/>
                  <a:pt x="14806" y="11743"/>
                  <a:pt x="14858" y="11708"/>
                </a:cubicBezTo>
                <a:cubicBezTo>
                  <a:pt x="14858" y="11560"/>
                  <a:pt x="14718" y="11604"/>
                  <a:pt x="14734" y="11708"/>
                </a:cubicBezTo>
                <a:cubicBezTo>
                  <a:pt x="14774" y="11748"/>
                  <a:pt x="14804" y="11756"/>
                  <a:pt x="14858" y="11733"/>
                </a:cubicBezTo>
                <a:cubicBezTo>
                  <a:pt x="14892" y="11699"/>
                  <a:pt x="14901" y="11677"/>
                  <a:pt x="14883" y="11633"/>
                </a:cubicBezTo>
                <a:cubicBezTo>
                  <a:pt x="14843" y="11627"/>
                  <a:pt x="14725" y="11693"/>
                  <a:pt x="14808" y="11708"/>
                </a:cubicBezTo>
                <a:cubicBezTo>
                  <a:pt x="14992" y="11740"/>
                  <a:pt x="14894" y="11667"/>
                  <a:pt x="14833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6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continued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0fb2"/>
                </a:solidFill>
                <a:latin typeface="Arial"/>
              </a:rPr>
              <a:t>Diagonal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segment, other than a side, that connects two vertices of a polyg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505320"/>
            <a:ext cx="1905120" cy="1600200"/>
          </a:xfrm>
          <a:prstGeom prst="pentagon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114800"/>
            <a:ext cx="19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038480"/>
            <a:ext cx="1523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9800" y="1482840"/>
            <a:ext cx="56340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5131" y="4341"/>
                </a:moveTo>
                <a:cubicBezTo>
                  <a:pt x="15083" y="4437"/>
                  <a:pt x="15126" y="4593"/>
                  <a:pt x="15081" y="4688"/>
                </a:cubicBezTo>
                <a:cubicBezTo>
                  <a:pt x="15073" y="4680"/>
                  <a:pt x="15064" y="4671"/>
                  <a:pt x="15056" y="4663"/>
                </a:cubicBezTo>
                <a:cubicBezTo>
                  <a:pt x="15073" y="4507"/>
                  <a:pt x="15075" y="4258"/>
                  <a:pt x="15280" y="4242"/>
                </a:cubicBezTo>
                <a:cubicBezTo>
                  <a:pt x="15495" y="4226"/>
                  <a:pt x="15543" y="4528"/>
                  <a:pt x="15528" y="4688"/>
                </a:cubicBezTo>
                <a:cubicBezTo>
                  <a:pt x="15498" y="4748"/>
                  <a:pt x="15499" y="4758"/>
                  <a:pt x="15577" y="4688"/>
                </a:cubicBezTo>
              </a:path>
              <a:path w="1564" h="670">
                <a:moveTo>
                  <a:pt x="15850" y="4366"/>
                </a:moveTo>
                <a:cubicBezTo>
                  <a:pt x="15731" y="4403"/>
                  <a:pt x="15533" y="4544"/>
                  <a:pt x="15652" y="4713"/>
                </a:cubicBezTo>
                <a:cubicBezTo>
                  <a:pt x="15778" y="4892"/>
                  <a:pt x="15997" y="4665"/>
                  <a:pt x="15974" y="4514"/>
                </a:cubicBezTo>
                <a:cubicBezTo>
                  <a:pt x="15963" y="4443"/>
                  <a:pt x="15914" y="4421"/>
                  <a:pt x="15900" y="4366"/>
                </a:cubicBezTo>
              </a:path>
              <a:path w="1564" h="670">
                <a:moveTo>
                  <a:pt x="16297" y="4118"/>
                </a:moveTo>
                <a:cubicBezTo>
                  <a:pt x="16266" y="4330"/>
                  <a:pt x="16290" y="4525"/>
                  <a:pt x="16297" y="4738"/>
                </a:cubicBezTo>
                <a:cubicBezTo>
                  <a:pt x="16297" y="4787"/>
                  <a:pt x="16297" y="4803"/>
                  <a:pt x="16297" y="4738"/>
                </a:cubicBezTo>
              </a:path>
              <a:path w="1564" h="670">
                <a:moveTo>
                  <a:pt x="15999" y="4366"/>
                </a:moveTo>
                <a:cubicBezTo>
                  <a:pt x="16179" y="4385"/>
                  <a:pt x="16380" y="4394"/>
                  <a:pt x="16545" y="4415"/>
                </a:cubicBezTo>
                <a:cubicBezTo>
                  <a:pt x="16570" y="4415"/>
                  <a:pt x="16594" y="4415"/>
                  <a:pt x="16619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1446120"/>
            <a:ext cx="1036800" cy="277920"/>
          </a:xfrm>
          <a:custGeom>
            <a:avLst/>
            <a:gdLst/>
            <a:ahLst/>
            <a:rect l="l" t="t" r="r" b="b"/>
            <a:pathLst>
              <a:path w="2878" h="770">
                <a:moveTo>
                  <a:pt x="18083" y="4564"/>
                </a:moveTo>
                <a:cubicBezTo>
                  <a:pt x="18083" y="4486"/>
                  <a:pt x="18079" y="4354"/>
                  <a:pt x="17959" y="4366"/>
                </a:cubicBezTo>
                <a:cubicBezTo>
                  <a:pt x="17741" y="4387"/>
                  <a:pt x="17742" y="4523"/>
                  <a:pt x="17711" y="4688"/>
                </a:cubicBezTo>
                <a:cubicBezTo>
                  <a:pt x="17945" y="4779"/>
                  <a:pt x="18003" y="4702"/>
                  <a:pt x="18107" y="4465"/>
                </a:cubicBezTo>
                <a:cubicBezTo>
                  <a:pt x="18119" y="4587"/>
                  <a:pt x="18120" y="4823"/>
                  <a:pt x="18306" y="4787"/>
                </a:cubicBezTo>
                <a:cubicBezTo>
                  <a:pt x="18372" y="4754"/>
                  <a:pt x="18438" y="4721"/>
                  <a:pt x="18504" y="4688"/>
                </a:cubicBezTo>
              </a:path>
              <a:path w="2878" h="770">
                <a:moveTo>
                  <a:pt x="19025" y="4316"/>
                </a:moveTo>
                <a:cubicBezTo>
                  <a:pt x="18929" y="4323"/>
                  <a:pt x="18845" y="4339"/>
                  <a:pt x="18752" y="4366"/>
                </a:cubicBezTo>
                <a:cubicBezTo>
                  <a:pt x="18883" y="4409"/>
                  <a:pt x="18999" y="4457"/>
                  <a:pt x="19124" y="4514"/>
                </a:cubicBezTo>
                <a:cubicBezTo>
                  <a:pt x="19093" y="4649"/>
                  <a:pt x="18973" y="4817"/>
                  <a:pt x="18802" y="4688"/>
                </a:cubicBezTo>
                <a:cubicBezTo>
                  <a:pt x="18802" y="4671"/>
                  <a:pt x="18802" y="4655"/>
                  <a:pt x="18802" y="4638"/>
                </a:cubicBezTo>
              </a:path>
              <a:path w="2878" h="770">
                <a:moveTo>
                  <a:pt x="19397" y="4316"/>
                </a:moveTo>
                <a:cubicBezTo>
                  <a:pt x="19403" y="4434"/>
                  <a:pt x="19415" y="4546"/>
                  <a:pt x="19422" y="4663"/>
                </a:cubicBezTo>
              </a:path>
              <a:path w="2878" h="770">
                <a:moveTo>
                  <a:pt x="19422" y="4167"/>
                </a:moveTo>
                <a:lnTo>
                  <a:pt x="19422" y="4167"/>
                </a:lnTo>
                <a:lnTo>
                  <a:pt x="19422" y="4167"/>
                </a:lnTo>
              </a:path>
              <a:path w="2878" h="770">
                <a:moveTo>
                  <a:pt x="19422" y="4167"/>
                </a:moveTo>
                <a:lnTo>
                  <a:pt x="19422" y="4167"/>
                </a:lnTo>
              </a:path>
              <a:path w="2878" h="770">
                <a:moveTo>
                  <a:pt x="20067" y="4390"/>
                </a:moveTo>
                <a:cubicBezTo>
                  <a:pt x="19924" y="4349"/>
                  <a:pt x="19757" y="4366"/>
                  <a:pt x="19670" y="4514"/>
                </a:cubicBezTo>
                <a:cubicBezTo>
                  <a:pt x="19645" y="4638"/>
                  <a:pt x="19636" y="4678"/>
                  <a:pt x="19720" y="4738"/>
                </a:cubicBezTo>
                <a:cubicBezTo>
                  <a:pt x="20015" y="4709"/>
                  <a:pt x="19950" y="4663"/>
                  <a:pt x="20067" y="4366"/>
                </a:cubicBezTo>
              </a:path>
              <a:path w="2878" h="770">
                <a:moveTo>
                  <a:pt x="19993" y="4018"/>
                </a:moveTo>
                <a:cubicBezTo>
                  <a:pt x="20034" y="4203"/>
                  <a:pt x="20047" y="4419"/>
                  <a:pt x="20067" y="4614"/>
                </a:cubicBezTo>
                <a:cubicBezTo>
                  <a:pt x="20067" y="4670"/>
                  <a:pt x="20072" y="4681"/>
                  <a:pt x="20117" y="4614"/>
                </a:cubicBezTo>
              </a:path>
              <a:path w="2878" h="770">
                <a:moveTo>
                  <a:pt x="20389" y="4415"/>
                </a:moveTo>
                <a:cubicBezTo>
                  <a:pt x="20439" y="4415"/>
                  <a:pt x="20488" y="4415"/>
                  <a:pt x="20538" y="4415"/>
                </a:cubicBezTo>
                <a:cubicBezTo>
                  <a:pt x="20538" y="4336"/>
                  <a:pt x="20542" y="4281"/>
                  <a:pt x="20464" y="4242"/>
                </a:cubicBezTo>
                <a:cubicBezTo>
                  <a:pt x="20350" y="4185"/>
                  <a:pt x="20274" y="4461"/>
                  <a:pt x="20265" y="4514"/>
                </a:cubicBezTo>
                <a:cubicBezTo>
                  <a:pt x="20233" y="4694"/>
                  <a:pt x="20491" y="4634"/>
                  <a:pt x="20588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09800" y="2652840"/>
            <a:ext cx="3643200" cy="2455560"/>
          </a:xfrm>
          <a:custGeom>
            <a:avLst/>
            <a:gdLst/>
            <a:ahLst/>
            <a:rect l="l" t="t" r="r" b="b"/>
            <a:pathLst>
              <a:path w="10121" h="6822">
                <a:moveTo>
                  <a:pt x="2803" y="7466"/>
                </a:moveTo>
                <a:cubicBezTo>
                  <a:pt x="2865" y="7458"/>
                  <a:pt x="2928" y="7450"/>
                  <a:pt x="3001" y="7441"/>
                </a:cubicBezTo>
                <a:cubicBezTo>
                  <a:pt x="3152" y="7423"/>
                  <a:pt x="3275" y="7437"/>
                  <a:pt x="3423" y="7441"/>
                </a:cubicBezTo>
                <a:cubicBezTo>
                  <a:pt x="3788" y="7450"/>
                  <a:pt x="4152" y="7461"/>
                  <a:pt x="4514" y="7466"/>
                </a:cubicBezTo>
                <a:cubicBezTo>
                  <a:pt x="4628" y="7467"/>
                  <a:pt x="4743" y="7461"/>
                  <a:pt x="4862" y="7466"/>
                </a:cubicBezTo>
                <a:cubicBezTo>
                  <a:pt x="5047" y="7473"/>
                  <a:pt x="5244" y="7479"/>
                  <a:pt x="5432" y="7491"/>
                </a:cubicBezTo>
                <a:cubicBezTo>
                  <a:pt x="5534" y="7497"/>
                  <a:pt x="5629" y="7512"/>
                  <a:pt x="5730" y="7516"/>
                </a:cubicBezTo>
                <a:cubicBezTo>
                  <a:pt x="6023" y="7528"/>
                  <a:pt x="6333" y="7556"/>
                  <a:pt x="6623" y="7541"/>
                </a:cubicBezTo>
                <a:cubicBezTo>
                  <a:pt x="6757" y="7534"/>
                  <a:pt x="6890" y="7499"/>
                  <a:pt x="7020" y="7491"/>
                </a:cubicBezTo>
                <a:cubicBezTo>
                  <a:pt x="7162" y="7483"/>
                  <a:pt x="7300" y="7479"/>
                  <a:pt x="7441" y="7466"/>
                </a:cubicBezTo>
                <a:cubicBezTo>
                  <a:pt x="7600" y="7452"/>
                  <a:pt x="7754" y="7426"/>
                  <a:pt x="7913" y="7417"/>
                </a:cubicBezTo>
                <a:cubicBezTo>
                  <a:pt x="8104" y="7406"/>
                  <a:pt x="8294" y="7401"/>
                  <a:pt x="8483" y="7392"/>
                </a:cubicBezTo>
                <a:cubicBezTo>
                  <a:pt x="8603" y="7387"/>
                  <a:pt x="8712" y="7372"/>
                  <a:pt x="8830" y="7367"/>
                </a:cubicBezTo>
                <a:cubicBezTo>
                  <a:pt x="9378" y="7344"/>
                  <a:pt x="9924" y="7392"/>
                  <a:pt x="10468" y="7392"/>
                </a:cubicBezTo>
                <a:cubicBezTo>
                  <a:pt x="10637" y="7392"/>
                  <a:pt x="10798" y="7374"/>
                  <a:pt x="10964" y="7367"/>
                </a:cubicBezTo>
                <a:cubicBezTo>
                  <a:pt x="11541" y="7344"/>
                  <a:pt x="12169" y="7412"/>
                  <a:pt x="12725" y="7392"/>
                </a:cubicBezTo>
                <a:cubicBezTo>
                  <a:pt x="12771" y="7390"/>
                  <a:pt x="12805" y="7367"/>
                  <a:pt x="12849" y="7367"/>
                </a:cubicBezTo>
                <a:cubicBezTo>
                  <a:pt x="12873" y="7367"/>
                  <a:pt x="12899" y="7369"/>
                  <a:pt x="12923" y="7367"/>
                </a:cubicBezTo>
              </a:path>
              <a:path w="10121" h="6822">
                <a:moveTo>
                  <a:pt x="9971" y="9947"/>
                </a:moveTo>
                <a:cubicBezTo>
                  <a:pt x="9968" y="9899"/>
                  <a:pt x="9953" y="9859"/>
                  <a:pt x="9947" y="9823"/>
                </a:cubicBezTo>
                <a:cubicBezTo>
                  <a:pt x="9947" y="9815"/>
                  <a:pt x="9947" y="9806"/>
                  <a:pt x="9947" y="9798"/>
                </a:cubicBezTo>
                <a:cubicBezTo>
                  <a:pt x="9911" y="9912"/>
                  <a:pt x="9882" y="10030"/>
                  <a:pt x="9847" y="10145"/>
                </a:cubicBezTo>
                <a:cubicBezTo>
                  <a:pt x="9822" y="10229"/>
                  <a:pt x="9777" y="10291"/>
                  <a:pt x="9748" y="10368"/>
                </a:cubicBezTo>
                <a:cubicBezTo>
                  <a:pt x="9705" y="10484"/>
                  <a:pt x="9669" y="10603"/>
                  <a:pt x="9624" y="10716"/>
                </a:cubicBezTo>
                <a:cubicBezTo>
                  <a:pt x="9589" y="10805"/>
                  <a:pt x="9554" y="10897"/>
                  <a:pt x="9525" y="10988"/>
                </a:cubicBezTo>
                <a:cubicBezTo>
                  <a:pt x="9498" y="11074"/>
                  <a:pt x="9484" y="11176"/>
                  <a:pt x="9451" y="11261"/>
                </a:cubicBezTo>
                <a:cubicBezTo>
                  <a:pt x="9390" y="11416"/>
                  <a:pt x="9344" y="11571"/>
                  <a:pt x="9302" y="11733"/>
                </a:cubicBezTo>
                <a:cubicBezTo>
                  <a:pt x="9281" y="11816"/>
                  <a:pt x="9251" y="11902"/>
                  <a:pt x="9227" y="11981"/>
                </a:cubicBezTo>
                <a:cubicBezTo>
                  <a:pt x="9165" y="12181"/>
                  <a:pt x="9097" y="12380"/>
                  <a:pt x="9029" y="12576"/>
                </a:cubicBezTo>
                <a:cubicBezTo>
                  <a:pt x="8982" y="12711"/>
                  <a:pt x="8931" y="12844"/>
                  <a:pt x="8880" y="12973"/>
                </a:cubicBezTo>
                <a:cubicBezTo>
                  <a:pt x="8837" y="13081"/>
                  <a:pt x="8828" y="13184"/>
                  <a:pt x="8806" y="13295"/>
                </a:cubicBezTo>
                <a:cubicBezTo>
                  <a:pt x="8785" y="13399"/>
                  <a:pt x="8731" y="13493"/>
                  <a:pt x="8706" y="13593"/>
                </a:cubicBezTo>
                <a:cubicBezTo>
                  <a:pt x="8682" y="13689"/>
                  <a:pt x="8656" y="13792"/>
                  <a:pt x="8632" y="13891"/>
                </a:cubicBezTo>
                <a:cubicBezTo>
                  <a:pt x="8617" y="13952"/>
                  <a:pt x="8569" y="14034"/>
                  <a:pt x="8558" y="14089"/>
                </a:cubicBezTo>
                <a:cubicBezTo>
                  <a:pt x="8550" y="14129"/>
                  <a:pt x="8533" y="14147"/>
                  <a:pt x="8533" y="14188"/>
                </a:cubicBezTo>
                <a:cubicBezTo>
                  <a:pt x="8541" y="14188"/>
                  <a:pt x="8550" y="14188"/>
                  <a:pt x="8558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0920" y="3170160"/>
            <a:ext cx="3645000" cy="2152800"/>
          </a:xfrm>
          <a:custGeom>
            <a:avLst/>
            <a:gdLst/>
            <a:ahLst/>
            <a:rect l="l" t="t" r="r" b="b"/>
            <a:pathLst>
              <a:path w="10122" h="5979">
                <a:moveTo>
                  <a:pt x="7392" y="11435"/>
                </a:moveTo>
                <a:cubicBezTo>
                  <a:pt x="7387" y="11421"/>
                  <a:pt x="7322" y="11377"/>
                  <a:pt x="7293" y="11385"/>
                </a:cubicBezTo>
                <a:cubicBezTo>
                  <a:pt x="7239" y="11401"/>
                  <a:pt x="7192" y="11509"/>
                  <a:pt x="7243" y="11534"/>
                </a:cubicBezTo>
                <a:cubicBezTo>
                  <a:pt x="7295" y="11534"/>
                  <a:pt x="7313" y="11533"/>
                  <a:pt x="7342" y="11509"/>
                </a:cubicBezTo>
                <a:cubicBezTo>
                  <a:pt x="7401" y="11421"/>
                  <a:pt x="7420" y="11400"/>
                  <a:pt x="7342" y="11336"/>
                </a:cubicBezTo>
                <a:cubicBezTo>
                  <a:pt x="7270" y="11277"/>
                  <a:pt x="7189" y="11390"/>
                  <a:pt x="7169" y="11460"/>
                </a:cubicBezTo>
                <a:cubicBezTo>
                  <a:pt x="7145" y="11545"/>
                  <a:pt x="7254" y="11513"/>
                  <a:pt x="7293" y="11485"/>
                </a:cubicBezTo>
                <a:cubicBezTo>
                  <a:pt x="7369" y="11430"/>
                  <a:pt x="7330" y="11411"/>
                  <a:pt x="7317" y="11336"/>
                </a:cubicBezTo>
                <a:cubicBezTo>
                  <a:pt x="7240" y="11302"/>
                  <a:pt x="7169" y="11324"/>
                  <a:pt x="7169" y="11435"/>
                </a:cubicBezTo>
                <a:cubicBezTo>
                  <a:pt x="7169" y="11536"/>
                  <a:pt x="7262" y="11574"/>
                  <a:pt x="7317" y="11485"/>
                </a:cubicBezTo>
                <a:cubicBezTo>
                  <a:pt x="7339" y="11420"/>
                  <a:pt x="7347" y="11405"/>
                  <a:pt x="7342" y="11361"/>
                </a:cubicBezTo>
                <a:cubicBezTo>
                  <a:pt x="7273" y="11319"/>
                  <a:pt x="7225" y="11343"/>
                  <a:pt x="7193" y="11435"/>
                </a:cubicBezTo>
                <a:cubicBezTo>
                  <a:pt x="7164" y="11517"/>
                  <a:pt x="7296" y="11509"/>
                  <a:pt x="7317" y="11435"/>
                </a:cubicBezTo>
                <a:cubicBezTo>
                  <a:pt x="7330" y="11388"/>
                  <a:pt x="7273" y="11284"/>
                  <a:pt x="7218" y="11361"/>
                </a:cubicBezTo>
                <a:cubicBezTo>
                  <a:pt x="7154" y="11450"/>
                  <a:pt x="7207" y="11468"/>
                  <a:pt x="7268" y="11485"/>
                </a:cubicBezTo>
                <a:cubicBezTo>
                  <a:pt x="7296" y="11443"/>
                  <a:pt x="7322" y="11262"/>
                  <a:pt x="7268" y="11361"/>
                </a:cubicBezTo>
                <a:cubicBezTo>
                  <a:pt x="7219" y="11452"/>
                  <a:pt x="7312" y="11433"/>
                  <a:pt x="7342" y="11361"/>
                </a:cubicBezTo>
                <a:cubicBezTo>
                  <a:pt x="7366" y="11302"/>
                  <a:pt x="7270" y="11386"/>
                  <a:pt x="7293" y="11410"/>
                </a:cubicBezTo>
                <a:cubicBezTo>
                  <a:pt x="7301" y="11410"/>
                  <a:pt x="7309" y="11410"/>
                  <a:pt x="7317" y="11410"/>
                </a:cubicBezTo>
              </a:path>
              <a:path w="10122" h="5979">
                <a:moveTo>
                  <a:pt x="6449" y="10988"/>
                </a:moveTo>
                <a:cubicBezTo>
                  <a:pt x="6463" y="11100"/>
                  <a:pt x="6486" y="11206"/>
                  <a:pt x="6524" y="11311"/>
                </a:cubicBezTo>
                <a:cubicBezTo>
                  <a:pt x="6524" y="11356"/>
                  <a:pt x="6482" y="11099"/>
                  <a:pt x="6474" y="11063"/>
                </a:cubicBezTo>
                <a:cubicBezTo>
                  <a:pt x="6457" y="10980"/>
                  <a:pt x="6416" y="10845"/>
                  <a:pt x="6474" y="10765"/>
                </a:cubicBezTo>
                <a:cubicBezTo>
                  <a:pt x="6536" y="10680"/>
                  <a:pt x="6611" y="10674"/>
                  <a:pt x="6672" y="10765"/>
                </a:cubicBezTo>
                <a:cubicBezTo>
                  <a:pt x="6714" y="10828"/>
                  <a:pt x="6789" y="10936"/>
                  <a:pt x="6796" y="11013"/>
                </a:cubicBezTo>
                <a:cubicBezTo>
                  <a:pt x="6796" y="11038"/>
                  <a:pt x="6796" y="11046"/>
                  <a:pt x="6796" y="11013"/>
                </a:cubicBezTo>
              </a:path>
              <a:path w="10122" h="5979">
                <a:moveTo>
                  <a:pt x="6548" y="11013"/>
                </a:moveTo>
                <a:cubicBezTo>
                  <a:pt x="6616" y="10986"/>
                  <a:pt x="6680" y="10923"/>
                  <a:pt x="6747" y="10889"/>
                </a:cubicBezTo>
                <a:cubicBezTo>
                  <a:pt x="6755" y="10889"/>
                  <a:pt x="6764" y="10889"/>
                  <a:pt x="6772" y="10889"/>
                </a:cubicBezTo>
              </a:path>
              <a:path w="10122" h="5979">
                <a:moveTo>
                  <a:pt x="9897" y="9277"/>
                </a:moveTo>
                <a:cubicBezTo>
                  <a:pt x="9897" y="9206"/>
                  <a:pt x="9966" y="9434"/>
                  <a:pt x="9971" y="9451"/>
                </a:cubicBezTo>
                <a:cubicBezTo>
                  <a:pt x="9971" y="9546"/>
                  <a:pt x="9967" y="9444"/>
                  <a:pt x="9947" y="9401"/>
                </a:cubicBezTo>
                <a:cubicBezTo>
                  <a:pt x="9887" y="9271"/>
                  <a:pt x="9850" y="9189"/>
                  <a:pt x="9922" y="9054"/>
                </a:cubicBezTo>
                <a:cubicBezTo>
                  <a:pt x="9964" y="8975"/>
                  <a:pt x="10156" y="8990"/>
                  <a:pt x="10220" y="9029"/>
                </a:cubicBezTo>
                <a:cubicBezTo>
                  <a:pt x="10273" y="9061"/>
                  <a:pt x="10164" y="9189"/>
                  <a:pt x="10145" y="9203"/>
                </a:cubicBezTo>
                <a:cubicBezTo>
                  <a:pt x="10129" y="9211"/>
                  <a:pt x="10112" y="9219"/>
                  <a:pt x="10096" y="9227"/>
                </a:cubicBezTo>
                <a:cubicBezTo>
                  <a:pt x="10054" y="9258"/>
                  <a:pt x="10022" y="9243"/>
                  <a:pt x="10071" y="9227"/>
                </a:cubicBezTo>
                <a:cubicBezTo>
                  <a:pt x="10192" y="9179"/>
                  <a:pt x="10281" y="9149"/>
                  <a:pt x="10368" y="9277"/>
                </a:cubicBezTo>
                <a:cubicBezTo>
                  <a:pt x="10449" y="9396"/>
                  <a:pt x="10326" y="9488"/>
                  <a:pt x="10220" y="9500"/>
                </a:cubicBezTo>
                <a:cubicBezTo>
                  <a:pt x="10087" y="9500"/>
                  <a:pt x="10054" y="9500"/>
                  <a:pt x="9971" y="9500"/>
                </a:cubicBezTo>
              </a:path>
              <a:path w="10122" h="5979">
                <a:moveTo>
                  <a:pt x="13295" y="11112"/>
                </a:moveTo>
                <a:cubicBezTo>
                  <a:pt x="13323" y="11112"/>
                  <a:pt x="13334" y="11114"/>
                  <a:pt x="13345" y="11137"/>
                </a:cubicBezTo>
                <a:cubicBezTo>
                  <a:pt x="13339" y="11104"/>
                  <a:pt x="13322" y="11006"/>
                  <a:pt x="13271" y="11013"/>
                </a:cubicBezTo>
                <a:cubicBezTo>
                  <a:pt x="13123" y="11034"/>
                  <a:pt x="13077" y="11300"/>
                  <a:pt x="13097" y="11410"/>
                </a:cubicBezTo>
                <a:cubicBezTo>
                  <a:pt x="13142" y="11653"/>
                  <a:pt x="13353" y="11520"/>
                  <a:pt x="13469" y="11435"/>
                </a:cubicBezTo>
                <a:cubicBezTo>
                  <a:pt x="13492" y="11412"/>
                  <a:pt x="13496" y="11404"/>
                  <a:pt x="13519" y="11410"/>
                </a:cubicBezTo>
              </a:path>
              <a:path w="10122" h="5979">
                <a:moveTo>
                  <a:pt x="8012" y="14288"/>
                </a:moveTo>
                <a:cubicBezTo>
                  <a:pt x="8045" y="14431"/>
                  <a:pt x="8028" y="14541"/>
                  <a:pt x="7987" y="14684"/>
                </a:cubicBezTo>
                <a:cubicBezTo>
                  <a:pt x="7979" y="14709"/>
                  <a:pt x="7970" y="14734"/>
                  <a:pt x="7962" y="14759"/>
                </a:cubicBezTo>
                <a:cubicBezTo>
                  <a:pt x="8081" y="14777"/>
                  <a:pt x="8160" y="14744"/>
                  <a:pt x="8285" y="14734"/>
                </a:cubicBezTo>
                <a:cubicBezTo>
                  <a:pt x="8293" y="14734"/>
                  <a:pt x="8302" y="14734"/>
                  <a:pt x="8310" y="14734"/>
                </a:cubicBezTo>
              </a:path>
              <a:path w="10122" h="5979">
                <a:moveTo>
                  <a:pt x="8062" y="14560"/>
                </a:moveTo>
                <a:cubicBezTo>
                  <a:pt x="8132" y="14529"/>
                  <a:pt x="8221" y="14485"/>
                  <a:pt x="8260" y="14511"/>
                </a:cubicBezTo>
              </a:path>
              <a:path w="10122" h="5979">
                <a:moveTo>
                  <a:pt x="7962" y="14362"/>
                </a:moveTo>
                <a:cubicBezTo>
                  <a:pt x="8031" y="14362"/>
                  <a:pt x="8091" y="14340"/>
                  <a:pt x="8161" y="14337"/>
                </a:cubicBezTo>
                <a:cubicBezTo>
                  <a:pt x="8194" y="14335"/>
                  <a:pt x="8227" y="14337"/>
                  <a:pt x="8260" y="14337"/>
                </a:cubicBezTo>
              </a:path>
              <a:path w="10122" h="5979">
                <a:moveTo>
                  <a:pt x="7218" y="11534"/>
                </a:moveTo>
                <a:lnTo>
                  <a:pt x="7218" y="11534"/>
                </a:lnTo>
                <a:lnTo>
                  <a:pt x="7218" y="11534"/>
                </a:lnTo>
              </a:path>
              <a:path w="10122" h="5979">
                <a:moveTo>
                  <a:pt x="7342" y="11559"/>
                </a:moveTo>
                <a:cubicBezTo>
                  <a:pt x="7346" y="11559"/>
                  <a:pt x="7414" y="11568"/>
                  <a:pt x="7466" y="11584"/>
                </a:cubicBezTo>
                <a:cubicBezTo>
                  <a:pt x="7484" y="11590"/>
                  <a:pt x="7555" y="11608"/>
                  <a:pt x="7565" y="11609"/>
                </a:cubicBezTo>
                <a:cubicBezTo>
                  <a:pt x="7612" y="11615"/>
                  <a:pt x="7678" y="11629"/>
                  <a:pt x="7714" y="11633"/>
                </a:cubicBezTo>
                <a:cubicBezTo>
                  <a:pt x="7756" y="11638"/>
                  <a:pt x="7808" y="11655"/>
                  <a:pt x="7838" y="11658"/>
                </a:cubicBezTo>
                <a:cubicBezTo>
                  <a:pt x="8255" y="11704"/>
                  <a:pt x="8717" y="11662"/>
                  <a:pt x="9128" y="11633"/>
                </a:cubicBezTo>
                <a:cubicBezTo>
                  <a:pt x="9477" y="11608"/>
                  <a:pt x="9902" y="11591"/>
                  <a:pt x="10244" y="11609"/>
                </a:cubicBezTo>
                <a:cubicBezTo>
                  <a:pt x="10294" y="11612"/>
                  <a:pt x="10378" y="11632"/>
                  <a:pt x="10443" y="11633"/>
                </a:cubicBezTo>
                <a:cubicBezTo>
                  <a:pt x="10636" y="11637"/>
                  <a:pt x="10827" y="11642"/>
                  <a:pt x="11013" y="11658"/>
                </a:cubicBezTo>
                <a:cubicBezTo>
                  <a:pt x="11307" y="11683"/>
                  <a:pt x="11621" y="11654"/>
                  <a:pt x="11906" y="11633"/>
                </a:cubicBezTo>
                <a:cubicBezTo>
                  <a:pt x="11986" y="11627"/>
                  <a:pt x="12053" y="11624"/>
                  <a:pt x="12129" y="11609"/>
                </a:cubicBezTo>
                <a:cubicBezTo>
                  <a:pt x="12186" y="11598"/>
                  <a:pt x="12249" y="11605"/>
                  <a:pt x="12303" y="11584"/>
                </a:cubicBezTo>
                <a:cubicBezTo>
                  <a:pt x="12344" y="11568"/>
                  <a:pt x="12382" y="11540"/>
                  <a:pt x="12427" y="11534"/>
                </a:cubicBezTo>
                <a:cubicBezTo>
                  <a:pt x="12466" y="11529"/>
                  <a:pt x="12524" y="11512"/>
                  <a:pt x="12551" y="11509"/>
                </a:cubicBezTo>
                <a:cubicBezTo>
                  <a:pt x="12674" y="11497"/>
                  <a:pt x="12986" y="11562"/>
                  <a:pt x="12874" y="11509"/>
                </a:cubicBezTo>
                <a:cubicBezTo>
                  <a:pt x="12856" y="11500"/>
                  <a:pt x="12791" y="11490"/>
                  <a:pt x="12774" y="11485"/>
                </a:cubicBezTo>
              </a:path>
              <a:path w="10122" h="5979">
                <a:moveTo>
                  <a:pt x="15453" y="9525"/>
                </a:moveTo>
                <a:cubicBezTo>
                  <a:pt x="15367" y="9700"/>
                  <a:pt x="15300" y="9893"/>
                  <a:pt x="15205" y="10071"/>
                </a:cubicBezTo>
                <a:cubicBezTo>
                  <a:pt x="15197" y="10087"/>
                  <a:pt x="15188" y="10104"/>
                  <a:pt x="15180" y="10120"/>
                </a:cubicBezTo>
                <a:cubicBezTo>
                  <a:pt x="15197" y="9914"/>
                  <a:pt x="15235" y="9676"/>
                  <a:pt x="15354" y="9500"/>
                </a:cubicBezTo>
                <a:cubicBezTo>
                  <a:pt x="15450" y="9358"/>
                  <a:pt x="15553" y="9309"/>
                  <a:pt x="15701" y="9277"/>
                </a:cubicBezTo>
                <a:cubicBezTo>
                  <a:pt x="15805" y="9507"/>
                  <a:pt x="15770" y="9672"/>
                  <a:pt x="15701" y="9922"/>
                </a:cubicBezTo>
                <a:cubicBezTo>
                  <a:pt x="15689" y="9966"/>
                  <a:pt x="15676" y="10043"/>
                  <a:pt x="15652" y="9996"/>
                </a:cubicBezTo>
              </a:path>
              <a:path w="10122" h="5979">
                <a:moveTo>
                  <a:pt x="15304" y="9773"/>
                </a:moveTo>
                <a:cubicBezTo>
                  <a:pt x="15454" y="9773"/>
                  <a:pt x="15581" y="9751"/>
                  <a:pt x="15726" y="9723"/>
                </a:cubicBezTo>
                <a:cubicBezTo>
                  <a:pt x="15751" y="9723"/>
                  <a:pt x="15759" y="9723"/>
                  <a:pt x="15751" y="9748"/>
                </a:cubicBezTo>
              </a:path>
              <a:path w="10122" h="5979">
                <a:moveTo>
                  <a:pt x="16297" y="9401"/>
                </a:moveTo>
                <a:cubicBezTo>
                  <a:pt x="16297" y="9456"/>
                  <a:pt x="16297" y="9456"/>
                  <a:pt x="16297" y="9401"/>
                </a:cubicBezTo>
                <a:cubicBezTo>
                  <a:pt x="16297" y="9323"/>
                  <a:pt x="16312" y="9305"/>
                  <a:pt x="16272" y="9277"/>
                </a:cubicBezTo>
                <a:cubicBezTo>
                  <a:pt x="16096" y="9328"/>
                  <a:pt x="15973" y="9549"/>
                  <a:pt x="15925" y="9723"/>
                </a:cubicBezTo>
                <a:cubicBezTo>
                  <a:pt x="15840" y="10032"/>
                  <a:pt x="16191" y="9938"/>
                  <a:pt x="16346" y="9872"/>
                </a:cubicBezTo>
                <a:cubicBezTo>
                  <a:pt x="16403" y="9835"/>
                  <a:pt x="16406" y="9818"/>
                  <a:pt x="16446" y="9823"/>
                </a:cubicBezTo>
              </a:path>
              <a:path w="10122" h="5979">
                <a:moveTo>
                  <a:pt x="15404" y="9004"/>
                </a:moveTo>
                <a:cubicBezTo>
                  <a:pt x="15490" y="8939"/>
                  <a:pt x="15773" y="8956"/>
                  <a:pt x="15900" y="8954"/>
                </a:cubicBezTo>
                <a:cubicBezTo>
                  <a:pt x="15960" y="8953"/>
                  <a:pt x="16490" y="8996"/>
                  <a:pt x="16495" y="8930"/>
                </a:cubicBezTo>
                <a:cubicBezTo>
                  <a:pt x="16498" y="8896"/>
                  <a:pt x="16491" y="8749"/>
                  <a:pt x="16421" y="8855"/>
                </a:cubicBezTo>
                <a:cubicBezTo>
                  <a:pt x="16413" y="8880"/>
                  <a:pt x="16404" y="8905"/>
                  <a:pt x="16396" y="8930"/>
                </a:cubicBezTo>
                <a:cubicBezTo>
                  <a:pt x="16480" y="9011"/>
                  <a:pt x="16530" y="8886"/>
                  <a:pt x="16570" y="8806"/>
                </a:cubicBezTo>
                <a:cubicBezTo>
                  <a:pt x="16485" y="8830"/>
                  <a:pt x="16428" y="8851"/>
                  <a:pt x="16396" y="8930"/>
                </a:cubicBezTo>
                <a:cubicBezTo>
                  <a:pt x="16454" y="8920"/>
                  <a:pt x="16639" y="8809"/>
                  <a:pt x="16495" y="8830"/>
                </a:cubicBezTo>
                <a:cubicBezTo>
                  <a:pt x="16417" y="8856"/>
                  <a:pt x="16390" y="8868"/>
                  <a:pt x="16371" y="8930"/>
                </a:cubicBezTo>
              </a:path>
              <a:path w="10122" h="5979">
                <a:moveTo>
                  <a:pt x="15478" y="8880"/>
                </a:moveTo>
                <a:cubicBezTo>
                  <a:pt x="15443" y="8868"/>
                  <a:pt x="15250" y="8879"/>
                  <a:pt x="15304" y="8979"/>
                </a:cubicBezTo>
                <a:cubicBezTo>
                  <a:pt x="15354" y="9071"/>
                  <a:pt x="15454" y="8950"/>
                  <a:pt x="15478" y="8930"/>
                </a:cubicBezTo>
                <a:cubicBezTo>
                  <a:pt x="15466" y="8807"/>
                  <a:pt x="15486" y="8835"/>
                  <a:pt x="15354" y="8855"/>
                </a:cubicBezTo>
                <a:cubicBezTo>
                  <a:pt x="15340" y="8880"/>
                  <a:pt x="15269" y="9098"/>
                  <a:pt x="15404" y="9004"/>
                </a:cubicBezTo>
                <a:cubicBezTo>
                  <a:pt x="15494" y="8942"/>
                  <a:pt x="15417" y="8749"/>
                  <a:pt x="15354" y="8930"/>
                </a:cubicBezTo>
                <a:cubicBezTo>
                  <a:pt x="15315" y="9042"/>
                  <a:pt x="15474" y="9041"/>
                  <a:pt x="15478" y="8930"/>
                </a:cubicBezTo>
                <a:cubicBezTo>
                  <a:pt x="15485" y="8765"/>
                  <a:pt x="15302" y="8901"/>
                  <a:pt x="15329" y="9004"/>
                </a:cubicBezTo>
                <a:cubicBezTo>
                  <a:pt x="15346" y="9012"/>
                  <a:pt x="15362" y="9021"/>
                  <a:pt x="15379" y="9029"/>
                </a:cubicBezTo>
              </a:path>
              <a:path w="10122" h="5979">
                <a:moveTo>
                  <a:pt x="7342" y="11509"/>
                </a:moveTo>
                <a:cubicBezTo>
                  <a:pt x="7334" y="11509"/>
                  <a:pt x="7325" y="11509"/>
                  <a:pt x="7317" y="11509"/>
                </a:cubicBezTo>
              </a:path>
              <a:path w="10122" h="5979">
                <a:moveTo>
                  <a:pt x="7317" y="11509"/>
                </a:moveTo>
                <a:lnTo>
                  <a:pt x="7317" y="11509"/>
                </a:lnTo>
              </a:path>
              <a:path w="10122" h="5979">
                <a:moveTo>
                  <a:pt x="7342" y="11509"/>
                </a:moveTo>
                <a:cubicBezTo>
                  <a:pt x="7350" y="11509"/>
                  <a:pt x="7359" y="11509"/>
                  <a:pt x="7367" y="11509"/>
                </a:cubicBezTo>
                <a:cubicBezTo>
                  <a:pt x="7379" y="11516"/>
                  <a:pt x="7412" y="11545"/>
                  <a:pt x="7441" y="11559"/>
                </a:cubicBezTo>
                <a:cubicBezTo>
                  <a:pt x="7472" y="11574"/>
                  <a:pt x="7529" y="11597"/>
                  <a:pt x="7565" y="11609"/>
                </a:cubicBezTo>
                <a:cubicBezTo>
                  <a:pt x="7622" y="11628"/>
                  <a:pt x="7610" y="11618"/>
                  <a:pt x="7665" y="11633"/>
                </a:cubicBezTo>
                <a:cubicBezTo>
                  <a:pt x="7703" y="11643"/>
                  <a:pt x="7723" y="11652"/>
                  <a:pt x="7764" y="11658"/>
                </a:cubicBezTo>
                <a:cubicBezTo>
                  <a:pt x="7780" y="11658"/>
                  <a:pt x="7797" y="11658"/>
                  <a:pt x="7813" y="11658"/>
                </a:cubicBezTo>
                <a:cubicBezTo>
                  <a:pt x="7815" y="11658"/>
                  <a:pt x="7878" y="11677"/>
                  <a:pt x="7913" y="11683"/>
                </a:cubicBezTo>
                <a:cubicBezTo>
                  <a:pt x="7990" y="11696"/>
                  <a:pt x="8089" y="11681"/>
                  <a:pt x="8161" y="11708"/>
                </a:cubicBezTo>
                <a:cubicBezTo>
                  <a:pt x="8224" y="11731"/>
                  <a:pt x="8269" y="11784"/>
                  <a:pt x="8334" y="11807"/>
                </a:cubicBezTo>
                <a:cubicBezTo>
                  <a:pt x="8375" y="11821"/>
                  <a:pt x="8444" y="11813"/>
                  <a:pt x="8483" y="11832"/>
                </a:cubicBezTo>
                <a:cubicBezTo>
                  <a:pt x="8520" y="11850"/>
                  <a:pt x="8545" y="11889"/>
                  <a:pt x="8582" y="11906"/>
                </a:cubicBezTo>
                <a:cubicBezTo>
                  <a:pt x="8635" y="11931"/>
                  <a:pt x="8700" y="11953"/>
                  <a:pt x="8756" y="11981"/>
                </a:cubicBezTo>
                <a:cubicBezTo>
                  <a:pt x="8798" y="12002"/>
                  <a:pt x="8837" y="12015"/>
                  <a:pt x="8880" y="12030"/>
                </a:cubicBezTo>
                <a:cubicBezTo>
                  <a:pt x="8899" y="12068"/>
                  <a:pt x="8897" y="12058"/>
                  <a:pt x="8930" y="12080"/>
                </a:cubicBezTo>
                <a:cubicBezTo>
                  <a:pt x="8939" y="12086"/>
                  <a:pt x="8985" y="12115"/>
                  <a:pt x="9004" y="12129"/>
                </a:cubicBezTo>
                <a:cubicBezTo>
                  <a:pt x="9078" y="12183"/>
                  <a:pt x="9143" y="12236"/>
                  <a:pt x="9227" y="12278"/>
                </a:cubicBezTo>
                <a:cubicBezTo>
                  <a:pt x="9312" y="12321"/>
                  <a:pt x="9398" y="12342"/>
                  <a:pt x="9475" y="12402"/>
                </a:cubicBezTo>
                <a:cubicBezTo>
                  <a:pt x="9565" y="12471"/>
                  <a:pt x="9620" y="12520"/>
                  <a:pt x="9723" y="12576"/>
                </a:cubicBezTo>
                <a:cubicBezTo>
                  <a:pt x="9790" y="12613"/>
                  <a:pt x="9837" y="12634"/>
                  <a:pt x="9897" y="12675"/>
                </a:cubicBezTo>
                <a:cubicBezTo>
                  <a:pt x="9952" y="12713"/>
                  <a:pt x="10022" y="12735"/>
                  <a:pt x="10071" y="12774"/>
                </a:cubicBezTo>
                <a:cubicBezTo>
                  <a:pt x="10092" y="12791"/>
                  <a:pt x="10134" y="12842"/>
                  <a:pt x="10145" y="12849"/>
                </a:cubicBezTo>
                <a:cubicBezTo>
                  <a:pt x="10201" y="12885"/>
                  <a:pt x="10262" y="12913"/>
                  <a:pt x="10319" y="12948"/>
                </a:cubicBezTo>
                <a:cubicBezTo>
                  <a:pt x="10365" y="12977"/>
                  <a:pt x="10414" y="13024"/>
                  <a:pt x="10443" y="13047"/>
                </a:cubicBezTo>
                <a:cubicBezTo>
                  <a:pt x="10493" y="13087"/>
                  <a:pt x="10546" y="13129"/>
                  <a:pt x="10592" y="13171"/>
                </a:cubicBezTo>
                <a:cubicBezTo>
                  <a:pt x="10649" y="13223"/>
                  <a:pt x="10704" y="13265"/>
                  <a:pt x="10765" y="13320"/>
                </a:cubicBezTo>
                <a:cubicBezTo>
                  <a:pt x="10807" y="13359"/>
                  <a:pt x="10839" y="13402"/>
                  <a:pt x="10889" y="13444"/>
                </a:cubicBezTo>
                <a:cubicBezTo>
                  <a:pt x="10897" y="13444"/>
                  <a:pt x="10906" y="13444"/>
                  <a:pt x="10914" y="13444"/>
                </a:cubicBezTo>
                <a:cubicBezTo>
                  <a:pt x="10947" y="13474"/>
                  <a:pt x="10991" y="13531"/>
                  <a:pt x="11038" y="13568"/>
                </a:cubicBezTo>
                <a:cubicBezTo>
                  <a:pt x="11109" y="13624"/>
                  <a:pt x="11181" y="13673"/>
                  <a:pt x="11261" y="13717"/>
                </a:cubicBezTo>
                <a:cubicBezTo>
                  <a:pt x="11296" y="13736"/>
                  <a:pt x="11353" y="13748"/>
                  <a:pt x="11385" y="13767"/>
                </a:cubicBezTo>
                <a:cubicBezTo>
                  <a:pt x="11385" y="13791"/>
                  <a:pt x="11385" y="13799"/>
                  <a:pt x="11410" y="13791"/>
                </a:cubicBezTo>
                <a:cubicBezTo>
                  <a:pt x="11430" y="13803"/>
                  <a:pt x="11491" y="13844"/>
                  <a:pt x="11534" y="13866"/>
                </a:cubicBezTo>
                <a:cubicBezTo>
                  <a:pt x="11558" y="13878"/>
                  <a:pt x="11615" y="13900"/>
                  <a:pt x="11633" y="13915"/>
                </a:cubicBezTo>
                <a:cubicBezTo>
                  <a:pt x="11633" y="13923"/>
                  <a:pt x="11633" y="13932"/>
                  <a:pt x="11633" y="13940"/>
                </a:cubicBezTo>
                <a:cubicBezTo>
                  <a:pt x="11681" y="13966"/>
                  <a:pt x="11674" y="13952"/>
                  <a:pt x="11733" y="13990"/>
                </a:cubicBezTo>
                <a:cubicBezTo>
                  <a:pt x="11768" y="14012"/>
                  <a:pt x="11777" y="14019"/>
                  <a:pt x="11807" y="14039"/>
                </a:cubicBezTo>
                <a:cubicBezTo>
                  <a:pt x="11807" y="14064"/>
                  <a:pt x="11807" y="14072"/>
                  <a:pt x="11832" y="14064"/>
                </a:cubicBezTo>
              </a:path>
              <a:path w="10122" h="5979">
                <a:moveTo>
                  <a:pt x="15081" y="10914"/>
                </a:moveTo>
                <a:cubicBezTo>
                  <a:pt x="15144" y="10977"/>
                  <a:pt x="15100" y="11211"/>
                  <a:pt x="15081" y="11311"/>
                </a:cubicBezTo>
                <a:cubicBezTo>
                  <a:pt x="15062" y="11368"/>
                  <a:pt x="15053" y="11375"/>
                  <a:pt x="15056" y="11410"/>
                </a:cubicBezTo>
                <a:cubicBezTo>
                  <a:pt x="15056" y="11222"/>
                  <a:pt x="15055" y="11041"/>
                  <a:pt x="15131" y="10864"/>
                </a:cubicBezTo>
                <a:cubicBezTo>
                  <a:pt x="15195" y="10716"/>
                  <a:pt x="15358" y="10606"/>
                  <a:pt x="15478" y="10790"/>
                </a:cubicBezTo>
                <a:cubicBezTo>
                  <a:pt x="15563" y="10921"/>
                  <a:pt x="15544" y="11144"/>
                  <a:pt x="15503" y="11286"/>
                </a:cubicBezTo>
                <a:cubicBezTo>
                  <a:pt x="15479" y="11334"/>
                  <a:pt x="15471" y="11353"/>
                  <a:pt x="15478" y="11286"/>
                </a:cubicBezTo>
              </a:path>
              <a:path w="10122" h="5979">
                <a:moveTo>
                  <a:pt x="15106" y="11112"/>
                </a:moveTo>
                <a:cubicBezTo>
                  <a:pt x="15239" y="11099"/>
                  <a:pt x="15371" y="11080"/>
                  <a:pt x="15503" y="11063"/>
                </a:cubicBezTo>
                <a:cubicBezTo>
                  <a:pt x="15511" y="11063"/>
                  <a:pt x="15520" y="11063"/>
                  <a:pt x="15528" y="11063"/>
                </a:cubicBezTo>
              </a:path>
              <a:path w="10122" h="5979">
                <a:moveTo>
                  <a:pt x="15900" y="10840"/>
                </a:moveTo>
                <a:cubicBezTo>
                  <a:pt x="15900" y="10948"/>
                  <a:pt x="15922" y="11052"/>
                  <a:pt x="15925" y="11162"/>
                </a:cubicBezTo>
                <a:cubicBezTo>
                  <a:pt x="15928" y="11283"/>
                  <a:pt x="15971" y="11396"/>
                  <a:pt x="15875" y="11237"/>
                </a:cubicBezTo>
              </a:path>
              <a:path w="10122" h="5979">
                <a:moveTo>
                  <a:pt x="15751" y="10864"/>
                </a:moveTo>
                <a:cubicBezTo>
                  <a:pt x="15807" y="10791"/>
                  <a:pt x="16054" y="10788"/>
                  <a:pt x="16148" y="10815"/>
                </a:cubicBezTo>
                <a:cubicBezTo>
                  <a:pt x="16291" y="10856"/>
                  <a:pt x="16436" y="11041"/>
                  <a:pt x="16371" y="11187"/>
                </a:cubicBezTo>
                <a:cubicBezTo>
                  <a:pt x="16295" y="11358"/>
                  <a:pt x="16059" y="11369"/>
                  <a:pt x="15900" y="11336"/>
                </a:cubicBezTo>
                <a:cubicBezTo>
                  <a:pt x="15875" y="11311"/>
                  <a:pt x="15867" y="11303"/>
                  <a:pt x="15850" y="11286"/>
                </a:cubicBezTo>
              </a:path>
              <a:path w="10122" h="5979">
                <a:moveTo>
                  <a:pt x="15205" y="10517"/>
                </a:moveTo>
                <a:cubicBezTo>
                  <a:pt x="15194" y="10517"/>
                  <a:pt x="15089" y="10517"/>
                  <a:pt x="15156" y="10517"/>
                </a:cubicBezTo>
                <a:cubicBezTo>
                  <a:pt x="15513" y="10517"/>
                  <a:pt x="15987" y="10441"/>
                  <a:pt x="16321" y="10542"/>
                </a:cubicBezTo>
                <a:cubicBezTo>
                  <a:pt x="16358" y="10553"/>
                  <a:pt x="16354" y="10491"/>
                  <a:pt x="16346" y="10468"/>
                </a:cubicBezTo>
                <a:cubicBezTo>
                  <a:pt x="16338" y="10451"/>
                  <a:pt x="16329" y="10435"/>
                  <a:pt x="16321" y="10418"/>
                </a:cubicBezTo>
                <a:cubicBezTo>
                  <a:pt x="16219" y="10439"/>
                  <a:pt x="16231" y="10498"/>
                  <a:pt x="16222" y="10592"/>
                </a:cubicBezTo>
                <a:cubicBezTo>
                  <a:pt x="16262" y="10598"/>
                  <a:pt x="16543" y="10550"/>
                  <a:pt x="16396" y="10468"/>
                </a:cubicBezTo>
                <a:cubicBezTo>
                  <a:pt x="16311" y="10421"/>
                  <a:pt x="16285" y="10496"/>
                  <a:pt x="16272" y="10542"/>
                </a:cubicBezTo>
                <a:cubicBezTo>
                  <a:pt x="16288" y="10589"/>
                  <a:pt x="16300" y="10536"/>
                  <a:pt x="16222" y="10468"/>
                </a:cubicBezTo>
              </a:path>
              <a:path w="10122" h="5979">
                <a:moveTo>
                  <a:pt x="15205" y="10492"/>
                </a:moveTo>
                <a:cubicBezTo>
                  <a:pt x="15154" y="10417"/>
                  <a:pt x="15126" y="10444"/>
                  <a:pt x="15106" y="10542"/>
                </a:cubicBezTo>
                <a:cubicBezTo>
                  <a:pt x="15083" y="10658"/>
                  <a:pt x="15164" y="10598"/>
                  <a:pt x="15180" y="10517"/>
                </a:cubicBezTo>
                <a:cubicBezTo>
                  <a:pt x="15161" y="10337"/>
                  <a:pt x="15069" y="10536"/>
                  <a:pt x="15081" y="10616"/>
                </a:cubicBezTo>
                <a:cubicBezTo>
                  <a:pt x="15098" y="10728"/>
                  <a:pt x="15251" y="10488"/>
                  <a:pt x="15255" y="10468"/>
                </a:cubicBezTo>
                <a:cubicBezTo>
                  <a:pt x="15209" y="10468"/>
                  <a:pt x="15035" y="10543"/>
                  <a:pt x="15131" y="10616"/>
                </a:cubicBezTo>
                <a:cubicBezTo>
                  <a:pt x="15165" y="10642"/>
                  <a:pt x="15247" y="10556"/>
                  <a:pt x="15081" y="10542"/>
                </a:cubicBezTo>
              </a:path>
              <a:path w="10122" h="5979">
                <a:moveTo>
                  <a:pt x="10046" y="9773"/>
                </a:moveTo>
                <a:cubicBezTo>
                  <a:pt x="10054" y="9773"/>
                  <a:pt x="10063" y="9773"/>
                  <a:pt x="10071" y="9773"/>
                </a:cubicBezTo>
                <a:cubicBezTo>
                  <a:pt x="10035" y="9737"/>
                  <a:pt x="9944" y="9685"/>
                  <a:pt x="9922" y="9773"/>
                </a:cubicBezTo>
                <a:cubicBezTo>
                  <a:pt x="9901" y="9858"/>
                  <a:pt x="9969" y="10010"/>
                  <a:pt x="10071" y="9897"/>
                </a:cubicBezTo>
                <a:cubicBezTo>
                  <a:pt x="10096" y="9824"/>
                  <a:pt x="10104" y="9800"/>
                  <a:pt x="10096" y="9748"/>
                </a:cubicBezTo>
                <a:cubicBezTo>
                  <a:pt x="9983" y="9748"/>
                  <a:pt x="9842" y="9752"/>
                  <a:pt x="9897" y="9922"/>
                </a:cubicBezTo>
                <a:cubicBezTo>
                  <a:pt x="9949" y="10082"/>
                  <a:pt x="10130" y="9874"/>
                  <a:pt x="10120" y="9773"/>
                </a:cubicBezTo>
                <a:cubicBezTo>
                  <a:pt x="10107" y="9648"/>
                  <a:pt x="9998" y="9821"/>
                  <a:pt x="9996" y="9823"/>
                </a:cubicBezTo>
                <a:cubicBezTo>
                  <a:pt x="10024" y="9856"/>
                  <a:pt x="10126" y="9902"/>
                  <a:pt x="10096" y="9798"/>
                </a:cubicBezTo>
                <a:cubicBezTo>
                  <a:pt x="10087" y="9766"/>
                  <a:pt x="10047" y="9819"/>
                  <a:pt x="10046" y="9823"/>
                </a:cubicBezTo>
              </a:path>
              <a:path w="10122" h="5979">
                <a:moveTo>
                  <a:pt x="9922" y="9773"/>
                </a:moveTo>
                <a:cubicBezTo>
                  <a:pt x="9945" y="9814"/>
                  <a:pt x="9951" y="9805"/>
                  <a:pt x="9971" y="9847"/>
                </a:cubicBezTo>
                <a:cubicBezTo>
                  <a:pt x="9990" y="9886"/>
                  <a:pt x="10033" y="9956"/>
                  <a:pt x="10046" y="9996"/>
                </a:cubicBezTo>
                <a:cubicBezTo>
                  <a:pt x="10071" y="10069"/>
                  <a:pt x="10096" y="10145"/>
                  <a:pt x="10120" y="10220"/>
                </a:cubicBezTo>
                <a:cubicBezTo>
                  <a:pt x="10138" y="10274"/>
                  <a:pt x="10145" y="10319"/>
                  <a:pt x="10170" y="10368"/>
                </a:cubicBezTo>
                <a:cubicBezTo>
                  <a:pt x="10197" y="10420"/>
                  <a:pt x="10218" y="10496"/>
                  <a:pt x="10244" y="10542"/>
                </a:cubicBezTo>
                <a:cubicBezTo>
                  <a:pt x="10299" y="10639"/>
                  <a:pt x="10339" y="10711"/>
                  <a:pt x="10368" y="10815"/>
                </a:cubicBezTo>
                <a:cubicBezTo>
                  <a:pt x="10388" y="10888"/>
                  <a:pt x="10416" y="10939"/>
                  <a:pt x="10443" y="11013"/>
                </a:cubicBezTo>
                <a:cubicBezTo>
                  <a:pt x="10486" y="11129"/>
                  <a:pt x="10534" y="11242"/>
                  <a:pt x="10567" y="11361"/>
                </a:cubicBezTo>
                <a:cubicBezTo>
                  <a:pt x="10601" y="11483"/>
                  <a:pt x="10648" y="11590"/>
                  <a:pt x="10691" y="11708"/>
                </a:cubicBezTo>
                <a:cubicBezTo>
                  <a:pt x="10723" y="11798"/>
                  <a:pt x="10739" y="11893"/>
                  <a:pt x="10765" y="11981"/>
                </a:cubicBezTo>
                <a:cubicBezTo>
                  <a:pt x="10795" y="12083"/>
                  <a:pt x="10843" y="12182"/>
                  <a:pt x="10889" y="12278"/>
                </a:cubicBezTo>
                <a:cubicBezTo>
                  <a:pt x="10917" y="12337"/>
                  <a:pt x="10945" y="12393"/>
                  <a:pt x="10964" y="12452"/>
                </a:cubicBezTo>
                <a:cubicBezTo>
                  <a:pt x="10973" y="12480"/>
                  <a:pt x="10975" y="12524"/>
                  <a:pt x="10988" y="12551"/>
                </a:cubicBezTo>
                <a:cubicBezTo>
                  <a:pt x="11010" y="12598"/>
                  <a:pt x="11040" y="12658"/>
                  <a:pt x="11063" y="12700"/>
                </a:cubicBezTo>
                <a:cubicBezTo>
                  <a:pt x="11085" y="12740"/>
                  <a:pt x="11122" y="12783"/>
                  <a:pt x="11137" y="12824"/>
                </a:cubicBezTo>
                <a:cubicBezTo>
                  <a:pt x="11155" y="12873"/>
                  <a:pt x="11167" y="12919"/>
                  <a:pt x="11187" y="12973"/>
                </a:cubicBezTo>
                <a:cubicBezTo>
                  <a:pt x="11225" y="13073"/>
                  <a:pt x="11269" y="13174"/>
                  <a:pt x="11311" y="13271"/>
                </a:cubicBezTo>
                <a:cubicBezTo>
                  <a:pt x="11354" y="13371"/>
                  <a:pt x="11405" y="13462"/>
                  <a:pt x="11435" y="13568"/>
                </a:cubicBezTo>
                <a:cubicBezTo>
                  <a:pt x="11459" y="13651"/>
                  <a:pt x="11485" y="13736"/>
                  <a:pt x="11509" y="13816"/>
                </a:cubicBezTo>
                <a:cubicBezTo>
                  <a:pt x="11519" y="13847"/>
                  <a:pt x="11528" y="13948"/>
                  <a:pt x="11559" y="13965"/>
                </a:cubicBezTo>
                <a:cubicBezTo>
                  <a:pt x="11673" y="14029"/>
                  <a:pt x="11439" y="14014"/>
                  <a:pt x="11633" y="13940"/>
                </a:cubicBezTo>
              </a:path>
              <a:path w="10122" h="5979">
                <a:moveTo>
                  <a:pt x="12675" y="11485"/>
                </a:moveTo>
                <a:cubicBezTo>
                  <a:pt x="12675" y="11549"/>
                  <a:pt x="12661" y="11439"/>
                  <a:pt x="12650" y="11435"/>
                </a:cubicBezTo>
                <a:cubicBezTo>
                  <a:pt x="12540" y="11394"/>
                  <a:pt x="12582" y="11571"/>
                  <a:pt x="12601" y="11609"/>
                </a:cubicBezTo>
                <a:cubicBezTo>
                  <a:pt x="12693" y="11617"/>
                  <a:pt x="12845" y="11546"/>
                  <a:pt x="12750" y="11410"/>
                </a:cubicBezTo>
                <a:cubicBezTo>
                  <a:pt x="12623" y="11229"/>
                  <a:pt x="12574" y="11506"/>
                  <a:pt x="12551" y="11584"/>
                </a:cubicBezTo>
                <a:cubicBezTo>
                  <a:pt x="12684" y="11624"/>
                  <a:pt x="12789" y="11607"/>
                  <a:pt x="12725" y="11435"/>
                </a:cubicBezTo>
                <a:cubicBezTo>
                  <a:pt x="12647" y="11225"/>
                  <a:pt x="12489" y="11479"/>
                  <a:pt x="12526" y="11584"/>
                </a:cubicBezTo>
                <a:cubicBezTo>
                  <a:pt x="12576" y="11726"/>
                  <a:pt x="12834" y="11564"/>
                  <a:pt x="12750" y="11435"/>
                </a:cubicBezTo>
                <a:cubicBezTo>
                  <a:pt x="12642" y="11269"/>
                  <a:pt x="12627" y="11588"/>
                  <a:pt x="12626" y="11609"/>
                </a:cubicBezTo>
                <a:cubicBezTo>
                  <a:pt x="12739" y="11595"/>
                  <a:pt x="12838" y="11591"/>
                  <a:pt x="12774" y="11460"/>
                </a:cubicBezTo>
                <a:cubicBezTo>
                  <a:pt x="12736" y="11383"/>
                  <a:pt x="12678" y="11471"/>
                  <a:pt x="12650" y="11485"/>
                </a:cubicBezTo>
              </a:path>
              <a:path w="10122" h="5979">
                <a:moveTo>
                  <a:pt x="12700" y="11609"/>
                </a:moveTo>
                <a:cubicBezTo>
                  <a:pt x="12708" y="11609"/>
                  <a:pt x="12717" y="11609"/>
                  <a:pt x="12725" y="11609"/>
                </a:cubicBezTo>
                <a:cubicBezTo>
                  <a:pt x="12695" y="11632"/>
                  <a:pt x="12617" y="11675"/>
                  <a:pt x="12576" y="11708"/>
                </a:cubicBezTo>
                <a:cubicBezTo>
                  <a:pt x="12499" y="11769"/>
                  <a:pt x="12437" y="11828"/>
                  <a:pt x="12353" y="11881"/>
                </a:cubicBezTo>
                <a:cubicBezTo>
                  <a:pt x="12272" y="11932"/>
                  <a:pt x="12187" y="11979"/>
                  <a:pt x="12105" y="12030"/>
                </a:cubicBezTo>
                <a:cubicBezTo>
                  <a:pt x="12051" y="12064"/>
                  <a:pt x="11980" y="12093"/>
                  <a:pt x="11906" y="12129"/>
                </a:cubicBezTo>
                <a:cubicBezTo>
                  <a:pt x="11821" y="12170"/>
                  <a:pt x="11760" y="12235"/>
                  <a:pt x="11683" y="12278"/>
                </a:cubicBezTo>
                <a:cubicBezTo>
                  <a:pt x="11616" y="12315"/>
                  <a:pt x="11551" y="12340"/>
                  <a:pt x="11485" y="12378"/>
                </a:cubicBezTo>
                <a:cubicBezTo>
                  <a:pt x="11413" y="12420"/>
                  <a:pt x="11336" y="12460"/>
                  <a:pt x="11261" y="12502"/>
                </a:cubicBezTo>
                <a:cubicBezTo>
                  <a:pt x="11145" y="12567"/>
                  <a:pt x="11030" y="12616"/>
                  <a:pt x="10914" y="12675"/>
                </a:cubicBezTo>
                <a:cubicBezTo>
                  <a:pt x="10847" y="12709"/>
                  <a:pt x="10758" y="12755"/>
                  <a:pt x="10691" y="12799"/>
                </a:cubicBezTo>
                <a:cubicBezTo>
                  <a:pt x="10618" y="12847"/>
                  <a:pt x="10542" y="12878"/>
                  <a:pt x="10468" y="12923"/>
                </a:cubicBezTo>
                <a:cubicBezTo>
                  <a:pt x="10429" y="12947"/>
                  <a:pt x="10400" y="13000"/>
                  <a:pt x="10344" y="13022"/>
                </a:cubicBezTo>
                <a:cubicBezTo>
                  <a:pt x="10274" y="13050"/>
                  <a:pt x="10233" y="13061"/>
                  <a:pt x="10170" y="13097"/>
                </a:cubicBezTo>
                <a:cubicBezTo>
                  <a:pt x="10097" y="13138"/>
                  <a:pt x="10017" y="13176"/>
                  <a:pt x="9947" y="13221"/>
                </a:cubicBezTo>
                <a:cubicBezTo>
                  <a:pt x="9877" y="13266"/>
                  <a:pt x="9819" y="13327"/>
                  <a:pt x="9748" y="13370"/>
                </a:cubicBezTo>
                <a:cubicBezTo>
                  <a:pt x="9687" y="13407"/>
                  <a:pt x="9624" y="13463"/>
                  <a:pt x="9575" y="13494"/>
                </a:cubicBezTo>
                <a:cubicBezTo>
                  <a:pt x="9502" y="13540"/>
                  <a:pt x="9419" y="13566"/>
                  <a:pt x="9351" y="13618"/>
                </a:cubicBezTo>
                <a:cubicBezTo>
                  <a:pt x="9276" y="13675"/>
                  <a:pt x="9204" y="13735"/>
                  <a:pt x="9128" y="13791"/>
                </a:cubicBezTo>
                <a:cubicBezTo>
                  <a:pt x="9068" y="13835"/>
                  <a:pt x="9017" y="13876"/>
                  <a:pt x="8954" y="13915"/>
                </a:cubicBezTo>
                <a:cubicBezTo>
                  <a:pt x="8854" y="13978"/>
                  <a:pt x="8870" y="13998"/>
                  <a:pt x="8806" y="14064"/>
                </a:cubicBezTo>
                <a:cubicBezTo>
                  <a:pt x="8766" y="14105"/>
                  <a:pt x="8626" y="14173"/>
                  <a:pt x="8682" y="14163"/>
                </a:cubicBezTo>
                <a:cubicBezTo>
                  <a:pt x="8691" y="14161"/>
                  <a:pt x="8556" y="14281"/>
                  <a:pt x="8806" y="14089"/>
                </a:cubicBezTo>
              </a:path>
              <a:path w="10122" h="5979">
                <a:moveTo>
                  <a:pt x="8508" y="13965"/>
                </a:moveTo>
                <a:cubicBezTo>
                  <a:pt x="8455" y="14010"/>
                  <a:pt x="8447" y="14011"/>
                  <a:pt x="8434" y="14089"/>
                </a:cubicBezTo>
                <a:cubicBezTo>
                  <a:pt x="8491" y="14089"/>
                  <a:pt x="8666" y="14073"/>
                  <a:pt x="8558" y="13965"/>
                </a:cubicBezTo>
                <a:cubicBezTo>
                  <a:pt x="8428" y="13835"/>
                  <a:pt x="8352" y="14180"/>
                  <a:pt x="8409" y="14263"/>
                </a:cubicBezTo>
                <a:cubicBezTo>
                  <a:pt x="8456" y="14330"/>
                  <a:pt x="8543" y="14139"/>
                  <a:pt x="8483" y="14064"/>
                </a:cubicBezTo>
                <a:cubicBezTo>
                  <a:pt x="8441" y="14011"/>
                  <a:pt x="8436" y="14189"/>
                  <a:pt x="843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7960" y="4259160"/>
            <a:ext cx="473040" cy="295200"/>
          </a:xfrm>
          <a:custGeom>
            <a:avLst/>
            <a:gdLst/>
            <a:ahLst/>
            <a:rect l="l" t="t" r="r" b="b"/>
            <a:pathLst>
              <a:path w="1315" h="819">
                <a:moveTo>
                  <a:pt x="14784" y="12204"/>
                </a:moveTo>
                <a:cubicBezTo>
                  <a:pt x="14808" y="12287"/>
                  <a:pt x="14926" y="12565"/>
                  <a:pt x="14883" y="12650"/>
                </a:cubicBezTo>
                <a:cubicBezTo>
                  <a:pt x="14875" y="12650"/>
                  <a:pt x="14866" y="12650"/>
                  <a:pt x="14858" y="12650"/>
                </a:cubicBezTo>
              </a:path>
              <a:path w="1315" h="819">
                <a:moveTo>
                  <a:pt x="14585" y="12179"/>
                </a:moveTo>
                <a:cubicBezTo>
                  <a:pt x="14625" y="12179"/>
                  <a:pt x="14949" y="12158"/>
                  <a:pt x="14957" y="12229"/>
                </a:cubicBezTo>
                <a:cubicBezTo>
                  <a:pt x="14901" y="12313"/>
                  <a:pt x="14875" y="12345"/>
                  <a:pt x="14808" y="12378"/>
                </a:cubicBezTo>
                <a:cubicBezTo>
                  <a:pt x="14881" y="12361"/>
                  <a:pt x="15269" y="12299"/>
                  <a:pt x="15131" y="12502"/>
                </a:cubicBezTo>
                <a:cubicBezTo>
                  <a:pt x="15021" y="12665"/>
                  <a:pt x="14778" y="12745"/>
                  <a:pt x="14883" y="12477"/>
                </a:cubicBezTo>
              </a:path>
              <a:path w="1315" h="819">
                <a:moveTo>
                  <a:pt x="15379" y="12254"/>
                </a:moveTo>
                <a:cubicBezTo>
                  <a:pt x="15410" y="12358"/>
                  <a:pt x="15548" y="12546"/>
                  <a:pt x="15453" y="12526"/>
                </a:cubicBezTo>
              </a:path>
              <a:path w="1315" h="819">
                <a:moveTo>
                  <a:pt x="15255" y="12179"/>
                </a:moveTo>
                <a:cubicBezTo>
                  <a:pt x="15473" y="12213"/>
                  <a:pt x="15566" y="12221"/>
                  <a:pt x="15726" y="12353"/>
                </a:cubicBezTo>
                <a:cubicBezTo>
                  <a:pt x="15547" y="12593"/>
                  <a:pt x="15431" y="12583"/>
                  <a:pt x="15156" y="12502"/>
                </a:cubicBezTo>
              </a:path>
              <a:path w="1315" h="819">
                <a:moveTo>
                  <a:pt x="14486" y="12005"/>
                </a:moveTo>
                <a:cubicBezTo>
                  <a:pt x="14742" y="11968"/>
                  <a:pt x="15002" y="11942"/>
                  <a:pt x="15255" y="11906"/>
                </a:cubicBezTo>
                <a:cubicBezTo>
                  <a:pt x="15313" y="11898"/>
                  <a:pt x="15369" y="11953"/>
                  <a:pt x="15404" y="11906"/>
                </a:cubicBezTo>
                <a:cubicBezTo>
                  <a:pt x="15404" y="11878"/>
                  <a:pt x="15406" y="11867"/>
                  <a:pt x="15429" y="11857"/>
                </a:cubicBezTo>
                <a:cubicBezTo>
                  <a:pt x="15397" y="11857"/>
                  <a:pt x="15313" y="11917"/>
                  <a:pt x="15354" y="11931"/>
                </a:cubicBezTo>
                <a:cubicBezTo>
                  <a:pt x="15416" y="11931"/>
                  <a:pt x="15431" y="11941"/>
                  <a:pt x="15453" y="11906"/>
                </a:cubicBezTo>
                <a:cubicBezTo>
                  <a:pt x="15411" y="11809"/>
                  <a:pt x="15366" y="11820"/>
                  <a:pt x="15304" y="11906"/>
                </a:cubicBezTo>
              </a:path>
              <a:path w="1315" h="819">
                <a:moveTo>
                  <a:pt x="14536" y="12080"/>
                </a:moveTo>
                <a:cubicBezTo>
                  <a:pt x="14516" y="12019"/>
                  <a:pt x="14503" y="12090"/>
                  <a:pt x="14486" y="12129"/>
                </a:cubicBezTo>
                <a:cubicBezTo>
                  <a:pt x="14552" y="12080"/>
                  <a:pt x="14525" y="12063"/>
                  <a:pt x="14511" y="11981"/>
                </a:cubicBezTo>
                <a:cubicBezTo>
                  <a:pt x="14481" y="11996"/>
                  <a:pt x="14351" y="12050"/>
                  <a:pt x="14436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9800" y="5027760"/>
            <a:ext cx="482400" cy="366480"/>
          </a:xfrm>
          <a:custGeom>
            <a:avLst/>
            <a:gdLst/>
            <a:ahLst/>
            <a:rect l="l" t="t" r="r" b="b"/>
            <a:pathLst>
              <a:path w="1341" h="1018">
                <a:moveTo>
                  <a:pt x="15553" y="14461"/>
                </a:moveTo>
                <a:cubicBezTo>
                  <a:pt x="15553" y="14407"/>
                  <a:pt x="15527" y="14386"/>
                  <a:pt x="15453" y="14387"/>
                </a:cubicBezTo>
                <a:cubicBezTo>
                  <a:pt x="15350" y="14498"/>
                  <a:pt x="15136" y="14845"/>
                  <a:pt x="15354" y="14982"/>
                </a:cubicBezTo>
                <a:cubicBezTo>
                  <a:pt x="15521" y="15087"/>
                  <a:pt x="15737" y="14866"/>
                  <a:pt x="15825" y="14759"/>
                </a:cubicBezTo>
              </a:path>
              <a:path w="1341" h="1018">
                <a:moveTo>
                  <a:pt x="16049" y="14436"/>
                </a:moveTo>
                <a:cubicBezTo>
                  <a:pt x="16049" y="14538"/>
                  <a:pt x="15996" y="14810"/>
                  <a:pt x="16073" y="14883"/>
                </a:cubicBezTo>
                <a:cubicBezTo>
                  <a:pt x="16153" y="14959"/>
                  <a:pt x="16349" y="14859"/>
                  <a:pt x="16396" y="14784"/>
                </a:cubicBezTo>
                <a:cubicBezTo>
                  <a:pt x="16356" y="14784"/>
                  <a:pt x="16337" y="14773"/>
                  <a:pt x="16321" y="14734"/>
                </a:cubicBezTo>
              </a:path>
              <a:path w="1341" h="1018">
                <a:moveTo>
                  <a:pt x="16049" y="14684"/>
                </a:moveTo>
                <a:cubicBezTo>
                  <a:pt x="16140" y="14642"/>
                  <a:pt x="16196" y="14628"/>
                  <a:pt x="16247" y="14560"/>
                </a:cubicBezTo>
              </a:path>
              <a:path w="1341" h="1018">
                <a:moveTo>
                  <a:pt x="15999" y="14461"/>
                </a:moveTo>
                <a:cubicBezTo>
                  <a:pt x="16104" y="14412"/>
                  <a:pt x="16216" y="14348"/>
                  <a:pt x="16321" y="14312"/>
                </a:cubicBezTo>
              </a:path>
              <a:path w="1341" h="1018">
                <a:moveTo>
                  <a:pt x="15180" y="14163"/>
                </a:moveTo>
                <a:cubicBezTo>
                  <a:pt x="15423" y="14145"/>
                  <a:pt x="15656" y="14080"/>
                  <a:pt x="15900" y="14064"/>
                </a:cubicBezTo>
                <a:cubicBezTo>
                  <a:pt x="15993" y="14058"/>
                  <a:pt x="16113" y="14110"/>
                  <a:pt x="16173" y="14039"/>
                </a:cubicBezTo>
                <a:cubicBezTo>
                  <a:pt x="16173" y="14031"/>
                  <a:pt x="16173" y="14023"/>
                  <a:pt x="16173" y="14015"/>
                </a:cubicBezTo>
                <a:cubicBezTo>
                  <a:pt x="16217" y="13878"/>
                  <a:pt x="16088" y="14039"/>
                  <a:pt x="16148" y="14089"/>
                </a:cubicBezTo>
                <a:cubicBezTo>
                  <a:pt x="16223" y="14151"/>
                  <a:pt x="16278" y="14022"/>
                  <a:pt x="16297" y="13990"/>
                </a:cubicBezTo>
                <a:cubicBezTo>
                  <a:pt x="16200" y="13974"/>
                  <a:pt x="16046" y="14083"/>
                  <a:pt x="16173" y="14089"/>
                </a:cubicBezTo>
                <a:cubicBezTo>
                  <a:pt x="16246" y="14064"/>
                  <a:pt x="16270" y="14057"/>
                  <a:pt x="16247" y="13990"/>
                </a:cubicBezTo>
              </a:path>
              <a:path w="1341" h="1018">
                <a:moveTo>
                  <a:pt x="15056" y="14114"/>
                </a:moveTo>
                <a:cubicBezTo>
                  <a:pt x="15072" y="14194"/>
                  <a:pt x="15086" y="14218"/>
                  <a:pt x="15156" y="14238"/>
                </a:cubicBezTo>
                <a:cubicBezTo>
                  <a:pt x="15183" y="14196"/>
                  <a:pt x="15219" y="13989"/>
                  <a:pt x="15106" y="14064"/>
                </a:cubicBezTo>
                <a:cubicBezTo>
                  <a:pt x="14989" y="14142"/>
                  <a:pt x="15062" y="14258"/>
                  <a:pt x="15180" y="14213"/>
                </a:cubicBezTo>
                <a:cubicBezTo>
                  <a:pt x="15164" y="14131"/>
                  <a:pt x="15186" y="14107"/>
                  <a:pt x="15106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4880" y="5072040"/>
            <a:ext cx="241200" cy="2412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1931" y="14263"/>
                </a:moveTo>
                <a:cubicBezTo>
                  <a:pt x="11931" y="14370"/>
                  <a:pt x="11959" y="14480"/>
                  <a:pt x="11981" y="14585"/>
                </a:cubicBezTo>
                <a:cubicBezTo>
                  <a:pt x="11997" y="14659"/>
                  <a:pt x="12021" y="14734"/>
                  <a:pt x="12030" y="14734"/>
                </a:cubicBezTo>
              </a:path>
              <a:path w="671" h="671">
                <a:moveTo>
                  <a:pt x="11782" y="14238"/>
                </a:moveTo>
                <a:cubicBezTo>
                  <a:pt x="11881" y="14188"/>
                  <a:pt x="12041" y="14173"/>
                  <a:pt x="12154" y="14213"/>
                </a:cubicBezTo>
                <a:cubicBezTo>
                  <a:pt x="12313" y="14270"/>
                  <a:pt x="12400" y="14394"/>
                  <a:pt x="12378" y="14560"/>
                </a:cubicBezTo>
                <a:cubicBezTo>
                  <a:pt x="12355" y="14739"/>
                  <a:pt x="12103" y="14684"/>
                  <a:pt x="11981" y="14684"/>
                </a:cubicBezTo>
                <a:cubicBezTo>
                  <a:pt x="11973" y="14684"/>
                  <a:pt x="11964" y="14684"/>
                  <a:pt x="11956" y="14684"/>
                </a:cubicBezTo>
              </a:path>
              <a:path w="671" h="671">
                <a:moveTo>
                  <a:pt x="11708" y="14139"/>
                </a:moveTo>
                <a:cubicBezTo>
                  <a:pt x="11708" y="14211"/>
                  <a:pt x="11686" y="14220"/>
                  <a:pt x="1175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2800" y="4599000"/>
            <a:ext cx="430200" cy="349200"/>
          </a:xfrm>
          <a:custGeom>
            <a:avLst/>
            <a:gdLst/>
            <a:ahLst/>
            <a:rect l="l" t="t" r="r" b="b"/>
            <a:pathLst>
              <a:path w="1192" h="969">
                <a:moveTo>
                  <a:pt x="15205" y="13271"/>
                </a:moveTo>
                <a:cubicBezTo>
                  <a:pt x="15205" y="13404"/>
                  <a:pt x="15264" y="13615"/>
                  <a:pt x="15230" y="13742"/>
                </a:cubicBezTo>
                <a:cubicBezTo>
                  <a:pt x="15222" y="13742"/>
                  <a:pt x="15213" y="13742"/>
                  <a:pt x="15205" y="13742"/>
                </a:cubicBezTo>
              </a:path>
              <a:path w="1192" h="969">
                <a:moveTo>
                  <a:pt x="14982" y="13171"/>
                </a:moveTo>
                <a:cubicBezTo>
                  <a:pt x="15045" y="13158"/>
                  <a:pt x="15563" y="13032"/>
                  <a:pt x="15404" y="13295"/>
                </a:cubicBezTo>
                <a:cubicBezTo>
                  <a:pt x="15371" y="13320"/>
                  <a:pt x="15337" y="13345"/>
                  <a:pt x="15304" y="13370"/>
                </a:cubicBezTo>
                <a:cubicBezTo>
                  <a:pt x="15278" y="13411"/>
                  <a:pt x="15485" y="13389"/>
                  <a:pt x="15553" y="13395"/>
                </a:cubicBezTo>
                <a:cubicBezTo>
                  <a:pt x="15552" y="13523"/>
                  <a:pt x="15459" y="13752"/>
                  <a:pt x="15255" y="13692"/>
                </a:cubicBezTo>
                <a:cubicBezTo>
                  <a:pt x="15238" y="13667"/>
                  <a:pt x="15222" y="13643"/>
                  <a:pt x="15205" y="13618"/>
                </a:cubicBezTo>
              </a:path>
              <a:path w="1192" h="969">
                <a:moveTo>
                  <a:pt x="15701" y="13122"/>
                </a:moveTo>
                <a:cubicBezTo>
                  <a:pt x="15775" y="13239"/>
                  <a:pt x="15809" y="13378"/>
                  <a:pt x="15825" y="13519"/>
                </a:cubicBezTo>
                <a:cubicBezTo>
                  <a:pt x="15825" y="13544"/>
                  <a:pt x="15825" y="13568"/>
                  <a:pt x="15825" y="13593"/>
                </a:cubicBezTo>
                <a:cubicBezTo>
                  <a:pt x="15922" y="13593"/>
                  <a:pt x="16102" y="13597"/>
                  <a:pt x="16173" y="13519"/>
                </a:cubicBezTo>
                <a:cubicBezTo>
                  <a:pt x="16165" y="13511"/>
                  <a:pt x="16156" y="13502"/>
                  <a:pt x="16148" y="13494"/>
                </a:cubicBezTo>
              </a:path>
              <a:path w="1192" h="969">
                <a:moveTo>
                  <a:pt x="15776" y="13395"/>
                </a:moveTo>
                <a:cubicBezTo>
                  <a:pt x="15880" y="13367"/>
                  <a:pt x="15953" y="13343"/>
                  <a:pt x="16049" y="13295"/>
                </a:cubicBezTo>
              </a:path>
              <a:path w="1192" h="969">
                <a:moveTo>
                  <a:pt x="15602" y="13171"/>
                </a:moveTo>
                <a:cubicBezTo>
                  <a:pt x="15770" y="13117"/>
                  <a:pt x="15932" y="13057"/>
                  <a:pt x="16098" y="12998"/>
                </a:cubicBezTo>
              </a:path>
              <a:path w="1192" h="969">
                <a:moveTo>
                  <a:pt x="15156" y="12998"/>
                </a:moveTo>
                <a:cubicBezTo>
                  <a:pt x="15039" y="12998"/>
                  <a:pt x="15339" y="12974"/>
                  <a:pt x="15453" y="12948"/>
                </a:cubicBezTo>
                <a:cubicBezTo>
                  <a:pt x="15487" y="12940"/>
                  <a:pt x="15975" y="12842"/>
                  <a:pt x="15999" y="12824"/>
                </a:cubicBezTo>
                <a:cubicBezTo>
                  <a:pt x="15999" y="12799"/>
                  <a:pt x="15999" y="12791"/>
                  <a:pt x="15999" y="12774"/>
                </a:cubicBezTo>
                <a:cubicBezTo>
                  <a:pt x="15907" y="12789"/>
                  <a:pt x="15938" y="12837"/>
                  <a:pt x="16024" y="12849"/>
                </a:cubicBezTo>
                <a:cubicBezTo>
                  <a:pt x="16093" y="12859"/>
                  <a:pt x="16034" y="12783"/>
                  <a:pt x="15999" y="12774"/>
                </a:cubicBezTo>
                <a:cubicBezTo>
                  <a:pt x="16013" y="12875"/>
                  <a:pt x="16051" y="12875"/>
                  <a:pt x="16073" y="12774"/>
                </a:cubicBezTo>
              </a:path>
              <a:path w="1192" h="969">
                <a:moveTo>
                  <a:pt x="15056" y="13022"/>
                </a:moveTo>
                <a:cubicBezTo>
                  <a:pt x="15056" y="12981"/>
                  <a:pt x="15066" y="12985"/>
                  <a:pt x="15032" y="12973"/>
                </a:cubicBezTo>
                <a:cubicBezTo>
                  <a:pt x="14991" y="13107"/>
                  <a:pt x="15086" y="13117"/>
                  <a:pt x="15131" y="12998"/>
                </a:cubicBezTo>
                <a:cubicBezTo>
                  <a:pt x="15180" y="12866"/>
                  <a:pt x="15064" y="12900"/>
                  <a:pt x="15032" y="12998"/>
                </a:cubicBezTo>
                <a:cubicBezTo>
                  <a:pt x="15022" y="13029"/>
                  <a:pt x="15106" y="13041"/>
                  <a:pt x="15106" y="12948"/>
                </a:cubicBezTo>
                <a:cubicBezTo>
                  <a:pt x="15039" y="12971"/>
                  <a:pt x="15018" y="12972"/>
                  <a:pt x="1500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228600"/>
            <a:ext cx="784872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iagonals can be drawn from each polyg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27432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1905120"/>
            <a:ext cx="2286000" cy="1981080"/>
          </a:xfrm>
          <a:prstGeom prst="octagon">
            <a:avLst>
              <a:gd name="adj" fmla="val 292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495680"/>
            <a:ext cx="2590920" cy="1905120"/>
          </a:xfrm>
          <a:prstGeom prst="hexagon">
            <a:avLst>
              <a:gd name="adj" fmla="val 33999"/>
              <a:gd name="vf" fmla="val 11547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4495680"/>
            <a:ext cx="1828800" cy="152424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6120" y="1517760"/>
            <a:ext cx="233640" cy="304560"/>
          </a:xfrm>
          <a:custGeom>
            <a:avLst/>
            <a:gdLst/>
            <a:ahLst/>
            <a:rect l="l" t="t" r="r" b="b"/>
            <a:pathLst>
              <a:path w="646" h="844">
                <a:moveTo>
                  <a:pt x="769" y="4539"/>
                </a:moveTo>
                <a:cubicBezTo>
                  <a:pt x="858" y="4583"/>
                  <a:pt x="957" y="4826"/>
                  <a:pt x="992" y="4986"/>
                </a:cubicBezTo>
                <a:cubicBezTo>
                  <a:pt x="992" y="5054"/>
                  <a:pt x="995" y="5084"/>
                  <a:pt x="967" y="5011"/>
                </a:cubicBezTo>
                <a:cubicBezTo>
                  <a:pt x="907" y="4705"/>
                  <a:pt x="881" y="4513"/>
                  <a:pt x="967" y="4217"/>
                </a:cubicBezTo>
                <a:cubicBezTo>
                  <a:pt x="1197" y="4320"/>
                  <a:pt x="1291" y="4470"/>
                  <a:pt x="1389" y="4713"/>
                </a:cubicBezTo>
                <a:cubicBezTo>
                  <a:pt x="1439" y="4838"/>
                  <a:pt x="1427" y="4809"/>
                  <a:pt x="1315" y="4762"/>
                </a:cubicBezTo>
              </a:path>
              <a:path w="646" h="844">
                <a:moveTo>
                  <a:pt x="819" y="4837"/>
                </a:moveTo>
                <a:cubicBezTo>
                  <a:pt x="1015" y="4747"/>
                  <a:pt x="1199" y="4641"/>
                  <a:pt x="1389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4040" y="1830240"/>
            <a:ext cx="3071880" cy="1741680"/>
          </a:xfrm>
          <a:custGeom>
            <a:avLst/>
            <a:gdLst/>
            <a:ahLst/>
            <a:rect l="l" t="t" r="r" b="b"/>
            <a:pathLst>
              <a:path w="8534" h="4838">
                <a:moveTo>
                  <a:pt x="9798" y="5755"/>
                </a:moveTo>
                <a:cubicBezTo>
                  <a:pt x="9749" y="5637"/>
                  <a:pt x="9703" y="5524"/>
                  <a:pt x="9649" y="5407"/>
                </a:cubicBezTo>
                <a:cubicBezTo>
                  <a:pt x="9622" y="5348"/>
                  <a:pt x="9599" y="5311"/>
                  <a:pt x="9599" y="5383"/>
                </a:cubicBezTo>
                <a:cubicBezTo>
                  <a:pt x="9599" y="5531"/>
                  <a:pt x="9599" y="5564"/>
                  <a:pt x="9599" y="5655"/>
                </a:cubicBezTo>
                <a:cubicBezTo>
                  <a:pt x="9580" y="5496"/>
                  <a:pt x="9553" y="5304"/>
                  <a:pt x="9649" y="5159"/>
                </a:cubicBezTo>
                <a:cubicBezTo>
                  <a:pt x="9764" y="4985"/>
                  <a:pt x="9953" y="5172"/>
                  <a:pt x="9823" y="5333"/>
                </a:cubicBezTo>
                <a:cubicBezTo>
                  <a:pt x="9779" y="5355"/>
                  <a:pt x="9758" y="5368"/>
                  <a:pt x="9798" y="5333"/>
                </a:cubicBezTo>
                <a:cubicBezTo>
                  <a:pt x="9922" y="5302"/>
                  <a:pt x="9976" y="5308"/>
                  <a:pt x="10046" y="5407"/>
                </a:cubicBezTo>
                <a:cubicBezTo>
                  <a:pt x="10035" y="5630"/>
                  <a:pt x="9888" y="5893"/>
                  <a:pt x="9599" y="5730"/>
                </a:cubicBezTo>
                <a:cubicBezTo>
                  <a:pt x="9583" y="5697"/>
                  <a:pt x="9566" y="5664"/>
                  <a:pt x="9550" y="5631"/>
                </a:cubicBezTo>
              </a:path>
              <a:path w="8534" h="4838">
                <a:moveTo>
                  <a:pt x="1538" y="9922"/>
                </a:moveTo>
                <a:cubicBezTo>
                  <a:pt x="1615" y="9896"/>
                  <a:pt x="1707" y="9879"/>
                  <a:pt x="1786" y="9847"/>
                </a:cubicBezTo>
                <a:cubicBezTo>
                  <a:pt x="1935" y="9786"/>
                  <a:pt x="2082" y="9729"/>
                  <a:pt x="2232" y="9674"/>
                </a:cubicBezTo>
                <a:cubicBezTo>
                  <a:pt x="2323" y="9641"/>
                  <a:pt x="2413" y="9609"/>
                  <a:pt x="2505" y="9575"/>
                </a:cubicBezTo>
                <a:cubicBezTo>
                  <a:pt x="2601" y="9539"/>
                  <a:pt x="2708" y="9476"/>
                  <a:pt x="2803" y="9451"/>
                </a:cubicBezTo>
                <a:cubicBezTo>
                  <a:pt x="2921" y="9420"/>
                  <a:pt x="3032" y="9404"/>
                  <a:pt x="3150" y="9376"/>
                </a:cubicBezTo>
                <a:cubicBezTo>
                  <a:pt x="3250" y="9352"/>
                  <a:pt x="3348" y="9327"/>
                  <a:pt x="3448" y="9302"/>
                </a:cubicBezTo>
                <a:cubicBezTo>
                  <a:pt x="3585" y="9268"/>
                  <a:pt x="3712" y="9223"/>
                  <a:pt x="3845" y="9178"/>
                </a:cubicBezTo>
                <a:cubicBezTo>
                  <a:pt x="4032" y="9114"/>
                  <a:pt x="4225" y="9054"/>
                  <a:pt x="4415" y="9004"/>
                </a:cubicBezTo>
                <a:cubicBezTo>
                  <a:pt x="4581" y="8961"/>
                  <a:pt x="4729" y="8920"/>
                  <a:pt x="4887" y="8855"/>
                </a:cubicBezTo>
                <a:cubicBezTo>
                  <a:pt x="5021" y="8800"/>
                  <a:pt x="5154" y="8727"/>
                  <a:pt x="5283" y="8657"/>
                </a:cubicBezTo>
                <a:cubicBezTo>
                  <a:pt x="5438" y="8573"/>
                  <a:pt x="5595" y="8509"/>
                  <a:pt x="5755" y="8434"/>
                </a:cubicBezTo>
                <a:cubicBezTo>
                  <a:pt x="5944" y="8345"/>
                  <a:pt x="6134" y="8268"/>
                  <a:pt x="6325" y="8186"/>
                </a:cubicBezTo>
                <a:cubicBezTo>
                  <a:pt x="6499" y="8111"/>
                  <a:pt x="6675" y="8023"/>
                  <a:pt x="6846" y="7938"/>
                </a:cubicBezTo>
                <a:cubicBezTo>
                  <a:pt x="7000" y="7862"/>
                  <a:pt x="7146" y="7776"/>
                  <a:pt x="7293" y="7689"/>
                </a:cubicBezTo>
                <a:cubicBezTo>
                  <a:pt x="7453" y="7594"/>
                  <a:pt x="7609" y="7494"/>
                  <a:pt x="7764" y="7392"/>
                </a:cubicBezTo>
                <a:cubicBezTo>
                  <a:pt x="7960" y="7263"/>
                  <a:pt x="8177" y="7142"/>
                  <a:pt x="8359" y="6995"/>
                </a:cubicBezTo>
                <a:cubicBezTo>
                  <a:pt x="8569" y="6824"/>
                  <a:pt x="8780" y="6634"/>
                  <a:pt x="8979" y="6449"/>
                </a:cubicBezTo>
                <a:cubicBezTo>
                  <a:pt x="9088" y="6348"/>
                  <a:pt x="9217" y="6216"/>
                  <a:pt x="9302" y="6102"/>
                </a:cubicBezTo>
                <a:cubicBezTo>
                  <a:pt x="9351" y="6037"/>
                  <a:pt x="9417" y="5952"/>
                  <a:pt x="9451" y="5879"/>
                </a:cubicBezTo>
                <a:cubicBezTo>
                  <a:pt x="9460" y="5859"/>
                  <a:pt x="9440" y="5823"/>
                  <a:pt x="9451" y="5804"/>
                </a:cubicBezTo>
                <a:cubicBezTo>
                  <a:pt x="9418" y="5837"/>
                  <a:pt x="9401" y="5854"/>
                  <a:pt x="9376" y="5879"/>
                </a:cubicBezTo>
              </a:path>
              <a:path w="8534" h="4838">
                <a:moveTo>
                  <a:pt x="1538" y="5581"/>
                </a:moveTo>
                <a:cubicBezTo>
                  <a:pt x="1745" y="5637"/>
                  <a:pt x="1938" y="5683"/>
                  <a:pt x="2133" y="5779"/>
                </a:cubicBezTo>
                <a:cubicBezTo>
                  <a:pt x="2317" y="5870"/>
                  <a:pt x="2479" y="5997"/>
                  <a:pt x="2654" y="6102"/>
                </a:cubicBezTo>
                <a:cubicBezTo>
                  <a:pt x="2779" y="6177"/>
                  <a:pt x="2925" y="6228"/>
                  <a:pt x="3051" y="6300"/>
                </a:cubicBezTo>
                <a:cubicBezTo>
                  <a:pt x="3148" y="6355"/>
                  <a:pt x="3255" y="6432"/>
                  <a:pt x="3349" y="6499"/>
                </a:cubicBezTo>
                <a:cubicBezTo>
                  <a:pt x="3456" y="6576"/>
                  <a:pt x="3564" y="6646"/>
                  <a:pt x="3671" y="6722"/>
                </a:cubicBezTo>
                <a:cubicBezTo>
                  <a:pt x="3842" y="6843"/>
                  <a:pt x="4006" y="6968"/>
                  <a:pt x="4192" y="7069"/>
                </a:cubicBezTo>
                <a:cubicBezTo>
                  <a:pt x="4338" y="7148"/>
                  <a:pt x="4486" y="7227"/>
                  <a:pt x="4638" y="7293"/>
                </a:cubicBezTo>
                <a:cubicBezTo>
                  <a:pt x="4775" y="7352"/>
                  <a:pt x="4921" y="7406"/>
                  <a:pt x="5060" y="7466"/>
                </a:cubicBezTo>
                <a:cubicBezTo>
                  <a:pt x="5132" y="7497"/>
                  <a:pt x="5190" y="7533"/>
                  <a:pt x="5259" y="7565"/>
                </a:cubicBezTo>
                <a:cubicBezTo>
                  <a:pt x="5339" y="7602"/>
                  <a:pt x="5409" y="7648"/>
                  <a:pt x="5482" y="7689"/>
                </a:cubicBezTo>
                <a:cubicBezTo>
                  <a:pt x="5579" y="7744"/>
                  <a:pt x="5680" y="7786"/>
                  <a:pt x="5779" y="7838"/>
                </a:cubicBezTo>
                <a:cubicBezTo>
                  <a:pt x="5882" y="7892"/>
                  <a:pt x="5978" y="7952"/>
                  <a:pt x="6077" y="8012"/>
                </a:cubicBezTo>
                <a:cubicBezTo>
                  <a:pt x="6169" y="8068"/>
                  <a:pt x="6261" y="8125"/>
                  <a:pt x="6350" y="8186"/>
                </a:cubicBezTo>
                <a:cubicBezTo>
                  <a:pt x="6488" y="8281"/>
                  <a:pt x="6631" y="8345"/>
                  <a:pt x="6772" y="8434"/>
                </a:cubicBezTo>
                <a:cubicBezTo>
                  <a:pt x="6999" y="8577"/>
                  <a:pt x="7212" y="8742"/>
                  <a:pt x="7441" y="8880"/>
                </a:cubicBezTo>
                <a:cubicBezTo>
                  <a:pt x="7541" y="8940"/>
                  <a:pt x="7643" y="8995"/>
                  <a:pt x="7739" y="9054"/>
                </a:cubicBezTo>
                <a:cubicBezTo>
                  <a:pt x="7821" y="9104"/>
                  <a:pt x="7904" y="9153"/>
                  <a:pt x="7987" y="9203"/>
                </a:cubicBezTo>
                <a:cubicBezTo>
                  <a:pt x="8067" y="9251"/>
                  <a:pt x="8142" y="9295"/>
                  <a:pt x="8210" y="9351"/>
                </a:cubicBezTo>
                <a:cubicBezTo>
                  <a:pt x="8264" y="9396"/>
                  <a:pt x="8309" y="9456"/>
                  <a:pt x="8359" y="9500"/>
                </a:cubicBezTo>
                <a:cubicBezTo>
                  <a:pt x="8414" y="9548"/>
                  <a:pt x="8468" y="9608"/>
                  <a:pt x="8533" y="9649"/>
                </a:cubicBezTo>
                <a:cubicBezTo>
                  <a:pt x="8596" y="9689"/>
                  <a:pt x="8660" y="9697"/>
                  <a:pt x="8706" y="9723"/>
                </a:cubicBezTo>
                <a:cubicBezTo>
                  <a:pt x="8779" y="9764"/>
                  <a:pt x="8839" y="9809"/>
                  <a:pt x="8905" y="9847"/>
                </a:cubicBezTo>
                <a:cubicBezTo>
                  <a:pt x="8926" y="9859"/>
                  <a:pt x="8932" y="9861"/>
                  <a:pt x="8954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1616040"/>
            <a:ext cx="11736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7388" y="4663"/>
                </a:moveTo>
                <a:cubicBezTo>
                  <a:pt x="17388" y="4756"/>
                  <a:pt x="17407" y="4844"/>
                  <a:pt x="17413" y="4936"/>
                </a:cubicBezTo>
                <a:cubicBezTo>
                  <a:pt x="17413" y="4961"/>
                  <a:pt x="17413" y="4969"/>
                  <a:pt x="17413" y="4936"/>
                </a:cubicBezTo>
                <a:cubicBezTo>
                  <a:pt x="17428" y="4819"/>
                  <a:pt x="17407" y="4587"/>
                  <a:pt x="17487" y="4490"/>
                </a:cubicBezTo>
                <a:cubicBezTo>
                  <a:pt x="17495" y="4490"/>
                  <a:pt x="17504" y="4490"/>
                  <a:pt x="17512" y="4490"/>
                </a:cubicBezTo>
                <a:cubicBezTo>
                  <a:pt x="17613" y="4616"/>
                  <a:pt x="17671" y="4730"/>
                  <a:pt x="17711" y="4887"/>
                </a:cubicBezTo>
                <a:cubicBezTo>
                  <a:pt x="17711" y="4911"/>
                  <a:pt x="17711" y="4919"/>
                  <a:pt x="17686" y="4911"/>
                </a:cubicBezTo>
              </a:path>
              <a:path w="324" h="472">
                <a:moveTo>
                  <a:pt x="17438" y="4887"/>
                </a:moveTo>
                <a:cubicBezTo>
                  <a:pt x="17570" y="4820"/>
                  <a:pt x="17603" y="4804"/>
                  <a:pt x="17686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9000" y="3751200"/>
            <a:ext cx="2697120" cy="2670120"/>
          </a:xfrm>
          <a:custGeom>
            <a:avLst/>
            <a:gdLst/>
            <a:ahLst/>
            <a:rect l="l" t="t" r="r" b="b"/>
            <a:pathLst>
              <a:path w="7492" h="7418">
                <a:moveTo>
                  <a:pt x="6548" y="10418"/>
                </a:moveTo>
                <a:lnTo>
                  <a:pt x="6548" y="10418"/>
                </a:lnTo>
              </a:path>
              <a:path w="7492" h="7418">
                <a:moveTo>
                  <a:pt x="4986" y="12601"/>
                </a:moveTo>
                <a:cubicBezTo>
                  <a:pt x="4986" y="12576"/>
                  <a:pt x="4986" y="12568"/>
                  <a:pt x="5011" y="12576"/>
                </a:cubicBezTo>
                <a:cubicBezTo>
                  <a:pt x="5002" y="12651"/>
                  <a:pt x="4991" y="12723"/>
                  <a:pt x="4986" y="12799"/>
                </a:cubicBezTo>
                <a:cubicBezTo>
                  <a:pt x="4980" y="12883"/>
                  <a:pt x="4967" y="12966"/>
                  <a:pt x="4961" y="13047"/>
                </a:cubicBezTo>
                <a:cubicBezTo>
                  <a:pt x="4954" y="13135"/>
                  <a:pt x="4981" y="13210"/>
                  <a:pt x="4986" y="13295"/>
                </a:cubicBezTo>
                <a:cubicBezTo>
                  <a:pt x="4996" y="13464"/>
                  <a:pt x="4971" y="13627"/>
                  <a:pt x="4961" y="13791"/>
                </a:cubicBezTo>
                <a:cubicBezTo>
                  <a:pt x="4952" y="13932"/>
                  <a:pt x="4945" y="14075"/>
                  <a:pt x="4936" y="14213"/>
                </a:cubicBezTo>
                <a:cubicBezTo>
                  <a:pt x="4929" y="14330"/>
                  <a:pt x="4917" y="14444"/>
                  <a:pt x="4911" y="14560"/>
                </a:cubicBezTo>
                <a:cubicBezTo>
                  <a:pt x="4904" y="14681"/>
                  <a:pt x="4905" y="14812"/>
                  <a:pt x="4887" y="14932"/>
                </a:cubicBezTo>
                <a:cubicBezTo>
                  <a:pt x="4868" y="15058"/>
                  <a:pt x="4862" y="15173"/>
                  <a:pt x="4862" y="15304"/>
                </a:cubicBezTo>
                <a:cubicBezTo>
                  <a:pt x="4862" y="15407"/>
                  <a:pt x="4880" y="15508"/>
                  <a:pt x="4887" y="15602"/>
                </a:cubicBezTo>
                <a:cubicBezTo>
                  <a:pt x="4905" y="15849"/>
                  <a:pt x="4892" y="16100"/>
                  <a:pt x="4911" y="16346"/>
                </a:cubicBezTo>
                <a:cubicBezTo>
                  <a:pt x="4920" y="16464"/>
                  <a:pt x="4929" y="16578"/>
                  <a:pt x="4936" y="16694"/>
                </a:cubicBezTo>
                <a:cubicBezTo>
                  <a:pt x="4940" y="16753"/>
                  <a:pt x="4957" y="16814"/>
                  <a:pt x="4961" y="16867"/>
                </a:cubicBezTo>
                <a:cubicBezTo>
                  <a:pt x="4964" y="16906"/>
                  <a:pt x="4959" y="17003"/>
                  <a:pt x="4961" y="17066"/>
                </a:cubicBezTo>
                <a:cubicBezTo>
                  <a:pt x="4965" y="17214"/>
                  <a:pt x="4961" y="17363"/>
                  <a:pt x="4961" y="17512"/>
                </a:cubicBezTo>
              </a:path>
              <a:path w="7492" h="7418">
                <a:moveTo>
                  <a:pt x="4986" y="17264"/>
                </a:moveTo>
                <a:cubicBezTo>
                  <a:pt x="4986" y="17383"/>
                  <a:pt x="4951" y="17528"/>
                  <a:pt x="4961" y="17636"/>
                </a:cubicBezTo>
                <a:cubicBezTo>
                  <a:pt x="4964" y="17669"/>
                  <a:pt x="4986" y="17857"/>
                  <a:pt x="4986" y="17686"/>
                </a:cubicBezTo>
              </a:path>
              <a:path w="7492" h="7418">
                <a:moveTo>
                  <a:pt x="4936" y="12675"/>
                </a:moveTo>
                <a:cubicBezTo>
                  <a:pt x="4962" y="12695"/>
                  <a:pt x="4938" y="12627"/>
                  <a:pt x="4961" y="12650"/>
                </a:cubicBezTo>
                <a:cubicBezTo>
                  <a:pt x="5082" y="12767"/>
                  <a:pt x="5171" y="12906"/>
                  <a:pt x="5259" y="13047"/>
                </a:cubicBezTo>
                <a:cubicBezTo>
                  <a:pt x="5353" y="13197"/>
                  <a:pt x="5402" y="13362"/>
                  <a:pt x="5482" y="13519"/>
                </a:cubicBezTo>
                <a:cubicBezTo>
                  <a:pt x="5543" y="13638"/>
                  <a:pt x="5625" y="13735"/>
                  <a:pt x="5705" y="13841"/>
                </a:cubicBezTo>
                <a:cubicBezTo>
                  <a:pt x="5809" y="13979"/>
                  <a:pt x="5896" y="14129"/>
                  <a:pt x="6003" y="14263"/>
                </a:cubicBezTo>
                <a:cubicBezTo>
                  <a:pt x="6105" y="14390"/>
                  <a:pt x="6201" y="14506"/>
                  <a:pt x="6300" y="14635"/>
                </a:cubicBezTo>
                <a:cubicBezTo>
                  <a:pt x="6378" y="14737"/>
                  <a:pt x="6470" y="14829"/>
                  <a:pt x="6548" y="14932"/>
                </a:cubicBezTo>
                <a:cubicBezTo>
                  <a:pt x="6638" y="15050"/>
                  <a:pt x="6728" y="15161"/>
                  <a:pt x="6821" y="15280"/>
                </a:cubicBezTo>
                <a:cubicBezTo>
                  <a:pt x="6928" y="15417"/>
                  <a:pt x="7045" y="15560"/>
                  <a:pt x="7144" y="15701"/>
                </a:cubicBezTo>
                <a:cubicBezTo>
                  <a:pt x="7213" y="15799"/>
                  <a:pt x="7271" y="15904"/>
                  <a:pt x="7342" y="15999"/>
                </a:cubicBezTo>
                <a:cubicBezTo>
                  <a:pt x="7406" y="16085"/>
                  <a:pt x="7473" y="16165"/>
                  <a:pt x="7541" y="16247"/>
                </a:cubicBezTo>
                <a:cubicBezTo>
                  <a:pt x="7639" y="16366"/>
                  <a:pt x="7735" y="16484"/>
                  <a:pt x="7813" y="16619"/>
                </a:cubicBezTo>
                <a:cubicBezTo>
                  <a:pt x="7867" y="16714"/>
                  <a:pt x="7927" y="16800"/>
                  <a:pt x="7987" y="16892"/>
                </a:cubicBezTo>
                <a:cubicBezTo>
                  <a:pt x="8043" y="16978"/>
                  <a:pt x="8081" y="17074"/>
                  <a:pt x="8136" y="17165"/>
                </a:cubicBezTo>
                <a:cubicBezTo>
                  <a:pt x="8177" y="17233"/>
                  <a:pt x="8219" y="17295"/>
                  <a:pt x="8260" y="17363"/>
                </a:cubicBezTo>
                <a:cubicBezTo>
                  <a:pt x="8279" y="17394"/>
                  <a:pt x="8312" y="17427"/>
                  <a:pt x="8334" y="17462"/>
                </a:cubicBezTo>
                <a:cubicBezTo>
                  <a:pt x="8376" y="17528"/>
                  <a:pt x="8414" y="17595"/>
                  <a:pt x="8458" y="17661"/>
                </a:cubicBezTo>
                <a:cubicBezTo>
                  <a:pt x="8477" y="17689"/>
                  <a:pt x="8490" y="17738"/>
                  <a:pt x="8508" y="17760"/>
                </a:cubicBezTo>
                <a:cubicBezTo>
                  <a:pt x="8531" y="17783"/>
                  <a:pt x="8539" y="17794"/>
                  <a:pt x="8533" y="17760"/>
                </a:cubicBezTo>
              </a:path>
              <a:path w="7492" h="7418">
                <a:moveTo>
                  <a:pt x="4936" y="12551"/>
                </a:moveTo>
                <a:cubicBezTo>
                  <a:pt x="5018" y="12582"/>
                  <a:pt x="5077" y="12612"/>
                  <a:pt x="5159" y="12650"/>
                </a:cubicBezTo>
                <a:cubicBezTo>
                  <a:pt x="5334" y="12731"/>
                  <a:pt x="5520" y="12814"/>
                  <a:pt x="5680" y="12923"/>
                </a:cubicBezTo>
                <a:cubicBezTo>
                  <a:pt x="5774" y="12987"/>
                  <a:pt x="5856" y="13062"/>
                  <a:pt x="5953" y="13122"/>
                </a:cubicBezTo>
                <a:cubicBezTo>
                  <a:pt x="6068" y="13194"/>
                  <a:pt x="6201" y="13256"/>
                  <a:pt x="6325" y="13320"/>
                </a:cubicBezTo>
                <a:cubicBezTo>
                  <a:pt x="6444" y="13381"/>
                  <a:pt x="6554" y="13459"/>
                  <a:pt x="6672" y="13519"/>
                </a:cubicBezTo>
                <a:cubicBezTo>
                  <a:pt x="6797" y="13582"/>
                  <a:pt x="6901" y="13642"/>
                  <a:pt x="7020" y="13717"/>
                </a:cubicBezTo>
                <a:cubicBezTo>
                  <a:pt x="7167" y="13810"/>
                  <a:pt x="7321" y="13894"/>
                  <a:pt x="7466" y="13990"/>
                </a:cubicBezTo>
                <a:cubicBezTo>
                  <a:pt x="7544" y="14042"/>
                  <a:pt x="7621" y="14096"/>
                  <a:pt x="7714" y="14139"/>
                </a:cubicBezTo>
                <a:cubicBezTo>
                  <a:pt x="7801" y="14180"/>
                  <a:pt x="7899" y="14200"/>
                  <a:pt x="7987" y="14238"/>
                </a:cubicBezTo>
                <a:cubicBezTo>
                  <a:pt x="8098" y="14286"/>
                  <a:pt x="8199" y="14359"/>
                  <a:pt x="8310" y="14412"/>
                </a:cubicBezTo>
                <a:cubicBezTo>
                  <a:pt x="8478" y="14493"/>
                  <a:pt x="8644" y="14567"/>
                  <a:pt x="8806" y="14660"/>
                </a:cubicBezTo>
                <a:cubicBezTo>
                  <a:pt x="8922" y="14727"/>
                  <a:pt x="9033" y="14801"/>
                  <a:pt x="9153" y="14858"/>
                </a:cubicBezTo>
                <a:cubicBezTo>
                  <a:pt x="9256" y="14907"/>
                  <a:pt x="9366" y="14947"/>
                  <a:pt x="9475" y="14982"/>
                </a:cubicBezTo>
                <a:cubicBezTo>
                  <a:pt x="9556" y="15008"/>
                  <a:pt x="9638" y="15032"/>
                  <a:pt x="9723" y="15056"/>
                </a:cubicBezTo>
                <a:cubicBezTo>
                  <a:pt x="9754" y="15065"/>
                  <a:pt x="9826" y="15096"/>
                  <a:pt x="9872" y="15106"/>
                </a:cubicBezTo>
                <a:cubicBezTo>
                  <a:pt x="9939" y="15120"/>
                  <a:pt x="10002" y="15121"/>
                  <a:pt x="10071" y="15131"/>
                </a:cubicBezTo>
                <a:cubicBezTo>
                  <a:pt x="10079" y="15131"/>
                  <a:pt x="10088" y="15131"/>
                  <a:pt x="10096" y="15131"/>
                </a:cubicBezTo>
              </a:path>
              <a:path w="7492" h="7418">
                <a:moveTo>
                  <a:pt x="8558" y="12402"/>
                </a:moveTo>
                <a:cubicBezTo>
                  <a:pt x="8535" y="12477"/>
                  <a:pt x="8514" y="12498"/>
                  <a:pt x="8508" y="12576"/>
                </a:cubicBezTo>
                <a:cubicBezTo>
                  <a:pt x="8494" y="12764"/>
                  <a:pt x="8495" y="12962"/>
                  <a:pt x="8483" y="13146"/>
                </a:cubicBezTo>
                <a:cubicBezTo>
                  <a:pt x="8464" y="13443"/>
                  <a:pt x="8490" y="13748"/>
                  <a:pt x="8508" y="14039"/>
                </a:cubicBezTo>
                <a:cubicBezTo>
                  <a:pt x="8520" y="14230"/>
                  <a:pt x="8519" y="14420"/>
                  <a:pt x="8533" y="14610"/>
                </a:cubicBezTo>
                <a:cubicBezTo>
                  <a:pt x="8544" y="14752"/>
                  <a:pt x="8571" y="14892"/>
                  <a:pt x="8582" y="15032"/>
                </a:cubicBezTo>
                <a:cubicBezTo>
                  <a:pt x="8592" y="15156"/>
                  <a:pt x="8598" y="15282"/>
                  <a:pt x="8607" y="15404"/>
                </a:cubicBezTo>
                <a:cubicBezTo>
                  <a:pt x="8630" y="15701"/>
                  <a:pt x="8597" y="16006"/>
                  <a:pt x="8582" y="16297"/>
                </a:cubicBezTo>
                <a:cubicBezTo>
                  <a:pt x="8576" y="16407"/>
                  <a:pt x="8564" y="16511"/>
                  <a:pt x="8558" y="16619"/>
                </a:cubicBezTo>
                <a:cubicBezTo>
                  <a:pt x="8548" y="16796"/>
                  <a:pt x="8562" y="16967"/>
                  <a:pt x="8533" y="17140"/>
                </a:cubicBezTo>
                <a:cubicBezTo>
                  <a:pt x="8521" y="17214"/>
                  <a:pt x="8520" y="17289"/>
                  <a:pt x="8508" y="17363"/>
                </a:cubicBezTo>
                <a:cubicBezTo>
                  <a:pt x="8502" y="17400"/>
                  <a:pt x="8492" y="17467"/>
                  <a:pt x="8483" y="17512"/>
                </a:cubicBezTo>
                <a:cubicBezTo>
                  <a:pt x="8475" y="17554"/>
                  <a:pt x="8489" y="17557"/>
                  <a:pt x="8458" y="17587"/>
                </a:cubicBezTo>
                <a:cubicBezTo>
                  <a:pt x="8458" y="17570"/>
                  <a:pt x="8458" y="17554"/>
                  <a:pt x="8458" y="17537"/>
                </a:cubicBezTo>
              </a:path>
              <a:path w="7492" h="7418">
                <a:moveTo>
                  <a:pt x="8558" y="12650"/>
                </a:moveTo>
                <a:cubicBezTo>
                  <a:pt x="8558" y="12626"/>
                  <a:pt x="8558" y="12617"/>
                  <a:pt x="8558" y="12601"/>
                </a:cubicBezTo>
                <a:cubicBezTo>
                  <a:pt x="8474" y="12712"/>
                  <a:pt x="8376" y="12855"/>
                  <a:pt x="8285" y="12973"/>
                </a:cubicBezTo>
                <a:cubicBezTo>
                  <a:pt x="8105" y="13206"/>
                  <a:pt x="7920" y="13435"/>
                  <a:pt x="7739" y="13667"/>
                </a:cubicBezTo>
                <a:cubicBezTo>
                  <a:pt x="7610" y="13831"/>
                  <a:pt x="7512" y="14016"/>
                  <a:pt x="7392" y="14188"/>
                </a:cubicBezTo>
                <a:cubicBezTo>
                  <a:pt x="7281" y="14347"/>
                  <a:pt x="7203" y="14525"/>
                  <a:pt x="7094" y="14684"/>
                </a:cubicBezTo>
                <a:cubicBezTo>
                  <a:pt x="6993" y="14831"/>
                  <a:pt x="6949" y="14950"/>
                  <a:pt x="6871" y="15106"/>
                </a:cubicBezTo>
                <a:cubicBezTo>
                  <a:pt x="6781" y="15286"/>
                  <a:pt x="6669" y="15453"/>
                  <a:pt x="6573" y="15627"/>
                </a:cubicBezTo>
                <a:cubicBezTo>
                  <a:pt x="6493" y="15772"/>
                  <a:pt x="6400" y="15891"/>
                  <a:pt x="6300" y="16024"/>
                </a:cubicBezTo>
                <a:cubicBezTo>
                  <a:pt x="6213" y="16140"/>
                  <a:pt x="6131" y="16239"/>
                  <a:pt x="6028" y="16346"/>
                </a:cubicBezTo>
                <a:cubicBezTo>
                  <a:pt x="5927" y="16451"/>
                  <a:pt x="5859" y="16555"/>
                  <a:pt x="5779" y="16669"/>
                </a:cubicBezTo>
                <a:cubicBezTo>
                  <a:pt x="5722" y="16751"/>
                  <a:pt x="5663" y="16833"/>
                  <a:pt x="5606" y="16917"/>
                </a:cubicBezTo>
                <a:cubicBezTo>
                  <a:pt x="5480" y="17101"/>
                  <a:pt x="5370" y="17294"/>
                  <a:pt x="5259" y="17487"/>
                </a:cubicBezTo>
                <a:cubicBezTo>
                  <a:pt x="5199" y="17592"/>
                  <a:pt x="5116" y="17690"/>
                  <a:pt x="5060" y="17785"/>
                </a:cubicBezTo>
                <a:cubicBezTo>
                  <a:pt x="5060" y="17793"/>
                  <a:pt x="5060" y="17802"/>
                  <a:pt x="5060" y="17810"/>
                </a:cubicBezTo>
              </a:path>
              <a:path w="7492" h="7418">
                <a:moveTo>
                  <a:pt x="8384" y="12576"/>
                </a:moveTo>
                <a:cubicBezTo>
                  <a:pt x="8437" y="12563"/>
                  <a:pt x="8485" y="12573"/>
                  <a:pt x="8533" y="12551"/>
                </a:cubicBezTo>
                <a:cubicBezTo>
                  <a:pt x="8558" y="12526"/>
                  <a:pt x="8566" y="12518"/>
                  <a:pt x="8582" y="12502"/>
                </a:cubicBezTo>
                <a:cubicBezTo>
                  <a:pt x="8522" y="12525"/>
                  <a:pt x="8490" y="12519"/>
                  <a:pt x="8434" y="12551"/>
                </a:cubicBezTo>
                <a:cubicBezTo>
                  <a:pt x="8248" y="12655"/>
                  <a:pt x="8068" y="12762"/>
                  <a:pt x="7888" y="12874"/>
                </a:cubicBezTo>
                <a:cubicBezTo>
                  <a:pt x="7689" y="12998"/>
                  <a:pt x="7497" y="13132"/>
                  <a:pt x="7293" y="13246"/>
                </a:cubicBezTo>
                <a:cubicBezTo>
                  <a:pt x="7140" y="13331"/>
                  <a:pt x="6958" y="13407"/>
                  <a:pt x="6821" y="13519"/>
                </a:cubicBezTo>
                <a:cubicBezTo>
                  <a:pt x="6720" y="13601"/>
                  <a:pt x="6631" y="13668"/>
                  <a:pt x="6524" y="13742"/>
                </a:cubicBezTo>
                <a:cubicBezTo>
                  <a:pt x="6371" y="13848"/>
                  <a:pt x="6213" y="13929"/>
                  <a:pt x="6052" y="14015"/>
                </a:cubicBezTo>
                <a:cubicBezTo>
                  <a:pt x="5900" y="14097"/>
                  <a:pt x="5762" y="14194"/>
                  <a:pt x="5606" y="14263"/>
                </a:cubicBezTo>
                <a:cubicBezTo>
                  <a:pt x="5427" y="14342"/>
                  <a:pt x="5229" y="14420"/>
                  <a:pt x="5060" y="14511"/>
                </a:cubicBezTo>
                <a:cubicBezTo>
                  <a:pt x="4933" y="14580"/>
                  <a:pt x="4820" y="14623"/>
                  <a:pt x="4688" y="14684"/>
                </a:cubicBezTo>
                <a:cubicBezTo>
                  <a:pt x="4588" y="14730"/>
                  <a:pt x="4498" y="14773"/>
                  <a:pt x="4390" y="14808"/>
                </a:cubicBezTo>
                <a:cubicBezTo>
                  <a:pt x="4263" y="14849"/>
                  <a:pt x="4142" y="14883"/>
                  <a:pt x="4018" y="14932"/>
                </a:cubicBezTo>
                <a:cubicBezTo>
                  <a:pt x="3916" y="14972"/>
                  <a:pt x="3813" y="15022"/>
                  <a:pt x="3721" y="15081"/>
                </a:cubicBezTo>
                <a:cubicBezTo>
                  <a:pt x="3691" y="15100"/>
                  <a:pt x="3632" y="15151"/>
                  <a:pt x="3621" y="15156"/>
                </a:cubicBezTo>
                <a:cubicBezTo>
                  <a:pt x="3592" y="15169"/>
                  <a:pt x="3552" y="15165"/>
                  <a:pt x="3522" y="15180"/>
                </a:cubicBezTo>
              </a:path>
              <a:path w="7492" h="7418">
                <a:moveTo>
                  <a:pt x="10269" y="15106"/>
                </a:moveTo>
                <a:cubicBezTo>
                  <a:pt x="10294" y="15106"/>
                  <a:pt x="10302" y="15106"/>
                  <a:pt x="10319" y="15106"/>
                </a:cubicBezTo>
                <a:cubicBezTo>
                  <a:pt x="10249" y="15128"/>
                  <a:pt x="10213" y="15129"/>
                  <a:pt x="10145" y="15156"/>
                </a:cubicBezTo>
                <a:cubicBezTo>
                  <a:pt x="9962" y="15229"/>
                  <a:pt x="9783" y="15308"/>
                  <a:pt x="9599" y="15379"/>
                </a:cubicBezTo>
                <a:cubicBezTo>
                  <a:pt x="9451" y="15436"/>
                  <a:pt x="9308" y="15511"/>
                  <a:pt x="9153" y="15553"/>
                </a:cubicBezTo>
                <a:cubicBezTo>
                  <a:pt x="8790" y="15652"/>
                  <a:pt x="8477" y="15845"/>
                  <a:pt x="8136" y="15999"/>
                </a:cubicBezTo>
                <a:cubicBezTo>
                  <a:pt x="7978" y="16071"/>
                  <a:pt x="7821" y="16145"/>
                  <a:pt x="7665" y="16222"/>
                </a:cubicBezTo>
                <a:cubicBezTo>
                  <a:pt x="7516" y="16295"/>
                  <a:pt x="7390" y="16396"/>
                  <a:pt x="7243" y="16470"/>
                </a:cubicBezTo>
                <a:cubicBezTo>
                  <a:pt x="7049" y="16567"/>
                  <a:pt x="6899" y="16703"/>
                  <a:pt x="6722" y="16818"/>
                </a:cubicBezTo>
                <a:cubicBezTo>
                  <a:pt x="6442" y="16999"/>
                  <a:pt x="6153" y="17178"/>
                  <a:pt x="5879" y="17363"/>
                </a:cubicBezTo>
                <a:cubicBezTo>
                  <a:pt x="5764" y="17441"/>
                  <a:pt x="5647" y="17513"/>
                  <a:pt x="5531" y="17587"/>
                </a:cubicBezTo>
                <a:cubicBezTo>
                  <a:pt x="5382" y="17682"/>
                  <a:pt x="5212" y="17732"/>
                  <a:pt x="5060" y="17810"/>
                </a:cubicBezTo>
                <a:cubicBezTo>
                  <a:pt x="5060" y="17835"/>
                  <a:pt x="5060" y="17843"/>
                  <a:pt x="5035" y="17835"/>
                </a:cubicBezTo>
              </a:path>
              <a:path w="7492" h="7418">
                <a:moveTo>
                  <a:pt x="10517" y="15056"/>
                </a:moveTo>
                <a:cubicBezTo>
                  <a:pt x="10481" y="15070"/>
                  <a:pt x="10428" y="15118"/>
                  <a:pt x="10368" y="15131"/>
                </a:cubicBezTo>
                <a:cubicBezTo>
                  <a:pt x="10202" y="15167"/>
                  <a:pt x="10016" y="15198"/>
                  <a:pt x="9847" y="15230"/>
                </a:cubicBezTo>
                <a:cubicBezTo>
                  <a:pt x="9651" y="15267"/>
                  <a:pt x="9426" y="15291"/>
                  <a:pt x="9227" y="15304"/>
                </a:cubicBezTo>
                <a:cubicBezTo>
                  <a:pt x="8970" y="15321"/>
                  <a:pt x="8714" y="15347"/>
                  <a:pt x="8458" y="15379"/>
                </a:cubicBezTo>
                <a:cubicBezTo>
                  <a:pt x="8234" y="15407"/>
                  <a:pt x="8014" y="15449"/>
                  <a:pt x="7789" y="15453"/>
                </a:cubicBezTo>
                <a:cubicBezTo>
                  <a:pt x="7501" y="15459"/>
                  <a:pt x="7207" y="15458"/>
                  <a:pt x="6921" y="15429"/>
                </a:cubicBezTo>
                <a:cubicBezTo>
                  <a:pt x="6740" y="15411"/>
                  <a:pt x="6555" y="15402"/>
                  <a:pt x="6375" y="15379"/>
                </a:cubicBezTo>
                <a:cubicBezTo>
                  <a:pt x="6200" y="15357"/>
                  <a:pt x="6032" y="15354"/>
                  <a:pt x="5854" y="15354"/>
                </a:cubicBezTo>
                <a:cubicBezTo>
                  <a:pt x="5669" y="15354"/>
                  <a:pt x="5491" y="15316"/>
                  <a:pt x="5308" y="15304"/>
                </a:cubicBezTo>
                <a:cubicBezTo>
                  <a:pt x="5160" y="15294"/>
                  <a:pt x="5010" y="15294"/>
                  <a:pt x="4862" y="15280"/>
                </a:cubicBezTo>
                <a:cubicBezTo>
                  <a:pt x="4705" y="15265"/>
                  <a:pt x="4546" y="15237"/>
                  <a:pt x="4390" y="15230"/>
                </a:cubicBezTo>
                <a:cubicBezTo>
                  <a:pt x="4215" y="15222"/>
                  <a:pt x="4043" y="15214"/>
                  <a:pt x="3870" y="15205"/>
                </a:cubicBezTo>
                <a:cubicBezTo>
                  <a:pt x="3665" y="15195"/>
                  <a:pt x="3445" y="15197"/>
                  <a:pt x="3249" y="15230"/>
                </a:cubicBezTo>
                <a:cubicBezTo>
                  <a:pt x="3192" y="15240"/>
                  <a:pt x="3133" y="15245"/>
                  <a:pt x="3076" y="15255"/>
                </a:cubicBezTo>
              </a:path>
              <a:path w="7492" h="7418">
                <a:moveTo>
                  <a:pt x="8632" y="17686"/>
                </a:moveTo>
                <a:cubicBezTo>
                  <a:pt x="8575" y="17675"/>
                  <a:pt x="8515" y="17670"/>
                  <a:pt x="8458" y="17661"/>
                </a:cubicBezTo>
                <a:cubicBezTo>
                  <a:pt x="8341" y="17643"/>
                  <a:pt x="8227" y="17619"/>
                  <a:pt x="8111" y="17587"/>
                </a:cubicBezTo>
                <a:cubicBezTo>
                  <a:pt x="8027" y="17564"/>
                  <a:pt x="7944" y="17533"/>
                  <a:pt x="7863" y="17512"/>
                </a:cubicBezTo>
                <a:cubicBezTo>
                  <a:pt x="7804" y="17497"/>
                  <a:pt x="7746" y="17488"/>
                  <a:pt x="7689" y="17462"/>
                </a:cubicBezTo>
                <a:cubicBezTo>
                  <a:pt x="7544" y="17395"/>
                  <a:pt x="7386" y="17337"/>
                  <a:pt x="7243" y="17264"/>
                </a:cubicBezTo>
                <a:cubicBezTo>
                  <a:pt x="7177" y="17230"/>
                  <a:pt x="7113" y="17178"/>
                  <a:pt x="7045" y="17140"/>
                </a:cubicBezTo>
                <a:cubicBezTo>
                  <a:pt x="6974" y="17100"/>
                  <a:pt x="6915" y="17059"/>
                  <a:pt x="6846" y="17016"/>
                </a:cubicBezTo>
                <a:cubicBezTo>
                  <a:pt x="6756" y="16959"/>
                  <a:pt x="6667" y="16915"/>
                  <a:pt x="6573" y="16867"/>
                </a:cubicBezTo>
                <a:cubicBezTo>
                  <a:pt x="6480" y="16820"/>
                  <a:pt x="6393" y="16767"/>
                  <a:pt x="6300" y="16718"/>
                </a:cubicBezTo>
                <a:cubicBezTo>
                  <a:pt x="6203" y="16666"/>
                  <a:pt x="6097" y="16617"/>
                  <a:pt x="6003" y="16570"/>
                </a:cubicBezTo>
                <a:cubicBezTo>
                  <a:pt x="5911" y="16524"/>
                  <a:pt x="5817" y="16478"/>
                  <a:pt x="5730" y="16421"/>
                </a:cubicBezTo>
                <a:cubicBezTo>
                  <a:pt x="5596" y="16332"/>
                  <a:pt x="5454" y="16244"/>
                  <a:pt x="5308" y="16173"/>
                </a:cubicBezTo>
                <a:cubicBezTo>
                  <a:pt x="5257" y="16148"/>
                  <a:pt x="5084" y="16028"/>
                  <a:pt x="5060" y="16024"/>
                </a:cubicBezTo>
                <a:cubicBezTo>
                  <a:pt x="4991" y="16013"/>
                  <a:pt x="4955" y="16068"/>
                  <a:pt x="4887" y="16049"/>
                </a:cubicBezTo>
                <a:cubicBezTo>
                  <a:pt x="4715" y="16000"/>
                  <a:pt x="4532" y="15943"/>
                  <a:pt x="4366" y="15875"/>
                </a:cubicBezTo>
                <a:cubicBezTo>
                  <a:pt x="4268" y="15835"/>
                  <a:pt x="4157" y="15790"/>
                  <a:pt x="4068" y="15751"/>
                </a:cubicBezTo>
                <a:cubicBezTo>
                  <a:pt x="3949" y="15698"/>
                  <a:pt x="3836" y="15636"/>
                  <a:pt x="3721" y="15577"/>
                </a:cubicBezTo>
                <a:cubicBezTo>
                  <a:pt x="3625" y="15528"/>
                  <a:pt x="3526" y="15495"/>
                  <a:pt x="3423" y="15453"/>
                </a:cubicBezTo>
                <a:cubicBezTo>
                  <a:pt x="3310" y="15407"/>
                  <a:pt x="3188" y="15340"/>
                  <a:pt x="3076" y="15304"/>
                </a:cubicBezTo>
                <a:cubicBezTo>
                  <a:pt x="3059" y="15304"/>
                  <a:pt x="3043" y="15304"/>
                  <a:pt x="3026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3983040"/>
            <a:ext cx="1839960" cy="2054160"/>
          </a:xfrm>
          <a:custGeom>
            <a:avLst/>
            <a:gdLst/>
            <a:ahLst/>
            <a:rect l="l" t="t" r="r" b="b"/>
            <a:pathLst>
              <a:path w="5111" h="5706">
                <a:moveTo>
                  <a:pt x="17835" y="11237"/>
                </a:moveTo>
                <a:cubicBezTo>
                  <a:pt x="17818" y="11186"/>
                  <a:pt x="17802" y="11222"/>
                  <a:pt x="17810" y="11261"/>
                </a:cubicBezTo>
                <a:cubicBezTo>
                  <a:pt x="17831" y="11345"/>
                  <a:pt x="17832" y="11364"/>
                  <a:pt x="17859" y="11410"/>
                </a:cubicBezTo>
                <a:cubicBezTo>
                  <a:pt x="17784" y="11318"/>
                  <a:pt x="17750" y="11223"/>
                  <a:pt x="17711" y="11112"/>
                </a:cubicBezTo>
                <a:cubicBezTo>
                  <a:pt x="17792" y="11096"/>
                  <a:pt x="17874" y="11076"/>
                  <a:pt x="17959" y="11063"/>
                </a:cubicBezTo>
                <a:cubicBezTo>
                  <a:pt x="17967" y="11063"/>
                  <a:pt x="17975" y="11063"/>
                  <a:pt x="17983" y="11063"/>
                </a:cubicBezTo>
              </a:path>
              <a:path w="5111" h="5706">
                <a:moveTo>
                  <a:pt x="17835" y="11261"/>
                </a:moveTo>
                <a:cubicBezTo>
                  <a:pt x="17904" y="11255"/>
                  <a:pt x="17965" y="11244"/>
                  <a:pt x="18033" y="11237"/>
                </a:cubicBezTo>
              </a:path>
              <a:path w="5111" h="5706">
                <a:moveTo>
                  <a:pt x="16495" y="12551"/>
                </a:moveTo>
                <a:cubicBezTo>
                  <a:pt x="16554" y="12580"/>
                  <a:pt x="16611" y="12607"/>
                  <a:pt x="16669" y="12650"/>
                </a:cubicBezTo>
                <a:cubicBezTo>
                  <a:pt x="16773" y="12727"/>
                  <a:pt x="16898" y="12809"/>
                  <a:pt x="16991" y="12898"/>
                </a:cubicBezTo>
                <a:cubicBezTo>
                  <a:pt x="17057" y="12961"/>
                  <a:pt x="17131" y="13019"/>
                  <a:pt x="17190" y="13072"/>
                </a:cubicBezTo>
                <a:cubicBezTo>
                  <a:pt x="17256" y="13131"/>
                  <a:pt x="17312" y="13200"/>
                  <a:pt x="17363" y="13271"/>
                </a:cubicBezTo>
                <a:cubicBezTo>
                  <a:pt x="17441" y="13380"/>
                  <a:pt x="17523" y="13464"/>
                  <a:pt x="17611" y="13568"/>
                </a:cubicBezTo>
                <a:cubicBezTo>
                  <a:pt x="17736" y="13716"/>
                  <a:pt x="17870" y="13816"/>
                  <a:pt x="18008" y="13940"/>
                </a:cubicBezTo>
                <a:cubicBezTo>
                  <a:pt x="18113" y="14034"/>
                  <a:pt x="18241" y="14144"/>
                  <a:pt x="18331" y="14238"/>
                </a:cubicBezTo>
                <a:cubicBezTo>
                  <a:pt x="18424" y="14336"/>
                  <a:pt x="18511" y="14438"/>
                  <a:pt x="18604" y="14536"/>
                </a:cubicBezTo>
                <a:cubicBezTo>
                  <a:pt x="18697" y="14634"/>
                  <a:pt x="18770" y="14727"/>
                  <a:pt x="18852" y="14833"/>
                </a:cubicBezTo>
                <a:cubicBezTo>
                  <a:pt x="18922" y="14923"/>
                  <a:pt x="18959" y="15014"/>
                  <a:pt x="19025" y="15106"/>
                </a:cubicBezTo>
                <a:cubicBezTo>
                  <a:pt x="19134" y="15259"/>
                  <a:pt x="19241" y="15428"/>
                  <a:pt x="19348" y="15577"/>
                </a:cubicBezTo>
                <a:cubicBezTo>
                  <a:pt x="19419" y="15676"/>
                  <a:pt x="19513" y="15786"/>
                  <a:pt x="19596" y="15875"/>
                </a:cubicBezTo>
                <a:cubicBezTo>
                  <a:pt x="19677" y="15962"/>
                  <a:pt x="19760" y="16016"/>
                  <a:pt x="19844" y="16073"/>
                </a:cubicBezTo>
                <a:cubicBezTo>
                  <a:pt x="19883" y="16100"/>
                  <a:pt x="19944" y="16155"/>
                  <a:pt x="19968" y="16173"/>
                </a:cubicBezTo>
                <a:cubicBezTo>
                  <a:pt x="20042" y="16227"/>
                  <a:pt x="20097" y="16269"/>
                  <a:pt x="20166" y="16346"/>
                </a:cubicBezTo>
                <a:cubicBezTo>
                  <a:pt x="20207" y="16392"/>
                  <a:pt x="20265" y="16439"/>
                  <a:pt x="20290" y="16495"/>
                </a:cubicBezTo>
                <a:cubicBezTo>
                  <a:pt x="20305" y="16530"/>
                  <a:pt x="20301" y="16583"/>
                  <a:pt x="20315" y="16619"/>
                </a:cubicBezTo>
                <a:cubicBezTo>
                  <a:pt x="20326" y="16649"/>
                  <a:pt x="20329" y="16639"/>
                  <a:pt x="20340" y="16669"/>
                </a:cubicBezTo>
              </a:path>
              <a:path w="5111" h="5706">
                <a:moveTo>
                  <a:pt x="21605" y="12427"/>
                </a:moveTo>
                <a:cubicBezTo>
                  <a:pt x="21552" y="12467"/>
                  <a:pt x="21467" y="12513"/>
                  <a:pt x="21406" y="12576"/>
                </a:cubicBezTo>
                <a:cubicBezTo>
                  <a:pt x="21193" y="12795"/>
                  <a:pt x="21033" y="13021"/>
                  <a:pt x="20861" y="13271"/>
                </a:cubicBezTo>
                <a:cubicBezTo>
                  <a:pt x="20749" y="13433"/>
                  <a:pt x="20623" y="13598"/>
                  <a:pt x="20489" y="13742"/>
                </a:cubicBezTo>
                <a:cubicBezTo>
                  <a:pt x="20290" y="13956"/>
                  <a:pt x="20080" y="14187"/>
                  <a:pt x="19869" y="14387"/>
                </a:cubicBezTo>
                <a:cubicBezTo>
                  <a:pt x="19727" y="14521"/>
                  <a:pt x="19568" y="14635"/>
                  <a:pt x="19422" y="14759"/>
                </a:cubicBezTo>
                <a:cubicBezTo>
                  <a:pt x="19316" y="14849"/>
                  <a:pt x="19216" y="14975"/>
                  <a:pt x="19124" y="15081"/>
                </a:cubicBezTo>
                <a:cubicBezTo>
                  <a:pt x="19025" y="15196"/>
                  <a:pt x="18926" y="15313"/>
                  <a:pt x="18827" y="15429"/>
                </a:cubicBezTo>
                <a:cubicBezTo>
                  <a:pt x="18746" y="15524"/>
                  <a:pt x="18681" y="15628"/>
                  <a:pt x="18604" y="15726"/>
                </a:cubicBezTo>
                <a:cubicBezTo>
                  <a:pt x="18522" y="15832"/>
                  <a:pt x="18443" y="15948"/>
                  <a:pt x="18355" y="16049"/>
                </a:cubicBezTo>
                <a:cubicBezTo>
                  <a:pt x="18280" y="16136"/>
                  <a:pt x="18194" y="16200"/>
                  <a:pt x="18132" y="16297"/>
                </a:cubicBezTo>
                <a:cubicBezTo>
                  <a:pt x="18098" y="16350"/>
                  <a:pt x="18067" y="16415"/>
                  <a:pt x="18033" y="16470"/>
                </a:cubicBezTo>
                <a:cubicBezTo>
                  <a:pt x="17999" y="16524"/>
                  <a:pt x="17990" y="16571"/>
                  <a:pt x="17959" y="16619"/>
                </a:cubicBezTo>
                <a:cubicBezTo>
                  <a:pt x="17936" y="16654"/>
                  <a:pt x="17927" y="16673"/>
                  <a:pt x="17909" y="16694"/>
                </a:cubicBezTo>
                <a:cubicBezTo>
                  <a:pt x="17877" y="16731"/>
                  <a:pt x="17896" y="16686"/>
                  <a:pt x="17859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0920" y="3581280"/>
            <a:ext cx="179280" cy="16056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0120" y="10021"/>
                </a:moveTo>
                <a:cubicBezTo>
                  <a:pt x="10120" y="10114"/>
                  <a:pt x="10109" y="10044"/>
                  <a:pt x="10071" y="10021"/>
                </a:cubicBezTo>
                <a:cubicBezTo>
                  <a:pt x="9865" y="9894"/>
                  <a:pt x="9565" y="10032"/>
                  <a:pt x="9699" y="10319"/>
                </a:cubicBezTo>
                <a:cubicBezTo>
                  <a:pt x="9774" y="10479"/>
                  <a:pt x="10124" y="10376"/>
                  <a:pt x="10195" y="10269"/>
                </a:cubicBezTo>
                <a:cubicBezTo>
                  <a:pt x="10187" y="10269"/>
                  <a:pt x="10178" y="10269"/>
                  <a:pt x="10170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5880" y="4295880"/>
            <a:ext cx="152280" cy="152280"/>
          </a:xfrm>
          <a:custGeom>
            <a:avLst/>
            <a:gdLst/>
            <a:ahLst/>
            <a:rect l="l" t="t" r="r" b="b"/>
            <a:pathLst>
              <a:path w="422" h="423">
                <a:moveTo>
                  <a:pt x="8756" y="11981"/>
                </a:moveTo>
                <a:cubicBezTo>
                  <a:pt x="8733" y="12093"/>
                  <a:pt x="8741" y="12213"/>
                  <a:pt x="8706" y="12328"/>
                </a:cubicBezTo>
                <a:cubicBezTo>
                  <a:pt x="8698" y="12336"/>
                  <a:pt x="8690" y="12345"/>
                  <a:pt x="8682" y="12353"/>
                </a:cubicBezTo>
              </a:path>
              <a:path w="422" h="423">
                <a:moveTo>
                  <a:pt x="8781" y="12080"/>
                </a:moveTo>
                <a:cubicBezTo>
                  <a:pt x="8852" y="12185"/>
                  <a:pt x="8914" y="12263"/>
                  <a:pt x="9004" y="12353"/>
                </a:cubicBezTo>
                <a:cubicBezTo>
                  <a:pt x="9039" y="12212"/>
                  <a:pt x="9055" y="12068"/>
                  <a:pt x="9103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3705120"/>
            <a:ext cx="241560" cy="22392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595" y="10294"/>
                </a:moveTo>
                <a:cubicBezTo>
                  <a:pt x="694" y="10457"/>
                  <a:pt x="732" y="10601"/>
                  <a:pt x="744" y="10790"/>
                </a:cubicBezTo>
                <a:cubicBezTo>
                  <a:pt x="753" y="10935"/>
                  <a:pt x="657" y="10734"/>
                  <a:pt x="645" y="10716"/>
                </a:cubicBezTo>
              </a:path>
              <a:path w="671" h="621">
                <a:moveTo>
                  <a:pt x="446" y="10468"/>
                </a:moveTo>
                <a:cubicBezTo>
                  <a:pt x="648" y="10354"/>
                  <a:pt x="869" y="10244"/>
                  <a:pt x="1067" y="10443"/>
                </a:cubicBezTo>
                <a:cubicBezTo>
                  <a:pt x="1224" y="10601"/>
                  <a:pt x="1011" y="10812"/>
                  <a:pt x="868" y="10864"/>
                </a:cubicBezTo>
                <a:cubicBezTo>
                  <a:pt x="767" y="10884"/>
                  <a:pt x="747" y="10882"/>
                  <a:pt x="695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160" y="3670200"/>
            <a:ext cx="482760" cy="384120"/>
          </a:xfrm>
          <a:custGeom>
            <a:avLst/>
            <a:gdLst/>
            <a:ahLst/>
            <a:rect l="l" t="t" r="r" b="b"/>
            <a:pathLst>
              <a:path w="1340" h="1067">
                <a:moveTo>
                  <a:pt x="2530" y="10716"/>
                </a:moveTo>
                <a:cubicBezTo>
                  <a:pt x="2514" y="10875"/>
                  <a:pt x="2488" y="11031"/>
                  <a:pt x="2456" y="11187"/>
                </a:cubicBezTo>
                <a:cubicBezTo>
                  <a:pt x="2492" y="10984"/>
                  <a:pt x="2537" y="10797"/>
                  <a:pt x="2679" y="10641"/>
                </a:cubicBezTo>
                <a:cubicBezTo>
                  <a:pt x="2735" y="10604"/>
                  <a:pt x="2739" y="10587"/>
                  <a:pt x="2778" y="10592"/>
                </a:cubicBezTo>
                <a:cubicBezTo>
                  <a:pt x="2846" y="10833"/>
                  <a:pt x="2848" y="10974"/>
                  <a:pt x="2803" y="11212"/>
                </a:cubicBezTo>
                <a:cubicBezTo>
                  <a:pt x="2803" y="11261"/>
                  <a:pt x="2803" y="11277"/>
                  <a:pt x="2803" y="11212"/>
                </a:cubicBezTo>
              </a:path>
              <a:path w="1340" h="1067">
                <a:moveTo>
                  <a:pt x="2629" y="11013"/>
                </a:moveTo>
                <a:cubicBezTo>
                  <a:pt x="2765" y="10966"/>
                  <a:pt x="2883" y="10939"/>
                  <a:pt x="3026" y="10914"/>
                </a:cubicBezTo>
              </a:path>
              <a:path w="1340" h="1067">
                <a:moveTo>
                  <a:pt x="2927" y="10319"/>
                </a:moveTo>
                <a:cubicBezTo>
                  <a:pt x="2876" y="10332"/>
                  <a:pt x="2864" y="10344"/>
                  <a:pt x="2803" y="10344"/>
                </a:cubicBezTo>
                <a:cubicBezTo>
                  <a:pt x="2762" y="10344"/>
                  <a:pt x="2754" y="10344"/>
                  <a:pt x="2729" y="10344"/>
                </a:cubicBezTo>
                <a:cubicBezTo>
                  <a:pt x="2937" y="10344"/>
                  <a:pt x="3141" y="10360"/>
                  <a:pt x="3349" y="10368"/>
                </a:cubicBezTo>
                <a:cubicBezTo>
                  <a:pt x="3463" y="10373"/>
                  <a:pt x="3486" y="10393"/>
                  <a:pt x="3572" y="10393"/>
                </a:cubicBezTo>
                <a:cubicBezTo>
                  <a:pt x="3545" y="10286"/>
                  <a:pt x="3528" y="10449"/>
                  <a:pt x="3621" y="10418"/>
                </a:cubicBezTo>
                <a:cubicBezTo>
                  <a:pt x="3656" y="10383"/>
                  <a:pt x="3669" y="10361"/>
                  <a:pt x="3671" y="10319"/>
                </a:cubicBezTo>
                <a:cubicBezTo>
                  <a:pt x="3609" y="10344"/>
                  <a:pt x="3570" y="10365"/>
                  <a:pt x="3597" y="10418"/>
                </a:cubicBezTo>
              </a:path>
              <a:path w="1340" h="1067">
                <a:moveTo>
                  <a:pt x="2778" y="10319"/>
                </a:moveTo>
                <a:cubicBezTo>
                  <a:pt x="2771" y="10319"/>
                  <a:pt x="2688" y="10319"/>
                  <a:pt x="2753" y="10319"/>
                </a:cubicBezTo>
                <a:cubicBezTo>
                  <a:pt x="2864" y="10297"/>
                  <a:pt x="2842" y="10313"/>
                  <a:pt x="2853" y="10195"/>
                </a:cubicBezTo>
                <a:cubicBezTo>
                  <a:pt x="2797" y="10240"/>
                  <a:pt x="2751" y="10303"/>
                  <a:pt x="2778" y="10368"/>
                </a:cubicBezTo>
              </a:path>
              <a:path w="1340" h="1067">
                <a:moveTo>
                  <a:pt x="3572" y="10815"/>
                </a:moveTo>
                <a:cubicBezTo>
                  <a:pt x="3555" y="10798"/>
                  <a:pt x="3539" y="10782"/>
                  <a:pt x="3522" y="10765"/>
                </a:cubicBezTo>
                <a:cubicBezTo>
                  <a:pt x="3408" y="10765"/>
                  <a:pt x="3367" y="10921"/>
                  <a:pt x="3349" y="11013"/>
                </a:cubicBezTo>
                <a:cubicBezTo>
                  <a:pt x="3297" y="11288"/>
                  <a:pt x="3594" y="11212"/>
                  <a:pt x="3746" y="11162"/>
                </a:cubicBezTo>
                <a:cubicBezTo>
                  <a:pt x="3762" y="11154"/>
                  <a:pt x="3779" y="11145"/>
                  <a:pt x="3795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0880" y="371484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5234" y="10592"/>
                </a:moveTo>
                <a:cubicBezTo>
                  <a:pt x="5241" y="10750"/>
                  <a:pt x="5253" y="10905"/>
                  <a:pt x="5259" y="11063"/>
                </a:cubicBezTo>
              </a:path>
              <a:path w="1018" h="745">
                <a:moveTo>
                  <a:pt x="5060" y="10616"/>
                </a:moveTo>
                <a:cubicBezTo>
                  <a:pt x="5130" y="10565"/>
                  <a:pt x="5380" y="10373"/>
                  <a:pt x="5432" y="10542"/>
                </a:cubicBezTo>
                <a:cubicBezTo>
                  <a:pt x="5432" y="10649"/>
                  <a:pt x="5425" y="10687"/>
                  <a:pt x="5333" y="10716"/>
                </a:cubicBezTo>
                <a:cubicBezTo>
                  <a:pt x="5316" y="10724"/>
                  <a:pt x="5300" y="10732"/>
                  <a:pt x="5283" y="10740"/>
                </a:cubicBezTo>
                <a:cubicBezTo>
                  <a:pt x="5388" y="10729"/>
                  <a:pt x="5619" y="10686"/>
                  <a:pt x="5556" y="10889"/>
                </a:cubicBezTo>
                <a:cubicBezTo>
                  <a:pt x="5504" y="11054"/>
                  <a:pt x="5284" y="11030"/>
                  <a:pt x="5159" y="10988"/>
                </a:cubicBezTo>
                <a:cubicBezTo>
                  <a:pt x="5167" y="10988"/>
                  <a:pt x="5176" y="10988"/>
                  <a:pt x="5184" y="10988"/>
                </a:cubicBezTo>
              </a:path>
              <a:path w="1018" h="745">
                <a:moveTo>
                  <a:pt x="5755" y="10567"/>
                </a:moveTo>
                <a:cubicBezTo>
                  <a:pt x="5765" y="10667"/>
                  <a:pt x="5794" y="10764"/>
                  <a:pt x="5804" y="10864"/>
                </a:cubicBezTo>
              </a:path>
              <a:path w="1018" h="745">
                <a:moveTo>
                  <a:pt x="5655" y="10592"/>
                </a:moveTo>
                <a:cubicBezTo>
                  <a:pt x="5786" y="10586"/>
                  <a:pt x="6110" y="10570"/>
                  <a:pt x="6028" y="10815"/>
                </a:cubicBezTo>
                <a:cubicBezTo>
                  <a:pt x="5951" y="11045"/>
                  <a:pt x="5785" y="10944"/>
                  <a:pt x="5680" y="10840"/>
                </a:cubicBezTo>
              </a:path>
              <a:path w="1018" h="745">
                <a:moveTo>
                  <a:pt x="5110" y="10344"/>
                </a:moveTo>
                <a:cubicBezTo>
                  <a:pt x="5326" y="10323"/>
                  <a:pt x="5582" y="10319"/>
                  <a:pt x="5804" y="10344"/>
                </a:cubicBezTo>
                <a:cubicBezTo>
                  <a:pt x="5859" y="10350"/>
                  <a:pt x="5878" y="10368"/>
                  <a:pt x="5928" y="10368"/>
                </a:cubicBezTo>
              </a:path>
              <a:path w="1018" h="745">
                <a:moveTo>
                  <a:pt x="6003" y="10344"/>
                </a:moveTo>
                <a:cubicBezTo>
                  <a:pt x="5992" y="10376"/>
                  <a:pt x="5993" y="10377"/>
                  <a:pt x="5978" y="10418"/>
                </a:cubicBezTo>
                <a:cubicBezTo>
                  <a:pt x="5970" y="10435"/>
                  <a:pt x="5961" y="10451"/>
                  <a:pt x="5953" y="10468"/>
                </a:cubicBezTo>
                <a:cubicBezTo>
                  <a:pt x="5980" y="10463"/>
                  <a:pt x="6167" y="10376"/>
                  <a:pt x="6052" y="10368"/>
                </a:cubicBezTo>
                <a:cubicBezTo>
                  <a:pt x="6011" y="10368"/>
                  <a:pt x="5969" y="10368"/>
                  <a:pt x="5928" y="10368"/>
                </a:cubicBezTo>
              </a:path>
              <a:path w="1018" h="745">
                <a:moveTo>
                  <a:pt x="5283" y="10344"/>
                </a:moveTo>
                <a:cubicBezTo>
                  <a:pt x="5276" y="10371"/>
                  <a:pt x="5232" y="10433"/>
                  <a:pt x="5259" y="10393"/>
                </a:cubicBezTo>
                <a:cubicBezTo>
                  <a:pt x="5303" y="10329"/>
                  <a:pt x="5197" y="10374"/>
                  <a:pt x="5159" y="10393"/>
                </a:cubicBezTo>
                <a:cubicBezTo>
                  <a:pt x="5184" y="10368"/>
                  <a:pt x="5192" y="10360"/>
                  <a:pt x="520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73960" y="1724040"/>
            <a:ext cx="1500120" cy="4670280"/>
          </a:xfrm>
          <a:custGeom>
            <a:avLst/>
            <a:gdLst/>
            <a:ahLst/>
            <a:rect l="l" t="t" r="r" b="b"/>
            <a:pathLst>
              <a:path w="4168" h="12974">
                <a:moveTo>
                  <a:pt x="22845" y="8706"/>
                </a:moveTo>
                <a:cubicBezTo>
                  <a:pt x="22856" y="8840"/>
                  <a:pt x="22888" y="8969"/>
                  <a:pt x="22895" y="9103"/>
                </a:cubicBezTo>
                <a:cubicBezTo>
                  <a:pt x="22895" y="9136"/>
                  <a:pt x="22895" y="9136"/>
                  <a:pt x="22895" y="9079"/>
                </a:cubicBezTo>
              </a:path>
              <a:path w="4168" h="12974">
                <a:moveTo>
                  <a:pt x="22870" y="8731"/>
                </a:moveTo>
                <a:cubicBezTo>
                  <a:pt x="22993" y="8763"/>
                  <a:pt x="23309" y="8830"/>
                  <a:pt x="23118" y="9029"/>
                </a:cubicBezTo>
                <a:cubicBezTo>
                  <a:pt x="23064" y="9086"/>
                  <a:pt x="22966" y="9095"/>
                  <a:pt x="22895" y="9103"/>
                </a:cubicBezTo>
              </a:path>
              <a:path w="4168" h="12974">
                <a:moveTo>
                  <a:pt x="23713" y="5259"/>
                </a:moveTo>
                <a:cubicBezTo>
                  <a:pt x="23713" y="5387"/>
                  <a:pt x="23699" y="5505"/>
                  <a:pt x="23688" y="5631"/>
                </a:cubicBezTo>
                <a:cubicBezTo>
                  <a:pt x="23688" y="5495"/>
                  <a:pt x="23684" y="5367"/>
                  <a:pt x="23713" y="5234"/>
                </a:cubicBezTo>
                <a:cubicBezTo>
                  <a:pt x="23738" y="5159"/>
                  <a:pt x="23746" y="5135"/>
                  <a:pt x="23812" y="5135"/>
                </a:cubicBezTo>
                <a:cubicBezTo>
                  <a:pt x="23968" y="5241"/>
                  <a:pt x="24046" y="5314"/>
                  <a:pt x="24061" y="5507"/>
                </a:cubicBezTo>
                <a:cubicBezTo>
                  <a:pt x="24061" y="5523"/>
                  <a:pt x="24061" y="5540"/>
                  <a:pt x="24061" y="5556"/>
                </a:cubicBezTo>
              </a:path>
              <a:path w="4168" h="12974">
                <a:moveTo>
                  <a:pt x="23763" y="5482"/>
                </a:moveTo>
                <a:cubicBezTo>
                  <a:pt x="23853" y="5455"/>
                  <a:pt x="23944" y="5401"/>
                  <a:pt x="24036" y="5358"/>
                </a:cubicBezTo>
              </a:path>
              <a:path w="4168" h="12974">
                <a:moveTo>
                  <a:pt x="24209" y="5184"/>
                </a:moveTo>
                <a:cubicBezTo>
                  <a:pt x="24138" y="5169"/>
                  <a:pt x="24040" y="5102"/>
                  <a:pt x="24036" y="5234"/>
                </a:cubicBezTo>
                <a:cubicBezTo>
                  <a:pt x="24033" y="5338"/>
                  <a:pt x="24137" y="5504"/>
                  <a:pt x="24259" y="5407"/>
                </a:cubicBezTo>
                <a:cubicBezTo>
                  <a:pt x="24267" y="5382"/>
                  <a:pt x="24276" y="5358"/>
                  <a:pt x="24284" y="5333"/>
                </a:cubicBezTo>
              </a:path>
              <a:path w="4168" h="12974">
                <a:moveTo>
                  <a:pt x="23664" y="5011"/>
                </a:moveTo>
                <a:cubicBezTo>
                  <a:pt x="23766" y="5011"/>
                  <a:pt x="23860" y="4973"/>
                  <a:pt x="23961" y="4961"/>
                </a:cubicBezTo>
                <a:cubicBezTo>
                  <a:pt x="23999" y="4957"/>
                  <a:pt x="24045" y="4961"/>
                  <a:pt x="24085" y="4961"/>
                </a:cubicBezTo>
              </a:path>
              <a:path w="4168" h="12974">
                <a:moveTo>
                  <a:pt x="24085" y="4936"/>
                </a:moveTo>
                <a:cubicBezTo>
                  <a:pt x="24016" y="4936"/>
                  <a:pt x="24027" y="4996"/>
                  <a:pt x="24085" y="4986"/>
                </a:cubicBezTo>
                <a:cubicBezTo>
                  <a:pt x="24106" y="4982"/>
                  <a:pt x="24002" y="4939"/>
                  <a:pt x="23986" y="4936"/>
                </a:cubicBezTo>
              </a:path>
              <a:path w="4168" h="12974">
                <a:moveTo>
                  <a:pt x="23688" y="5060"/>
                </a:moveTo>
                <a:cubicBezTo>
                  <a:pt x="23647" y="5113"/>
                  <a:pt x="23664" y="5122"/>
                  <a:pt x="23614" y="5110"/>
                </a:cubicBezTo>
              </a:path>
              <a:path w="4168" h="12974">
                <a:moveTo>
                  <a:pt x="23515" y="7144"/>
                </a:moveTo>
                <a:cubicBezTo>
                  <a:pt x="23525" y="7211"/>
                  <a:pt x="23535" y="7274"/>
                  <a:pt x="23540" y="7342"/>
                </a:cubicBezTo>
                <a:cubicBezTo>
                  <a:pt x="23540" y="7425"/>
                  <a:pt x="23545" y="7225"/>
                  <a:pt x="23564" y="7144"/>
                </a:cubicBezTo>
                <a:cubicBezTo>
                  <a:pt x="23586" y="7053"/>
                  <a:pt x="23668" y="6981"/>
                  <a:pt x="23738" y="7094"/>
                </a:cubicBezTo>
                <a:cubicBezTo>
                  <a:pt x="23783" y="7166"/>
                  <a:pt x="23795" y="7266"/>
                  <a:pt x="23812" y="7317"/>
                </a:cubicBezTo>
              </a:path>
              <a:path w="4168" h="12974">
                <a:moveTo>
                  <a:pt x="23564" y="7268"/>
                </a:moveTo>
                <a:cubicBezTo>
                  <a:pt x="23673" y="7227"/>
                  <a:pt x="23774" y="7197"/>
                  <a:pt x="23887" y="7169"/>
                </a:cubicBezTo>
              </a:path>
              <a:path w="4168" h="12974">
                <a:moveTo>
                  <a:pt x="24011" y="6995"/>
                </a:moveTo>
                <a:cubicBezTo>
                  <a:pt x="24054" y="7053"/>
                  <a:pt x="24052" y="7168"/>
                  <a:pt x="24061" y="7243"/>
                </a:cubicBezTo>
                <a:cubicBezTo>
                  <a:pt x="24061" y="7260"/>
                  <a:pt x="24061" y="7276"/>
                  <a:pt x="24061" y="7293"/>
                </a:cubicBezTo>
                <a:cubicBezTo>
                  <a:pt x="24125" y="7293"/>
                  <a:pt x="24158" y="7298"/>
                  <a:pt x="24185" y="7243"/>
                </a:cubicBezTo>
              </a:path>
              <a:path w="4168" h="12974">
                <a:moveTo>
                  <a:pt x="24036" y="7193"/>
                </a:moveTo>
                <a:cubicBezTo>
                  <a:pt x="24105" y="7145"/>
                  <a:pt x="24135" y="7146"/>
                  <a:pt x="24135" y="7069"/>
                </a:cubicBezTo>
              </a:path>
              <a:path w="4168" h="12974">
                <a:moveTo>
                  <a:pt x="24036" y="7020"/>
                </a:moveTo>
                <a:cubicBezTo>
                  <a:pt x="24077" y="6993"/>
                  <a:pt x="24119" y="6972"/>
                  <a:pt x="24160" y="6945"/>
                </a:cubicBezTo>
              </a:path>
              <a:path w="4168" h="12974">
                <a:moveTo>
                  <a:pt x="23490" y="7020"/>
                </a:moveTo>
                <a:cubicBezTo>
                  <a:pt x="23482" y="7020"/>
                  <a:pt x="23473" y="7020"/>
                  <a:pt x="23465" y="7020"/>
                </a:cubicBezTo>
                <a:cubicBezTo>
                  <a:pt x="23494" y="6932"/>
                  <a:pt x="23742" y="6937"/>
                  <a:pt x="23812" y="6921"/>
                </a:cubicBezTo>
                <a:cubicBezTo>
                  <a:pt x="23920" y="6896"/>
                  <a:pt x="24023" y="6846"/>
                  <a:pt x="24135" y="6846"/>
                </a:cubicBezTo>
              </a:path>
              <a:path w="4168" h="12974">
                <a:moveTo>
                  <a:pt x="23688" y="8384"/>
                </a:moveTo>
                <a:cubicBezTo>
                  <a:pt x="23699" y="8501"/>
                  <a:pt x="23713" y="8612"/>
                  <a:pt x="23713" y="8731"/>
                </a:cubicBezTo>
                <a:cubicBezTo>
                  <a:pt x="23713" y="8781"/>
                  <a:pt x="23713" y="8798"/>
                  <a:pt x="23713" y="8731"/>
                </a:cubicBezTo>
                <a:cubicBezTo>
                  <a:pt x="23713" y="8594"/>
                  <a:pt x="23707" y="8485"/>
                  <a:pt x="23763" y="8359"/>
                </a:cubicBezTo>
                <a:cubicBezTo>
                  <a:pt x="23901" y="8377"/>
                  <a:pt x="23914" y="8482"/>
                  <a:pt x="23961" y="8607"/>
                </a:cubicBezTo>
                <a:cubicBezTo>
                  <a:pt x="23983" y="8672"/>
                  <a:pt x="23991" y="8687"/>
                  <a:pt x="23986" y="8731"/>
                </a:cubicBezTo>
              </a:path>
              <a:path w="4168" h="12974">
                <a:moveTo>
                  <a:pt x="23812" y="8607"/>
                </a:moveTo>
                <a:cubicBezTo>
                  <a:pt x="23912" y="8582"/>
                  <a:pt x="23945" y="8574"/>
                  <a:pt x="24011" y="8558"/>
                </a:cubicBezTo>
              </a:path>
              <a:path w="4168" h="12974">
                <a:moveTo>
                  <a:pt x="24110" y="8359"/>
                </a:moveTo>
                <a:cubicBezTo>
                  <a:pt x="24046" y="8440"/>
                  <a:pt x="24038" y="8576"/>
                  <a:pt x="24110" y="8682"/>
                </a:cubicBezTo>
                <a:cubicBezTo>
                  <a:pt x="24178" y="8749"/>
                  <a:pt x="24192" y="8773"/>
                  <a:pt x="24259" y="8756"/>
                </a:cubicBezTo>
                <a:cubicBezTo>
                  <a:pt x="24324" y="8643"/>
                  <a:pt x="24334" y="8580"/>
                  <a:pt x="24185" y="8558"/>
                </a:cubicBezTo>
                <a:cubicBezTo>
                  <a:pt x="24110" y="8558"/>
                  <a:pt x="24102" y="8558"/>
                  <a:pt x="24061" y="8558"/>
                </a:cubicBezTo>
              </a:path>
              <a:path w="4168" h="12974">
                <a:moveTo>
                  <a:pt x="23589" y="8384"/>
                </a:moveTo>
                <a:cubicBezTo>
                  <a:pt x="23624" y="8315"/>
                  <a:pt x="23730" y="8260"/>
                  <a:pt x="23812" y="8235"/>
                </a:cubicBezTo>
                <a:cubicBezTo>
                  <a:pt x="23923" y="8201"/>
                  <a:pt x="24096" y="8196"/>
                  <a:pt x="24160" y="8111"/>
                </a:cubicBezTo>
              </a:path>
              <a:path w="4168" h="12974">
                <a:moveTo>
                  <a:pt x="23589" y="7615"/>
                </a:moveTo>
                <a:cubicBezTo>
                  <a:pt x="23713" y="7594"/>
                  <a:pt x="23843" y="7535"/>
                  <a:pt x="23961" y="7491"/>
                </a:cubicBezTo>
                <a:cubicBezTo>
                  <a:pt x="24035" y="7463"/>
                  <a:pt x="24094" y="7463"/>
                  <a:pt x="24110" y="7417"/>
                </a:cubicBezTo>
              </a:path>
              <a:path w="4168" h="12974">
                <a:moveTo>
                  <a:pt x="20786" y="5383"/>
                </a:moveTo>
                <a:cubicBezTo>
                  <a:pt x="20784" y="5377"/>
                  <a:pt x="20733" y="5275"/>
                  <a:pt x="20762" y="5333"/>
                </a:cubicBezTo>
                <a:cubicBezTo>
                  <a:pt x="20772" y="5353"/>
                  <a:pt x="20821" y="5433"/>
                  <a:pt x="20836" y="5482"/>
                </a:cubicBezTo>
                <a:cubicBezTo>
                  <a:pt x="20852" y="5535"/>
                  <a:pt x="20843" y="5602"/>
                  <a:pt x="20861" y="5655"/>
                </a:cubicBezTo>
                <a:cubicBezTo>
                  <a:pt x="20888" y="5736"/>
                  <a:pt x="20903" y="5826"/>
                  <a:pt x="20935" y="5904"/>
                </a:cubicBezTo>
                <a:cubicBezTo>
                  <a:pt x="20963" y="5971"/>
                  <a:pt x="21007" y="6039"/>
                  <a:pt x="21034" y="6102"/>
                </a:cubicBezTo>
                <a:cubicBezTo>
                  <a:pt x="21070" y="6189"/>
                  <a:pt x="21107" y="6248"/>
                  <a:pt x="21158" y="6325"/>
                </a:cubicBezTo>
                <a:cubicBezTo>
                  <a:pt x="21221" y="6421"/>
                  <a:pt x="21266" y="6530"/>
                  <a:pt x="21332" y="6623"/>
                </a:cubicBezTo>
                <a:cubicBezTo>
                  <a:pt x="21376" y="6686"/>
                  <a:pt x="21431" y="6762"/>
                  <a:pt x="21481" y="6821"/>
                </a:cubicBezTo>
                <a:cubicBezTo>
                  <a:pt x="21534" y="6883"/>
                  <a:pt x="21582" y="6945"/>
                  <a:pt x="21630" y="7020"/>
                </a:cubicBezTo>
                <a:cubicBezTo>
                  <a:pt x="21666" y="7076"/>
                  <a:pt x="21694" y="7136"/>
                  <a:pt x="21729" y="7193"/>
                </a:cubicBezTo>
                <a:cubicBezTo>
                  <a:pt x="21768" y="7258"/>
                  <a:pt x="21797" y="7334"/>
                  <a:pt x="21828" y="7392"/>
                </a:cubicBezTo>
                <a:cubicBezTo>
                  <a:pt x="21862" y="7455"/>
                  <a:pt x="21884" y="7496"/>
                  <a:pt x="21903" y="7565"/>
                </a:cubicBezTo>
                <a:cubicBezTo>
                  <a:pt x="21919" y="7622"/>
                  <a:pt x="21928" y="7713"/>
                  <a:pt x="21952" y="7764"/>
                </a:cubicBezTo>
                <a:cubicBezTo>
                  <a:pt x="21983" y="7829"/>
                  <a:pt x="21999" y="7872"/>
                  <a:pt x="22027" y="7938"/>
                </a:cubicBezTo>
                <a:cubicBezTo>
                  <a:pt x="22047" y="7984"/>
                  <a:pt x="22079" y="8034"/>
                  <a:pt x="22101" y="8086"/>
                </a:cubicBezTo>
                <a:cubicBezTo>
                  <a:pt x="22126" y="8146"/>
                  <a:pt x="22131" y="8224"/>
                  <a:pt x="22151" y="8285"/>
                </a:cubicBezTo>
                <a:cubicBezTo>
                  <a:pt x="22173" y="8352"/>
                  <a:pt x="22206" y="8417"/>
                  <a:pt x="22225" y="8483"/>
                </a:cubicBezTo>
                <a:cubicBezTo>
                  <a:pt x="22243" y="8547"/>
                  <a:pt x="22259" y="8617"/>
                  <a:pt x="22275" y="8682"/>
                </a:cubicBezTo>
                <a:cubicBezTo>
                  <a:pt x="22287" y="8729"/>
                  <a:pt x="22287" y="8763"/>
                  <a:pt x="22299" y="8806"/>
                </a:cubicBezTo>
                <a:cubicBezTo>
                  <a:pt x="22309" y="8842"/>
                  <a:pt x="22314" y="8874"/>
                  <a:pt x="22324" y="8905"/>
                </a:cubicBezTo>
              </a:path>
              <a:path w="4168" h="12974">
                <a:moveTo>
                  <a:pt x="23986" y="9029"/>
                </a:moveTo>
                <a:cubicBezTo>
                  <a:pt x="23986" y="9178"/>
                  <a:pt x="23986" y="9326"/>
                  <a:pt x="23986" y="9475"/>
                </a:cubicBezTo>
              </a:path>
              <a:path w="4168" h="12974">
                <a:moveTo>
                  <a:pt x="23837" y="9128"/>
                </a:moveTo>
                <a:cubicBezTo>
                  <a:pt x="23934" y="9076"/>
                  <a:pt x="23977" y="9082"/>
                  <a:pt x="24085" y="9103"/>
                </a:cubicBezTo>
                <a:cubicBezTo>
                  <a:pt x="24056" y="9173"/>
                  <a:pt x="24035" y="9218"/>
                  <a:pt x="23986" y="9277"/>
                </a:cubicBezTo>
                <a:cubicBezTo>
                  <a:pt x="24026" y="9285"/>
                  <a:pt x="24140" y="9304"/>
                  <a:pt x="24135" y="9351"/>
                </a:cubicBezTo>
                <a:cubicBezTo>
                  <a:pt x="24130" y="9401"/>
                  <a:pt x="24007" y="9588"/>
                  <a:pt x="23937" y="9525"/>
                </a:cubicBezTo>
                <a:cubicBezTo>
                  <a:pt x="23937" y="9508"/>
                  <a:pt x="23937" y="9492"/>
                  <a:pt x="23937" y="9475"/>
                </a:cubicBezTo>
              </a:path>
              <a:path w="4168" h="12974">
                <a:moveTo>
                  <a:pt x="24160" y="9153"/>
                </a:moveTo>
                <a:cubicBezTo>
                  <a:pt x="24183" y="9209"/>
                  <a:pt x="24276" y="9334"/>
                  <a:pt x="24234" y="9401"/>
                </a:cubicBezTo>
                <a:cubicBezTo>
                  <a:pt x="24226" y="9401"/>
                  <a:pt x="24217" y="9401"/>
                  <a:pt x="24209" y="9401"/>
                </a:cubicBezTo>
              </a:path>
              <a:path w="4168" h="12974">
                <a:moveTo>
                  <a:pt x="24135" y="9103"/>
                </a:moveTo>
                <a:cubicBezTo>
                  <a:pt x="24285" y="9077"/>
                  <a:pt x="24398" y="9038"/>
                  <a:pt x="24433" y="9227"/>
                </a:cubicBezTo>
                <a:cubicBezTo>
                  <a:pt x="24456" y="9348"/>
                  <a:pt x="24323" y="9451"/>
                  <a:pt x="24209" y="9451"/>
                </a:cubicBezTo>
                <a:cubicBezTo>
                  <a:pt x="24193" y="9443"/>
                  <a:pt x="24176" y="9434"/>
                  <a:pt x="24160" y="9426"/>
                </a:cubicBezTo>
              </a:path>
              <a:path w="4168" h="12974">
                <a:moveTo>
                  <a:pt x="20935" y="5655"/>
                </a:moveTo>
                <a:cubicBezTo>
                  <a:pt x="20935" y="5631"/>
                  <a:pt x="20935" y="5623"/>
                  <a:pt x="20910" y="5631"/>
                </a:cubicBezTo>
              </a:path>
              <a:path w="4168" h="12974">
                <a:moveTo>
                  <a:pt x="23614" y="10096"/>
                </a:moveTo>
                <a:cubicBezTo>
                  <a:pt x="23614" y="10189"/>
                  <a:pt x="23624" y="10283"/>
                  <a:pt x="23664" y="10368"/>
                </a:cubicBezTo>
                <a:cubicBezTo>
                  <a:pt x="23672" y="10376"/>
                  <a:pt x="23680" y="10385"/>
                  <a:pt x="23688" y="10393"/>
                </a:cubicBezTo>
              </a:path>
              <a:path w="4168" h="12974">
                <a:moveTo>
                  <a:pt x="23490" y="10046"/>
                </a:moveTo>
                <a:cubicBezTo>
                  <a:pt x="23519" y="10033"/>
                  <a:pt x="23776" y="9895"/>
                  <a:pt x="23763" y="10021"/>
                </a:cubicBezTo>
                <a:cubicBezTo>
                  <a:pt x="23739" y="10093"/>
                  <a:pt x="23733" y="10116"/>
                  <a:pt x="23688" y="10145"/>
                </a:cubicBezTo>
                <a:cubicBezTo>
                  <a:pt x="23765" y="10145"/>
                  <a:pt x="23867" y="10145"/>
                  <a:pt x="23887" y="10244"/>
                </a:cubicBezTo>
                <a:cubicBezTo>
                  <a:pt x="23909" y="10355"/>
                  <a:pt x="23714" y="10465"/>
                  <a:pt x="23639" y="10368"/>
                </a:cubicBezTo>
                <a:cubicBezTo>
                  <a:pt x="23639" y="10352"/>
                  <a:pt x="23639" y="10335"/>
                  <a:pt x="23639" y="10319"/>
                </a:cubicBezTo>
              </a:path>
              <a:path w="4168" h="12974">
                <a:moveTo>
                  <a:pt x="24011" y="10021"/>
                </a:moveTo>
                <a:cubicBezTo>
                  <a:pt x="24057" y="10036"/>
                  <a:pt x="24036" y="10113"/>
                  <a:pt x="24036" y="10170"/>
                </a:cubicBezTo>
                <a:cubicBezTo>
                  <a:pt x="24036" y="10236"/>
                  <a:pt x="24036" y="10253"/>
                  <a:pt x="24036" y="10294"/>
                </a:cubicBezTo>
                <a:cubicBezTo>
                  <a:pt x="24104" y="10294"/>
                  <a:pt x="24120" y="10313"/>
                  <a:pt x="24135" y="10269"/>
                </a:cubicBezTo>
              </a:path>
              <a:path w="4168" h="12974">
                <a:moveTo>
                  <a:pt x="24036" y="10170"/>
                </a:moveTo>
                <a:cubicBezTo>
                  <a:pt x="24117" y="10146"/>
                  <a:pt x="24106" y="10154"/>
                  <a:pt x="24085" y="10071"/>
                </a:cubicBezTo>
              </a:path>
              <a:path w="4168" h="12974">
                <a:moveTo>
                  <a:pt x="23986" y="9971"/>
                </a:moveTo>
                <a:cubicBezTo>
                  <a:pt x="24038" y="9939"/>
                  <a:pt x="24081" y="9886"/>
                  <a:pt x="24135" y="9872"/>
                </a:cubicBezTo>
              </a:path>
              <a:path w="4168" h="12974">
                <a:moveTo>
                  <a:pt x="23862" y="9054"/>
                </a:moveTo>
                <a:cubicBezTo>
                  <a:pt x="23899" y="8981"/>
                  <a:pt x="24023" y="8946"/>
                  <a:pt x="24110" y="8930"/>
                </a:cubicBezTo>
                <a:cubicBezTo>
                  <a:pt x="24160" y="8930"/>
                  <a:pt x="24176" y="8930"/>
                  <a:pt x="24209" y="8930"/>
                </a:cubicBezTo>
              </a:path>
              <a:path w="4168" h="12974">
                <a:moveTo>
                  <a:pt x="23589" y="9947"/>
                </a:moveTo>
                <a:cubicBezTo>
                  <a:pt x="23570" y="9889"/>
                  <a:pt x="23542" y="9956"/>
                  <a:pt x="23515" y="9922"/>
                </a:cubicBezTo>
                <a:cubicBezTo>
                  <a:pt x="23486" y="9886"/>
                  <a:pt x="23509" y="9877"/>
                  <a:pt x="23614" y="9847"/>
                </a:cubicBezTo>
                <a:cubicBezTo>
                  <a:pt x="23767" y="9803"/>
                  <a:pt x="23900" y="9754"/>
                  <a:pt x="24061" y="9748"/>
                </a:cubicBezTo>
                <a:cubicBezTo>
                  <a:pt x="24102" y="9748"/>
                  <a:pt x="24126" y="9748"/>
                  <a:pt x="24085" y="9748"/>
                </a:cubicBezTo>
              </a:path>
              <a:path w="4168" h="12974">
                <a:moveTo>
                  <a:pt x="23738" y="10716"/>
                </a:moveTo>
                <a:cubicBezTo>
                  <a:pt x="23738" y="10839"/>
                  <a:pt x="23746" y="10944"/>
                  <a:pt x="23763" y="11063"/>
                </a:cubicBezTo>
              </a:path>
              <a:path w="4168" h="12974">
                <a:moveTo>
                  <a:pt x="23639" y="10740"/>
                </a:moveTo>
                <a:cubicBezTo>
                  <a:pt x="23690" y="10715"/>
                  <a:pt x="23896" y="10598"/>
                  <a:pt x="23912" y="10691"/>
                </a:cubicBezTo>
                <a:cubicBezTo>
                  <a:pt x="23927" y="10780"/>
                  <a:pt x="23872" y="10787"/>
                  <a:pt x="23812" y="10840"/>
                </a:cubicBezTo>
                <a:cubicBezTo>
                  <a:pt x="23804" y="10840"/>
                  <a:pt x="23796" y="10840"/>
                  <a:pt x="23788" y="10840"/>
                </a:cubicBezTo>
                <a:cubicBezTo>
                  <a:pt x="23930" y="10826"/>
                  <a:pt x="23982" y="10809"/>
                  <a:pt x="24085" y="10914"/>
                </a:cubicBezTo>
                <a:cubicBezTo>
                  <a:pt x="23995" y="11054"/>
                  <a:pt x="23957" y="11075"/>
                  <a:pt x="23788" y="11088"/>
                </a:cubicBezTo>
              </a:path>
              <a:path w="4168" h="12974">
                <a:moveTo>
                  <a:pt x="24135" y="10765"/>
                </a:moveTo>
                <a:cubicBezTo>
                  <a:pt x="24153" y="10830"/>
                  <a:pt x="24195" y="10840"/>
                  <a:pt x="24209" y="10914"/>
                </a:cubicBezTo>
                <a:cubicBezTo>
                  <a:pt x="24198" y="10832"/>
                  <a:pt x="24165" y="10758"/>
                  <a:pt x="24160" y="10666"/>
                </a:cubicBezTo>
                <a:cubicBezTo>
                  <a:pt x="24158" y="10622"/>
                  <a:pt x="24314" y="10573"/>
                  <a:pt x="24358" y="10592"/>
                </a:cubicBezTo>
                <a:cubicBezTo>
                  <a:pt x="24358" y="10600"/>
                  <a:pt x="24358" y="10608"/>
                  <a:pt x="24358" y="10616"/>
                </a:cubicBezTo>
              </a:path>
              <a:path w="4168" h="12974">
                <a:moveTo>
                  <a:pt x="24209" y="10840"/>
                </a:moveTo>
                <a:cubicBezTo>
                  <a:pt x="24267" y="10840"/>
                  <a:pt x="24276" y="10840"/>
                  <a:pt x="24309" y="10840"/>
                </a:cubicBezTo>
              </a:path>
              <a:path w="4168" h="12974">
                <a:moveTo>
                  <a:pt x="23788" y="10666"/>
                </a:moveTo>
                <a:cubicBezTo>
                  <a:pt x="23747" y="10646"/>
                  <a:pt x="23822" y="10626"/>
                  <a:pt x="23862" y="10616"/>
                </a:cubicBezTo>
                <a:cubicBezTo>
                  <a:pt x="24014" y="10579"/>
                  <a:pt x="24158" y="10532"/>
                  <a:pt x="24309" y="10492"/>
                </a:cubicBezTo>
                <a:cubicBezTo>
                  <a:pt x="24317" y="10492"/>
                  <a:pt x="24325" y="10492"/>
                  <a:pt x="24333" y="10492"/>
                </a:cubicBezTo>
              </a:path>
              <a:path w="4168" h="12974">
                <a:moveTo>
                  <a:pt x="24284" y="10964"/>
                </a:moveTo>
                <a:cubicBezTo>
                  <a:pt x="24284" y="10939"/>
                  <a:pt x="24284" y="10931"/>
                  <a:pt x="24259" y="10939"/>
                </a:cubicBezTo>
                <a:cubicBezTo>
                  <a:pt x="24259" y="10996"/>
                  <a:pt x="24275" y="11035"/>
                  <a:pt x="24284" y="11088"/>
                </a:cubicBezTo>
                <a:cubicBezTo>
                  <a:pt x="24284" y="11104"/>
                  <a:pt x="24284" y="11121"/>
                  <a:pt x="24284" y="11137"/>
                </a:cubicBezTo>
              </a:path>
              <a:path w="4168" h="12974">
                <a:moveTo>
                  <a:pt x="23887" y="11435"/>
                </a:moveTo>
                <a:cubicBezTo>
                  <a:pt x="23946" y="11455"/>
                  <a:pt x="23935" y="11570"/>
                  <a:pt x="23937" y="11633"/>
                </a:cubicBezTo>
                <a:cubicBezTo>
                  <a:pt x="23939" y="11682"/>
                  <a:pt x="23937" y="11732"/>
                  <a:pt x="23937" y="11782"/>
                </a:cubicBezTo>
              </a:path>
              <a:path w="4168" h="12974">
                <a:moveTo>
                  <a:pt x="23788" y="11410"/>
                </a:moveTo>
                <a:cubicBezTo>
                  <a:pt x="23870" y="11372"/>
                  <a:pt x="24090" y="11224"/>
                  <a:pt x="24061" y="11385"/>
                </a:cubicBezTo>
                <a:cubicBezTo>
                  <a:pt x="24046" y="11466"/>
                  <a:pt x="24033" y="11501"/>
                  <a:pt x="23986" y="11559"/>
                </a:cubicBezTo>
                <a:cubicBezTo>
                  <a:pt x="24034" y="11551"/>
                  <a:pt x="24145" y="11503"/>
                  <a:pt x="24110" y="11609"/>
                </a:cubicBezTo>
                <a:cubicBezTo>
                  <a:pt x="24067" y="11739"/>
                  <a:pt x="23998" y="11757"/>
                  <a:pt x="23887" y="11807"/>
                </a:cubicBezTo>
              </a:path>
              <a:path w="4168" h="12974">
                <a:moveTo>
                  <a:pt x="24358" y="11410"/>
                </a:moveTo>
                <a:cubicBezTo>
                  <a:pt x="24366" y="11410"/>
                  <a:pt x="24375" y="11410"/>
                  <a:pt x="24383" y="11410"/>
                </a:cubicBezTo>
                <a:cubicBezTo>
                  <a:pt x="24350" y="11281"/>
                  <a:pt x="24253" y="11464"/>
                  <a:pt x="24234" y="11509"/>
                </a:cubicBezTo>
                <a:cubicBezTo>
                  <a:pt x="24177" y="11647"/>
                  <a:pt x="24256" y="11757"/>
                  <a:pt x="24408" y="11757"/>
                </a:cubicBezTo>
                <a:cubicBezTo>
                  <a:pt x="24477" y="11757"/>
                  <a:pt x="24476" y="11700"/>
                  <a:pt x="24482" y="11658"/>
                </a:cubicBezTo>
                <a:cubicBezTo>
                  <a:pt x="24413" y="11658"/>
                  <a:pt x="24363" y="11650"/>
                  <a:pt x="24309" y="11683"/>
                </a:cubicBezTo>
              </a:path>
              <a:path w="4168" h="12974">
                <a:moveTo>
                  <a:pt x="23961" y="11311"/>
                </a:moveTo>
                <a:cubicBezTo>
                  <a:pt x="24032" y="11268"/>
                  <a:pt x="24121" y="11237"/>
                  <a:pt x="24209" y="11212"/>
                </a:cubicBezTo>
                <a:cubicBezTo>
                  <a:pt x="24302" y="11185"/>
                  <a:pt x="24387" y="11187"/>
                  <a:pt x="24482" y="11187"/>
                </a:cubicBezTo>
                <a:cubicBezTo>
                  <a:pt x="24490" y="11187"/>
                  <a:pt x="24499" y="11187"/>
                  <a:pt x="24507" y="11187"/>
                </a:cubicBezTo>
              </a:path>
              <a:path w="4168" h="12974">
                <a:moveTo>
                  <a:pt x="23986" y="12005"/>
                </a:moveTo>
                <a:cubicBezTo>
                  <a:pt x="23986" y="12089"/>
                  <a:pt x="23986" y="12331"/>
                  <a:pt x="23986" y="12328"/>
                </a:cubicBezTo>
              </a:path>
              <a:path w="4168" h="12974">
                <a:moveTo>
                  <a:pt x="23837" y="12080"/>
                </a:moveTo>
                <a:cubicBezTo>
                  <a:pt x="23879" y="11996"/>
                  <a:pt x="23995" y="12011"/>
                  <a:pt x="24085" y="12005"/>
                </a:cubicBezTo>
                <a:cubicBezTo>
                  <a:pt x="24049" y="12071"/>
                  <a:pt x="24003" y="12189"/>
                  <a:pt x="23937" y="12229"/>
                </a:cubicBezTo>
                <a:cubicBezTo>
                  <a:pt x="23929" y="12229"/>
                  <a:pt x="23920" y="12229"/>
                  <a:pt x="23912" y="12229"/>
                </a:cubicBezTo>
                <a:cubicBezTo>
                  <a:pt x="23982" y="12220"/>
                  <a:pt x="24036" y="12204"/>
                  <a:pt x="24110" y="12204"/>
                </a:cubicBezTo>
                <a:cubicBezTo>
                  <a:pt x="24084" y="12324"/>
                  <a:pt x="24033" y="12334"/>
                  <a:pt x="23937" y="12402"/>
                </a:cubicBezTo>
                <a:cubicBezTo>
                  <a:pt x="23912" y="12427"/>
                  <a:pt x="23904" y="12435"/>
                  <a:pt x="23937" y="12402"/>
                </a:cubicBezTo>
              </a:path>
              <a:path w="4168" h="12974">
                <a:moveTo>
                  <a:pt x="24309" y="12080"/>
                </a:moveTo>
                <a:cubicBezTo>
                  <a:pt x="24366" y="12119"/>
                  <a:pt x="24340" y="12251"/>
                  <a:pt x="24358" y="12328"/>
                </a:cubicBezTo>
                <a:cubicBezTo>
                  <a:pt x="24378" y="12368"/>
                  <a:pt x="24387" y="12375"/>
                  <a:pt x="24383" y="12402"/>
                </a:cubicBezTo>
              </a:path>
              <a:path w="4168" h="12974">
                <a:moveTo>
                  <a:pt x="24557" y="12080"/>
                </a:moveTo>
                <a:cubicBezTo>
                  <a:pt x="24609" y="12178"/>
                  <a:pt x="24631" y="12242"/>
                  <a:pt x="24631" y="12353"/>
                </a:cubicBezTo>
              </a:path>
              <a:path w="4168" h="12974">
                <a:moveTo>
                  <a:pt x="24358" y="12278"/>
                </a:moveTo>
                <a:cubicBezTo>
                  <a:pt x="24408" y="12240"/>
                  <a:pt x="24499" y="12229"/>
                  <a:pt x="24532" y="12179"/>
                </a:cubicBezTo>
                <a:cubicBezTo>
                  <a:pt x="24532" y="12171"/>
                  <a:pt x="24532" y="12162"/>
                  <a:pt x="24532" y="12154"/>
                </a:cubicBezTo>
              </a:path>
              <a:path w="4168" h="12974">
                <a:moveTo>
                  <a:pt x="24061" y="12005"/>
                </a:moveTo>
                <a:cubicBezTo>
                  <a:pt x="24114" y="11987"/>
                  <a:pt x="24172" y="11981"/>
                  <a:pt x="24259" y="11981"/>
                </a:cubicBezTo>
                <a:cubicBezTo>
                  <a:pt x="24358" y="11981"/>
                  <a:pt x="24458" y="11981"/>
                  <a:pt x="24557" y="11981"/>
                </a:cubicBezTo>
              </a:path>
              <a:path w="4168" h="12974">
                <a:moveTo>
                  <a:pt x="22423" y="6722"/>
                </a:moveTo>
                <a:cubicBezTo>
                  <a:pt x="22423" y="6681"/>
                  <a:pt x="22432" y="6664"/>
                  <a:pt x="22399" y="6672"/>
                </a:cubicBezTo>
                <a:cubicBezTo>
                  <a:pt x="22359" y="6735"/>
                  <a:pt x="22307" y="6802"/>
                  <a:pt x="22275" y="6871"/>
                </a:cubicBezTo>
                <a:cubicBezTo>
                  <a:pt x="22229" y="6967"/>
                  <a:pt x="22191" y="7070"/>
                  <a:pt x="22151" y="7169"/>
                </a:cubicBezTo>
                <a:cubicBezTo>
                  <a:pt x="22109" y="7272"/>
                  <a:pt x="22062" y="7361"/>
                  <a:pt x="22027" y="7466"/>
                </a:cubicBezTo>
                <a:cubicBezTo>
                  <a:pt x="21973" y="7629"/>
                  <a:pt x="21925" y="7797"/>
                  <a:pt x="21878" y="7962"/>
                </a:cubicBezTo>
                <a:cubicBezTo>
                  <a:pt x="21840" y="8094"/>
                  <a:pt x="21799" y="8228"/>
                  <a:pt x="21754" y="8359"/>
                </a:cubicBezTo>
                <a:cubicBezTo>
                  <a:pt x="21712" y="8483"/>
                  <a:pt x="21673" y="8608"/>
                  <a:pt x="21630" y="8731"/>
                </a:cubicBezTo>
                <a:cubicBezTo>
                  <a:pt x="21594" y="8835"/>
                  <a:pt x="21541" y="8925"/>
                  <a:pt x="21506" y="9029"/>
                </a:cubicBezTo>
                <a:cubicBezTo>
                  <a:pt x="21468" y="9143"/>
                  <a:pt x="21441" y="9267"/>
                  <a:pt x="21406" y="9376"/>
                </a:cubicBezTo>
                <a:cubicBezTo>
                  <a:pt x="21375" y="9470"/>
                  <a:pt x="21351" y="9550"/>
                  <a:pt x="21332" y="9649"/>
                </a:cubicBezTo>
                <a:cubicBezTo>
                  <a:pt x="21311" y="9757"/>
                  <a:pt x="21291" y="9863"/>
                  <a:pt x="21258" y="9971"/>
                </a:cubicBezTo>
                <a:cubicBezTo>
                  <a:pt x="21227" y="10075"/>
                  <a:pt x="21193" y="10187"/>
                  <a:pt x="21183" y="10294"/>
                </a:cubicBezTo>
                <a:cubicBezTo>
                  <a:pt x="21172" y="10412"/>
                  <a:pt x="21158" y="10388"/>
                  <a:pt x="21134" y="10443"/>
                </a:cubicBezTo>
                <a:cubicBezTo>
                  <a:pt x="21117" y="10481"/>
                  <a:pt x="21102" y="10532"/>
                  <a:pt x="21084" y="10567"/>
                </a:cubicBezTo>
              </a:path>
              <a:path w="4168" h="12974">
                <a:moveTo>
                  <a:pt x="24085" y="12799"/>
                </a:moveTo>
                <a:cubicBezTo>
                  <a:pt x="24110" y="12799"/>
                  <a:pt x="24118" y="12799"/>
                  <a:pt x="24135" y="12799"/>
                </a:cubicBezTo>
                <a:cubicBezTo>
                  <a:pt x="24120" y="12740"/>
                  <a:pt x="24017" y="12712"/>
                  <a:pt x="23986" y="12799"/>
                </a:cubicBezTo>
                <a:cubicBezTo>
                  <a:pt x="23940" y="12927"/>
                  <a:pt x="24010" y="13171"/>
                  <a:pt x="24185" y="13122"/>
                </a:cubicBezTo>
                <a:cubicBezTo>
                  <a:pt x="24229" y="13077"/>
                  <a:pt x="24246" y="13067"/>
                  <a:pt x="24234" y="13022"/>
                </a:cubicBezTo>
              </a:path>
              <a:path w="4168" h="12974">
                <a:moveTo>
                  <a:pt x="24383" y="12799"/>
                </a:moveTo>
                <a:cubicBezTo>
                  <a:pt x="24398" y="12874"/>
                  <a:pt x="24408" y="12941"/>
                  <a:pt x="24408" y="13022"/>
                </a:cubicBezTo>
                <a:cubicBezTo>
                  <a:pt x="24408" y="13083"/>
                  <a:pt x="24539" y="13096"/>
                  <a:pt x="24581" y="13072"/>
                </a:cubicBezTo>
                <a:cubicBezTo>
                  <a:pt x="24581" y="13064"/>
                  <a:pt x="24581" y="13055"/>
                  <a:pt x="24581" y="13047"/>
                </a:cubicBezTo>
              </a:path>
              <a:path w="4168" h="12974">
                <a:moveTo>
                  <a:pt x="24358" y="12923"/>
                </a:moveTo>
                <a:cubicBezTo>
                  <a:pt x="24417" y="12904"/>
                  <a:pt x="24468" y="12862"/>
                  <a:pt x="24532" y="12849"/>
                </a:cubicBezTo>
              </a:path>
              <a:path w="4168" h="12974">
                <a:moveTo>
                  <a:pt x="24408" y="12725"/>
                </a:moveTo>
                <a:cubicBezTo>
                  <a:pt x="24469" y="12704"/>
                  <a:pt x="24516" y="12700"/>
                  <a:pt x="24581" y="12700"/>
                </a:cubicBezTo>
                <a:cubicBezTo>
                  <a:pt x="24589" y="12700"/>
                  <a:pt x="24598" y="12700"/>
                  <a:pt x="24606" y="12700"/>
                </a:cubicBezTo>
              </a:path>
              <a:path w="4168" h="12974">
                <a:moveTo>
                  <a:pt x="23961" y="12725"/>
                </a:moveTo>
                <a:cubicBezTo>
                  <a:pt x="24020" y="12713"/>
                  <a:pt x="24074" y="12689"/>
                  <a:pt x="24135" y="12675"/>
                </a:cubicBezTo>
                <a:cubicBezTo>
                  <a:pt x="24287" y="12640"/>
                  <a:pt x="24426" y="12626"/>
                  <a:pt x="24581" y="12626"/>
                </a:cubicBezTo>
                <a:cubicBezTo>
                  <a:pt x="24606" y="12626"/>
                  <a:pt x="24631" y="12626"/>
                  <a:pt x="24656" y="12626"/>
                </a:cubicBezTo>
              </a:path>
              <a:path w="4168" h="12974">
                <a:moveTo>
                  <a:pt x="24259" y="13469"/>
                </a:moveTo>
                <a:cubicBezTo>
                  <a:pt x="24299" y="13528"/>
                  <a:pt x="24196" y="13469"/>
                  <a:pt x="24135" y="13519"/>
                </a:cubicBezTo>
                <a:cubicBezTo>
                  <a:pt x="24012" y="13620"/>
                  <a:pt x="23937" y="13824"/>
                  <a:pt x="24135" y="13866"/>
                </a:cubicBezTo>
                <a:cubicBezTo>
                  <a:pt x="24223" y="13885"/>
                  <a:pt x="24300" y="13853"/>
                  <a:pt x="24383" y="13841"/>
                </a:cubicBezTo>
              </a:path>
              <a:path w="4168" h="12974">
                <a:moveTo>
                  <a:pt x="24606" y="13593"/>
                </a:moveTo>
                <a:cubicBezTo>
                  <a:pt x="24627" y="13675"/>
                  <a:pt x="24635" y="13691"/>
                  <a:pt x="24631" y="13742"/>
                </a:cubicBezTo>
                <a:cubicBezTo>
                  <a:pt x="24610" y="13680"/>
                  <a:pt x="24515" y="13577"/>
                  <a:pt x="24557" y="13543"/>
                </a:cubicBezTo>
                <a:cubicBezTo>
                  <a:pt x="24606" y="13503"/>
                  <a:pt x="24672" y="13519"/>
                  <a:pt x="24730" y="13519"/>
                </a:cubicBezTo>
              </a:path>
              <a:path w="4168" h="12974">
                <a:moveTo>
                  <a:pt x="24656" y="13692"/>
                </a:moveTo>
                <a:cubicBezTo>
                  <a:pt x="24714" y="13692"/>
                  <a:pt x="24722" y="13692"/>
                  <a:pt x="24755" y="13692"/>
                </a:cubicBezTo>
              </a:path>
              <a:path w="4168" h="12974">
                <a:moveTo>
                  <a:pt x="24085" y="13469"/>
                </a:moveTo>
                <a:cubicBezTo>
                  <a:pt x="24112" y="13428"/>
                  <a:pt x="24290" y="13400"/>
                  <a:pt x="24358" y="13395"/>
                </a:cubicBezTo>
                <a:cubicBezTo>
                  <a:pt x="24413" y="13391"/>
                  <a:pt x="24762" y="13320"/>
                  <a:pt x="24805" y="13345"/>
                </a:cubicBezTo>
                <a:cubicBezTo>
                  <a:pt x="24805" y="13353"/>
                  <a:pt x="24805" y="13362"/>
                  <a:pt x="24805" y="13370"/>
                </a:cubicBezTo>
              </a:path>
              <a:path w="4168" h="12974">
                <a:moveTo>
                  <a:pt x="24209" y="14337"/>
                </a:moveTo>
                <a:cubicBezTo>
                  <a:pt x="24107" y="14337"/>
                  <a:pt x="24036" y="14330"/>
                  <a:pt x="23986" y="14436"/>
                </a:cubicBezTo>
                <a:cubicBezTo>
                  <a:pt x="23933" y="14549"/>
                  <a:pt x="23975" y="14765"/>
                  <a:pt x="24085" y="14833"/>
                </a:cubicBezTo>
                <a:cubicBezTo>
                  <a:pt x="24125" y="14858"/>
                  <a:pt x="24245" y="14808"/>
                  <a:pt x="24259" y="14759"/>
                </a:cubicBezTo>
                <a:cubicBezTo>
                  <a:pt x="24259" y="14717"/>
                  <a:pt x="24267" y="14701"/>
                  <a:pt x="24234" y="14709"/>
                </a:cubicBezTo>
              </a:path>
              <a:path w="4168" h="12974">
                <a:moveTo>
                  <a:pt x="24631" y="14362"/>
                </a:moveTo>
                <a:cubicBezTo>
                  <a:pt x="24639" y="14362"/>
                  <a:pt x="24648" y="14362"/>
                  <a:pt x="24656" y="14362"/>
                </a:cubicBezTo>
                <a:cubicBezTo>
                  <a:pt x="24631" y="14212"/>
                  <a:pt x="24544" y="14449"/>
                  <a:pt x="24532" y="14486"/>
                </a:cubicBezTo>
                <a:cubicBezTo>
                  <a:pt x="24483" y="14643"/>
                  <a:pt x="24477" y="14753"/>
                  <a:pt x="24656" y="14784"/>
                </a:cubicBezTo>
                <a:cubicBezTo>
                  <a:pt x="24767" y="14803"/>
                  <a:pt x="24783" y="14741"/>
                  <a:pt x="24829" y="14709"/>
                </a:cubicBezTo>
                <a:cubicBezTo>
                  <a:pt x="24765" y="14670"/>
                  <a:pt x="24726" y="14674"/>
                  <a:pt x="24656" y="14684"/>
                </a:cubicBezTo>
                <a:cubicBezTo>
                  <a:pt x="24621" y="14689"/>
                  <a:pt x="24591" y="14702"/>
                  <a:pt x="24557" y="14709"/>
                </a:cubicBezTo>
                <a:cubicBezTo>
                  <a:pt x="24665" y="14709"/>
                  <a:pt x="24730" y="14668"/>
                  <a:pt x="24829" y="14635"/>
                </a:cubicBezTo>
                <a:cubicBezTo>
                  <a:pt x="24848" y="14629"/>
                  <a:pt x="24884" y="14635"/>
                  <a:pt x="24904" y="14635"/>
                </a:cubicBezTo>
              </a:path>
              <a:path w="4168" h="12974">
                <a:moveTo>
                  <a:pt x="23986" y="14139"/>
                </a:moveTo>
                <a:cubicBezTo>
                  <a:pt x="24106" y="14139"/>
                  <a:pt x="24213" y="14131"/>
                  <a:pt x="24333" y="14114"/>
                </a:cubicBezTo>
                <a:cubicBezTo>
                  <a:pt x="24474" y="14094"/>
                  <a:pt x="24616" y="14049"/>
                  <a:pt x="24755" y="14039"/>
                </a:cubicBezTo>
                <a:cubicBezTo>
                  <a:pt x="24763" y="14039"/>
                  <a:pt x="24772" y="14039"/>
                  <a:pt x="24780" y="14039"/>
                </a:cubicBezTo>
              </a:path>
              <a:path w="4168" h="12974">
                <a:moveTo>
                  <a:pt x="24011" y="15156"/>
                </a:moveTo>
                <a:cubicBezTo>
                  <a:pt x="24036" y="15156"/>
                  <a:pt x="24044" y="15156"/>
                  <a:pt x="24061" y="15156"/>
                </a:cubicBezTo>
                <a:cubicBezTo>
                  <a:pt x="23915" y="15204"/>
                  <a:pt x="23948" y="15283"/>
                  <a:pt x="24011" y="15404"/>
                </a:cubicBezTo>
                <a:cubicBezTo>
                  <a:pt x="24072" y="15522"/>
                  <a:pt x="24157" y="15491"/>
                  <a:pt x="24259" y="15429"/>
                </a:cubicBezTo>
                <a:cubicBezTo>
                  <a:pt x="24267" y="15421"/>
                  <a:pt x="24276" y="15412"/>
                  <a:pt x="24284" y="15404"/>
                </a:cubicBezTo>
              </a:path>
              <a:path w="4168" h="12974">
                <a:moveTo>
                  <a:pt x="24383" y="15131"/>
                </a:moveTo>
                <a:cubicBezTo>
                  <a:pt x="24391" y="15123"/>
                  <a:pt x="24400" y="15114"/>
                  <a:pt x="24408" y="15106"/>
                </a:cubicBezTo>
                <a:cubicBezTo>
                  <a:pt x="24421" y="15186"/>
                  <a:pt x="24414" y="15309"/>
                  <a:pt x="24457" y="15379"/>
                </a:cubicBezTo>
                <a:cubicBezTo>
                  <a:pt x="24465" y="15379"/>
                  <a:pt x="24474" y="15379"/>
                  <a:pt x="24482" y="15379"/>
                </a:cubicBezTo>
              </a:path>
              <a:path w="4168" h="12974">
                <a:moveTo>
                  <a:pt x="24557" y="15156"/>
                </a:moveTo>
                <a:cubicBezTo>
                  <a:pt x="24621" y="15193"/>
                  <a:pt x="24667" y="15283"/>
                  <a:pt x="24681" y="15379"/>
                </a:cubicBezTo>
                <a:cubicBezTo>
                  <a:pt x="24681" y="15387"/>
                  <a:pt x="24681" y="15396"/>
                  <a:pt x="24681" y="15404"/>
                </a:cubicBezTo>
              </a:path>
              <a:path w="4168" h="12974">
                <a:moveTo>
                  <a:pt x="24333" y="15304"/>
                </a:moveTo>
                <a:cubicBezTo>
                  <a:pt x="24398" y="15299"/>
                  <a:pt x="24512" y="15314"/>
                  <a:pt x="24532" y="15255"/>
                </a:cubicBezTo>
              </a:path>
              <a:path w="4168" h="12974">
                <a:moveTo>
                  <a:pt x="24085" y="15056"/>
                </a:moveTo>
                <a:cubicBezTo>
                  <a:pt x="24233" y="15031"/>
                  <a:pt x="24382" y="15013"/>
                  <a:pt x="24532" y="15007"/>
                </a:cubicBezTo>
                <a:cubicBezTo>
                  <a:pt x="24542" y="15007"/>
                  <a:pt x="24697" y="15007"/>
                  <a:pt x="24631" y="15007"/>
                </a:cubicBezTo>
              </a:path>
              <a:path w="4168" h="12974">
                <a:moveTo>
                  <a:pt x="23986" y="15850"/>
                </a:moveTo>
                <a:cubicBezTo>
                  <a:pt x="23995" y="15888"/>
                  <a:pt x="23999" y="16012"/>
                  <a:pt x="24036" y="15999"/>
                </a:cubicBezTo>
                <a:cubicBezTo>
                  <a:pt x="24036" y="15991"/>
                  <a:pt x="24036" y="15982"/>
                  <a:pt x="24036" y="15974"/>
                </a:cubicBezTo>
              </a:path>
              <a:path w="4168" h="12974">
                <a:moveTo>
                  <a:pt x="23937" y="15850"/>
                </a:moveTo>
                <a:cubicBezTo>
                  <a:pt x="24003" y="15850"/>
                  <a:pt x="24055" y="15851"/>
                  <a:pt x="24110" y="15875"/>
                </a:cubicBezTo>
                <a:cubicBezTo>
                  <a:pt x="24064" y="15994"/>
                  <a:pt x="24070" y="16075"/>
                  <a:pt x="23937" y="16024"/>
                </a:cubicBezTo>
                <a:cubicBezTo>
                  <a:pt x="23950" y="15982"/>
                  <a:pt x="24008" y="15948"/>
                  <a:pt x="24061" y="15900"/>
                </a:cubicBezTo>
              </a:path>
              <a:path w="4168" h="12974">
                <a:moveTo>
                  <a:pt x="24185" y="15974"/>
                </a:moveTo>
                <a:cubicBezTo>
                  <a:pt x="24226" y="16015"/>
                  <a:pt x="24236" y="16037"/>
                  <a:pt x="24284" y="16049"/>
                </a:cubicBezTo>
                <a:cubicBezTo>
                  <a:pt x="24284" y="15975"/>
                  <a:pt x="24295" y="15910"/>
                  <a:pt x="24259" y="15850"/>
                </a:cubicBezTo>
                <a:cubicBezTo>
                  <a:pt x="24327" y="15864"/>
                  <a:pt x="24383" y="15875"/>
                  <a:pt x="24457" y="15875"/>
                </a:cubicBezTo>
                <a:cubicBezTo>
                  <a:pt x="24482" y="15875"/>
                  <a:pt x="24490" y="15875"/>
                  <a:pt x="24507" y="15875"/>
                </a:cubicBezTo>
              </a:path>
              <a:path w="4168" h="12974">
                <a:moveTo>
                  <a:pt x="24209" y="15949"/>
                </a:moveTo>
                <a:cubicBezTo>
                  <a:pt x="24275" y="15916"/>
                  <a:pt x="24342" y="15883"/>
                  <a:pt x="24408" y="15850"/>
                </a:cubicBezTo>
              </a:path>
              <a:path w="4168" h="12974">
                <a:moveTo>
                  <a:pt x="24061" y="15949"/>
                </a:moveTo>
                <a:cubicBezTo>
                  <a:pt x="24061" y="16001"/>
                  <a:pt x="24062" y="16030"/>
                  <a:pt x="24085" y="16073"/>
                </a:cubicBezTo>
                <a:cubicBezTo>
                  <a:pt x="24111" y="16123"/>
                  <a:pt x="24124" y="16140"/>
                  <a:pt x="24135" y="16173"/>
                </a:cubicBezTo>
              </a:path>
              <a:path w="4168" h="12974">
                <a:moveTo>
                  <a:pt x="23961" y="15875"/>
                </a:moveTo>
                <a:cubicBezTo>
                  <a:pt x="24093" y="15921"/>
                  <a:pt x="24237" y="15974"/>
                  <a:pt x="24358" y="16049"/>
                </a:cubicBezTo>
                <a:cubicBezTo>
                  <a:pt x="24411" y="16082"/>
                  <a:pt x="24375" y="16155"/>
                  <a:pt x="24358" y="16197"/>
                </a:cubicBezTo>
                <a:cubicBezTo>
                  <a:pt x="24320" y="16292"/>
                  <a:pt x="24153" y="16306"/>
                  <a:pt x="24061" y="16321"/>
                </a:cubicBezTo>
                <a:cubicBezTo>
                  <a:pt x="24044" y="16321"/>
                  <a:pt x="24028" y="16321"/>
                  <a:pt x="24011" y="16321"/>
                </a:cubicBezTo>
              </a:path>
              <a:path w="4168" h="12974">
                <a:moveTo>
                  <a:pt x="24507" y="15974"/>
                </a:moveTo>
                <a:cubicBezTo>
                  <a:pt x="24575" y="15991"/>
                  <a:pt x="24584" y="16076"/>
                  <a:pt x="24606" y="16148"/>
                </a:cubicBezTo>
                <a:cubicBezTo>
                  <a:pt x="24621" y="16196"/>
                  <a:pt x="24681" y="16370"/>
                  <a:pt x="24631" y="16321"/>
                </a:cubicBezTo>
                <a:cubicBezTo>
                  <a:pt x="24553" y="16245"/>
                  <a:pt x="24523" y="16104"/>
                  <a:pt x="24507" y="15999"/>
                </a:cubicBezTo>
                <a:cubicBezTo>
                  <a:pt x="24507" y="15954"/>
                  <a:pt x="24511" y="15941"/>
                  <a:pt x="24482" y="15925"/>
                </a:cubicBezTo>
                <a:cubicBezTo>
                  <a:pt x="24555" y="15925"/>
                  <a:pt x="24634" y="15913"/>
                  <a:pt x="24705" y="15900"/>
                </a:cubicBezTo>
                <a:cubicBezTo>
                  <a:pt x="24723" y="15897"/>
                  <a:pt x="24903" y="15843"/>
                  <a:pt x="24929" y="15875"/>
                </a:cubicBezTo>
                <a:cubicBezTo>
                  <a:pt x="24929" y="15883"/>
                  <a:pt x="24929" y="15892"/>
                  <a:pt x="24929" y="15900"/>
                </a:cubicBezTo>
              </a:path>
              <a:path w="4168" h="12974">
                <a:moveTo>
                  <a:pt x="24606" y="16123"/>
                </a:moveTo>
                <a:cubicBezTo>
                  <a:pt x="24672" y="16145"/>
                  <a:pt x="24753" y="16124"/>
                  <a:pt x="24829" y="16098"/>
                </a:cubicBezTo>
              </a:path>
              <a:path w="4168" h="12974">
                <a:moveTo>
                  <a:pt x="24135" y="15925"/>
                </a:moveTo>
                <a:cubicBezTo>
                  <a:pt x="24115" y="15965"/>
                  <a:pt x="24106" y="15971"/>
                  <a:pt x="24110" y="15999"/>
                </a:cubicBezTo>
                <a:cubicBezTo>
                  <a:pt x="24228" y="15999"/>
                  <a:pt x="24339" y="15977"/>
                  <a:pt x="24457" y="15974"/>
                </a:cubicBezTo>
                <a:cubicBezTo>
                  <a:pt x="24588" y="15971"/>
                  <a:pt x="24703" y="15982"/>
                  <a:pt x="24829" y="15999"/>
                </a:cubicBezTo>
                <a:cubicBezTo>
                  <a:pt x="24879" y="15999"/>
                  <a:pt x="24896" y="15999"/>
                  <a:pt x="24929" y="15999"/>
                </a:cubicBezTo>
              </a:path>
              <a:path w="4168" h="12974">
                <a:moveTo>
                  <a:pt x="23937" y="16867"/>
                </a:moveTo>
                <a:cubicBezTo>
                  <a:pt x="23943" y="16978"/>
                  <a:pt x="23965" y="17062"/>
                  <a:pt x="23986" y="17165"/>
                </a:cubicBezTo>
              </a:path>
              <a:path w="4168" h="12974">
                <a:moveTo>
                  <a:pt x="23788" y="16768"/>
                </a:moveTo>
                <a:cubicBezTo>
                  <a:pt x="23857" y="16763"/>
                  <a:pt x="24095" y="16689"/>
                  <a:pt x="24085" y="16818"/>
                </a:cubicBezTo>
                <a:cubicBezTo>
                  <a:pt x="24073" y="16980"/>
                  <a:pt x="23961" y="16975"/>
                  <a:pt x="23887" y="17090"/>
                </a:cubicBezTo>
                <a:cubicBezTo>
                  <a:pt x="23887" y="17098"/>
                  <a:pt x="23887" y="17107"/>
                  <a:pt x="23887" y="17115"/>
                </a:cubicBezTo>
              </a:path>
              <a:path w="4168" h="12974">
                <a:moveTo>
                  <a:pt x="24284" y="16743"/>
                </a:moveTo>
                <a:cubicBezTo>
                  <a:pt x="24284" y="16827"/>
                  <a:pt x="24235" y="16910"/>
                  <a:pt x="24209" y="16991"/>
                </a:cubicBezTo>
                <a:cubicBezTo>
                  <a:pt x="24174" y="17101"/>
                  <a:pt x="24222" y="17131"/>
                  <a:pt x="24333" y="17140"/>
                </a:cubicBezTo>
                <a:cubicBezTo>
                  <a:pt x="24439" y="17148"/>
                  <a:pt x="24500" y="17119"/>
                  <a:pt x="24532" y="17016"/>
                </a:cubicBezTo>
                <a:cubicBezTo>
                  <a:pt x="24544" y="16977"/>
                  <a:pt x="24460" y="16938"/>
                  <a:pt x="24433" y="16942"/>
                </a:cubicBezTo>
                <a:cubicBezTo>
                  <a:pt x="24425" y="16950"/>
                  <a:pt x="24416" y="16958"/>
                  <a:pt x="24408" y="16966"/>
                </a:cubicBezTo>
                <a:cubicBezTo>
                  <a:pt x="24400" y="16966"/>
                  <a:pt x="24391" y="16966"/>
                  <a:pt x="24383" y="16966"/>
                </a:cubicBezTo>
                <a:cubicBezTo>
                  <a:pt x="24466" y="16955"/>
                  <a:pt x="24548" y="16929"/>
                  <a:pt x="24631" y="16917"/>
                </a:cubicBezTo>
              </a:path>
              <a:path w="4168" h="12974">
                <a:moveTo>
                  <a:pt x="24036" y="16644"/>
                </a:moveTo>
                <a:cubicBezTo>
                  <a:pt x="24008" y="16644"/>
                  <a:pt x="23997" y="16642"/>
                  <a:pt x="23986" y="16619"/>
                </a:cubicBezTo>
                <a:cubicBezTo>
                  <a:pt x="24128" y="16599"/>
                  <a:pt x="24265" y="16609"/>
                  <a:pt x="24408" y="16594"/>
                </a:cubicBezTo>
                <a:cubicBezTo>
                  <a:pt x="24481" y="16586"/>
                  <a:pt x="24533" y="16570"/>
                  <a:pt x="24606" y="16570"/>
                </a:cubicBezTo>
              </a:path>
              <a:path w="4168" h="12974">
                <a:moveTo>
                  <a:pt x="23937" y="17462"/>
                </a:moveTo>
                <a:cubicBezTo>
                  <a:pt x="24028" y="17462"/>
                  <a:pt x="24029" y="17539"/>
                  <a:pt x="24061" y="17611"/>
                </a:cubicBezTo>
                <a:cubicBezTo>
                  <a:pt x="24084" y="17659"/>
                  <a:pt x="24092" y="17674"/>
                  <a:pt x="24085" y="17711"/>
                </a:cubicBezTo>
              </a:path>
              <a:path w="4168" h="12974">
                <a:moveTo>
                  <a:pt x="23812" y="17487"/>
                </a:moveTo>
                <a:cubicBezTo>
                  <a:pt x="23966" y="17443"/>
                  <a:pt x="24130" y="17417"/>
                  <a:pt x="24284" y="17487"/>
                </a:cubicBezTo>
                <a:cubicBezTo>
                  <a:pt x="24339" y="17512"/>
                  <a:pt x="24375" y="17603"/>
                  <a:pt x="24358" y="17661"/>
                </a:cubicBezTo>
                <a:cubicBezTo>
                  <a:pt x="24330" y="17755"/>
                  <a:pt x="24216" y="17755"/>
                  <a:pt x="24135" y="17760"/>
                </a:cubicBezTo>
                <a:cubicBezTo>
                  <a:pt x="24110" y="17760"/>
                  <a:pt x="24102" y="17760"/>
                  <a:pt x="24085" y="17760"/>
                </a:cubicBezTo>
              </a:path>
              <a:path w="4168" h="12974">
                <a:moveTo>
                  <a:pt x="24507" y="17487"/>
                </a:moveTo>
                <a:cubicBezTo>
                  <a:pt x="24556" y="17546"/>
                  <a:pt x="24571" y="17639"/>
                  <a:pt x="24606" y="17686"/>
                </a:cubicBezTo>
                <a:cubicBezTo>
                  <a:pt x="24614" y="17686"/>
                  <a:pt x="24623" y="17686"/>
                  <a:pt x="24631" y="17686"/>
                </a:cubicBezTo>
              </a:path>
              <a:path w="4168" h="12974">
                <a:moveTo>
                  <a:pt x="24805" y="17413"/>
                </a:moveTo>
                <a:cubicBezTo>
                  <a:pt x="24812" y="17497"/>
                  <a:pt x="24836" y="17557"/>
                  <a:pt x="24854" y="17636"/>
                </a:cubicBezTo>
                <a:cubicBezTo>
                  <a:pt x="24854" y="17661"/>
                  <a:pt x="24854" y="17669"/>
                  <a:pt x="24854" y="17686"/>
                </a:cubicBezTo>
              </a:path>
              <a:path w="4168" h="12974">
                <a:moveTo>
                  <a:pt x="24581" y="17611"/>
                </a:moveTo>
                <a:cubicBezTo>
                  <a:pt x="24594" y="17574"/>
                  <a:pt x="24680" y="17577"/>
                  <a:pt x="24730" y="17562"/>
                </a:cubicBezTo>
                <a:cubicBezTo>
                  <a:pt x="24788" y="17543"/>
                  <a:pt x="24794" y="17534"/>
                  <a:pt x="24829" y="17537"/>
                </a:cubicBezTo>
              </a:path>
              <a:path w="4168" h="12974">
                <a:moveTo>
                  <a:pt x="23986" y="17314"/>
                </a:moveTo>
                <a:cubicBezTo>
                  <a:pt x="24130" y="17314"/>
                  <a:pt x="24265" y="17311"/>
                  <a:pt x="24408" y="17289"/>
                </a:cubicBezTo>
                <a:cubicBezTo>
                  <a:pt x="24566" y="17265"/>
                  <a:pt x="24720" y="17222"/>
                  <a:pt x="24879" y="17214"/>
                </a:cubicBezTo>
                <a:cubicBezTo>
                  <a:pt x="24904" y="17214"/>
                  <a:pt x="24912" y="17214"/>
                  <a:pt x="24929" y="17214"/>
                </a:cubicBezTo>
              </a:path>
              <a:path w="4168" h="12974">
                <a:moveTo>
                  <a:pt x="22324" y="5035"/>
                </a:moveTo>
                <a:cubicBezTo>
                  <a:pt x="22368" y="5105"/>
                  <a:pt x="22395" y="5179"/>
                  <a:pt x="22423" y="5259"/>
                </a:cubicBezTo>
                <a:cubicBezTo>
                  <a:pt x="22411" y="5182"/>
                  <a:pt x="22380" y="5113"/>
                  <a:pt x="22374" y="5035"/>
                </a:cubicBezTo>
                <a:cubicBezTo>
                  <a:pt x="22370" y="4975"/>
                  <a:pt x="22480" y="4964"/>
                  <a:pt x="22523" y="4961"/>
                </a:cubicBezTo>
                <a:cubicBezTo>
                  <a:pt x="22531" y="4961"/>
                  <a:pt x="22539" y="4961"/>
                  <a:pt x="22547" y="4961"/>
                </a:cubicBezTo>
              </a:path>
              <a:path w="4168" h="12974">
                <a:moveTo>
                  <a:pt x="22374" y="5159"/>
                </a:moveTo>
                <a:cubicBezTo>
                  <a:pt x="22448" y="5159"/>
                  <a:pt x="22500" y="5152"/>
                  <a:pt x="22572" y="5135"/>
                </a:cubicBezTo>
              </a:path>
              <a:path w="4168" h="12974">
                <a:moveTo>
                  <a:pt x="22771" y="5011"/>
                </a:moveTo>
                <a:cubicBezTo>
                  <a:pt x="22773" y="5024"/>
                  <a:pt x="22809" y="5232"/>
                  <a:pt x="22820" y="5234"/>
                </a:cubicBezTo>
                <a:cubicBezTo>
                  <a:pt x="22828" y="5226"/>
                  <a:pt x="22837" y="5217"/>
                  <a:pt x="22845" y="5209"/>
                </a:cubicBezTo>
              </a:path>
              <a:path w="4168" h="12974">
                <a:moveTo>
                  <a:pt x="22969" y="4936"/>
                </a:moveTo>
                <a:cubicBezTo>
                  <a:pt x="23004" y="5027"/>
                  <a:pt x="23053" y="5113"/>
                  <a:pt x="23068" y="5209"/>
                </a:cubicBezTo>
              </a:path>
              <a:path w="4168" h="12974">
                <a:moveTo>
                  <a:pt x="22870" y="5159"/>
                </a:moveTo>
                <a:cubicBezTo>
                  <a:pt x="22940" y="5131"/>
                  <a:pt x="22954" y="5147"/>
                  <a:pt x="22969" y="5085"/>
                </a:cubicBezTo>
              </a:path>
              <a:path w="4168" h="12974">
                <a:moveTo>
                  <a:pt x="22349" y="4936"/>
                </a:moveTo>
                <a:cubicBezTo>
                  <a:pt x="22469" y="4856"/>
                  <a:pt x="22630" y="4859"/>
                  <a:pt x="22771" y="4837"/>
                </a:cubicBezTo>
                <a:cubicBezTo>
                  <a:pt x="22863" y="4822"/>
                  <a:pt x="22931" y="4786"/>
                  <a:pt x="22994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29240" y="1938240"/>
            <a:ext cx="2251080" cy="1258920"/>
          </a:xfrm>
          <a:custGeom>
            <a:avLst/>
            <a:gdLst/>
            <a:ahLst/>
            <a:rect l="l" t="t" r="r" b="b"/>
            <a:pathLst>
              <a:path w="6252" h="3498">
                <a:moveTo>
                  <a:pt x="22820" y="6350"/>
                </a:moveTo>
                <a:cubicBezTo>
                  <a:pt x="22747" y="6276"/>
                  <a:pt x="22633" y="6303"/>
                  <a:pt x="22622" y="6449"/>
                </a:cubicBezTo>
                <a:cubicBezTo>
                  <a:pt x="22605" y="6672"/>
                  <a:pt x="22786" y="6617"/>
                  <a:pt x="22895" y="6573"/>
                </a:cubicBezTo>
                <a:cubicBezTo>
                  <a:pt x="22903" y="6573"/>
                  <a:pt x="22912" y="6573"/>
                  <a:pt x="22920" y="6573"/>
                </a:cubicBezTo>
              </a:path>
              <a:path w="6252" h="3498">
                <a:moveTo>
                  <a:pt x="18033" y="5779"/>
                </a:moveTo>
                <a:cubicBezTo>
                  <a:pt x="18016" y="5755"/>
                  <a:pt x="17999" y="5749"/>
                  <a:pt x="17983" y="5730"/>
                </a:cubicBezTo>
                <a:cubicBezTo>
                  <a:pt x="17968" y="5711"/>
                  <a:pt x="17912" y="5619"/>
                  <a:pt x="17909" y="5606"/>
                </a:cubicBezTo>
                <a:cubicBezTo>
                  <a:pt x="17899" y="5569"/>
                  <a:pt x="17887" y="5491"/>
                  <a:pt x="17884" y="5482"/>
                </a:cubicBezTo>
                <a:cubicBezTo>
                  <a:pt x="17872" y="5442"/>
                  <a:pt x="17823" y="5363"/>
                  <a:pt x="17859" y="5383"/>
                </a:cubicBezTo>
                <a:cubicBezTo>
                  <a:pt x="17890" y="5400"/>
                  <a:pt x="17968" y="5520"/>
                  <a:pt x="18008" y="5556"/>
                </a:cubicBezTo>
                <a:cubicBezTo>
                  <a:pt x="18075" y="5615"/>
                  <a:pt x="18174" y="5691"/>
                  <a:pt x="18256" y="5730"/>
                </a:cubicBezTo>
                <a:cubicBezTo>
                  <a:pt x="18341" y="5771"/>
                  <a:pt x="18402" y="5810"/>
                  <a:pt x="18479" y="5854"/>
                </a:cubicBezTo>
                <a:cubicBezTo>
                  <a:pt x="18535" y="5886"/>
                  <a:pt x="18590" y="5894"/>
                  <a:pt x="18653" y="5928"/>
                </a:cubicBezTo>
                <a:cubicBezTo>
                  <a:pt x="18713" y="5960"/>
                  <a:pt x="18796" y="5996"/>
                  <a:pt x="18852" y="6028"/>
                </a:cubicBezTo>
                <a:cubicBezTo>
                  <a:pt x="18915" y="6065"/>
                  <a:pt x="18990" y="6131"/>
                  <a:pt x="19050" y="6176"/>
                </a:cubicBezTo>
                <a:cubicBezTo>
                  <a:pt x="19096" y="6211"/>
                  <a:pt x="19134" y="6271"/>
                  <a:pt x="19174" y="6300"/>
                </a:cubicBezTo>
                <a:cubicBezTo>
                  <a:pt x="19234" y="6344"/>
                  <a:pt x="19285" y="6372"/>
                  <a:pt x="19348" y="6424"/>
                </a:cubicBezTo>
                <a:cubicBezTo>
                  <a:pt x="19422" y="6486"/>
                  <a:pt x="19491" y="6521"/>
                  <a:pt x="19571" y="6573"/>
                </a:cubicBezTo>
                <a:cubicBezTo>
                  <a:pt x="19645" y="6621"/>
                  <a:pt x="19720" y="6676"/>
                  <a:pt x="19794" y="6722"/>
                </a:cubicBezTo>
                <a:cubicBezTo>
                  <a:pt x="19851" y="6757"/>
                  <a:pt x="19911" y="6787"/>
                  <a:pt x="19968" y="6821"/>
                </a:cubicBezTo>
                <a:cubicBezTo>
                  <a:pt x="20037" y="6862"/>
                  <a:pt x="20098" y="6902"/>
                  <a:pt x="20166" y="6945"/>
                </a:cubicBezTo>
                <a:cubicBezTo>
                  <a:pt x="20254" y="7000"/>
                  <a:pt x="20352" y="7039"/>
                  <a:pt x="20439" y="7094"/>
                </a:cubicBezTo>
                <a:cubicBezTo>
                  <a:pt x="20483" y="7122"/>
                  <a:pt x="20519" y="7165"/>
                  <a:pt x="20563" y="7193"/>
                </a:cubicBezTo>
                <a:cubicBezTo>
                  <a:pt x="20631" y="7237"/>
                  <a:pt x="20723" y="7277"/>
                  <a:pt x="20786" y="7342"/>
                </a:cubicBezTo>
                <a:cubicBezTo>
                  <a:pt x="20828" y="7385"/>
                  <a:pt x="20900" y="7454"/>
                  <a:pt x="20935" y="7491"/>
                </a:cubicBezTo>
                <a:cubicBezTo>
                  <a:pt x="20992" y="7551"/>
                  <a:pt x="21025" y="7631"/>
                  <a:pt x="21084" y="7689"/>
                </a:cubicBezTo>
                <a:cubicBezTo>
                  <a:pt x="21152" y="7755"/>
                  <a:pt x="21252" y="7833"/>
                  <a:pt x="21332" y="7888"/>
                </a:cubicBezTo>
                <a:cubicBezTo>
                  <a:pt x="21409" y="7941"/>
                  <a:pt x="21441" y="7982"/>
                  <a:pt x="21506" y="8037"/>
                </a:cubicBezTo>
                <a:cubicBezTo>
                  <a:pt x="21572" y="8094"/>
                  <a:pt x="21664" y="8130"/>
                  <a:pt x="21729" y="8186"/>
                </a:cubicBezTo>
                <a:cubicBezTo>
                  <a:pt x="21754" y="8207"/>
                  <a:pt x="21816" y="8270"/>
                  <a:pt x="21853" y="8310"/>
                </a:cubicBezTo>
                <a:cubicBezTo>
                  <a:pt x="21918" y="8381"/>
                  <a:pt x="22020" y="8463"/>
                  <a:pt x="22076" y="8533"/>
                </a:cubicBezTo>
                <a:cubicBezTo>
                  <a:pt x="22123" y="8591"/>
                  <a:pt x="22149" y="8678"/>
                  <a:pt x="22200" y="8731"/>
                </a:cubicBezTo>
                <a:cubicBezTo>
                  <a:pt x="22227" y="8759"/>
                  <a:pt x="22291" y="8787"/>
                  <a:pt x="22324" y="8830"/>
                </a:cubicBezTo>
                <a:cubicBezTo>
                  <a:pt x="22339" y="8849"/>
                  <a:pt x="22334" y="8862"/>
                  <a:pt x="22349" y="8880"/>
                </a:cubicBezTo>
              </a:path>
              <a:path w="6252" h="3498">
                <a:moveTo>
                  <a:pt x="23465" y="6375"/>
                </a:moveTo>
                <a:cubicBezTo>
                  <a:pt x="23492" y="6468"/>
                  <a:pt x="23508" y="6552"/>
                  <a:pt x="23515" y="6648"/>
                </a:cubicBezTo>
                <a:cubicBezTo>
                  <a:pt x="23515" y="6721"/>
                  <a:pt x="23489" y="6385"/>
                  <a:pt x="23490" y="6375"/>
                </a:cubicBezTo>
                <a:cubicBezTo>
                  <a:pt x="23498" y="6342"/>
                  <a:pt x="23507" y="6309"/>
                  <a:pt x="23515" y="6276"/>
                </a:cubicBezTo>
                <a:cubicBezTo>
                  <a:pt x="23620" y="6276"/>
                  <a:pt x="23667" y="6421"/>
                  <a:pt x="23713" y="6499"/>
                </a:cubicBezTo>
                <a:cubicBezTo>
                  <a:pt x="23741" y="6546"/>
                  <a:pt x="23738" y="6572"/>
                  <a:pt x="23738" y="6623"/>
                </a:cubicBezTo>
              </a:path>
              <a:path w="6252" h="3498">
                <a:moveTo>
                  <a:pt x="23465" y="6548"/>
                </a:moveTo>
                <a:cubicBezTo>
                  <a:pt x="23582" y="6515"/>
                  <a:pt x="23700" y="6453"/>
                  <a:pt x="23812" y="6400"/>
                </a:cubicBezTo>
              </a:path>
              <a:path w="6252" h="3498">
                <a:moveTo>
                  <a:pt x="23837" y="6300"/>
                </a:moveTo>
                <a:cubicBezTo>
                  <a:pt x="23861" y="6371"/>
                  <a:pt x="23900" y="6459"/>
                  <a:pt x="23937" y="6524"/>
                </a:cubicBezTo>
              </a:path>
              <a:path w="6252" h="3498">
                <a:moveTo>
                  <a:pt x="23788" y="6276"/>
                </a:moveTo>
                <a:cubicBezTo>
                  <a:pt x="23951" y="6252"/>
                  <a:pt x="24038" y="6277"/>
                  <a:pt x="24110" y="6449"/>
                </a:cubicBezTo>
                <a:cubicBezTo>
                  <a:pt x="24198" y="6658"/>
                  <a:pt x="23910" y="6592"/>
                  <a:pt x="23837" y="6573"/>
                </a:cubicBezTo>
              </a:path>
              <a:path w="6252" h="3498">
                <a:moveTo>
                  <a:pt x="23316" y="6300"/>
                </a:moveTo>
                <a:cubicBezTo>
                  <a:pt x="23452" y="6200"/>
                  <a:pt x="23559" y="6201"/>
                  <a:pt x="23713" y="6152"/>
                </a:cubicBezTo>
                <a:cubicBezTo>
                  <a:pt x="23767" y="6135"/>
                  <a:pt x="23782" y="6127"/>
                  <a:pt x="23837" y="6127"/>
                </a:cubicBezTo>
                <a:cubicBezTo>
                  <a:pt x="23865" y="6127"/>
                  <a:pt x="23871" y="6125"/>
                  <a:pt x="23837" y="6102"/>
                </a:cubicBezTo>
              </a:path>
              <a:path w="6252" h="3498">
                <a:moveTo>
                  <a:pt x="23316" y="6300"/>
                </a:moveTo>
                <a:cubicBezTo>
                  <a:pt x="23292" y="6300"/>
                  <a:pt x="23283" y="6300"/>
                  <a:pt x="23267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2482920"/>
            <a:ext cx="179640" cy="241200"/>
          </a:xfrm>
          <a:custGeom>
            <a:avLst/>
            <a:gdLst/>
            <a:ahLst/>
            <a:rect l="l" t="t" r="r" b="b"/>
            <a:pathLst>
              <a:path w="498" h="670">
                <a:moveTo>
                  <a:pt x="15205" y="7020"/>
                </a:moveTo>
                <a:cubicBezTo>
                  <a:pt x="15167" y="7058"/>
                  <a:pt x="15252" y="7194"/>
                  <a:pt x="15280" y="7243"/>
                </a:cubicBezTo>
              </a:path>
              <a:path w="498" h="670">
                <a:moveTo>
                  <a:pt x="15304" y="6896"/>
                </a:moveTo>
                <a:cubicBezTo>
                  <a:pt x="15337" y="6972"/>
                  <a:pt x="15400" y="7049"/>
                  <a:pt x="15453" y="7119"/>
                </a:cubicBezTo>
              </a:path>
              <a:path w="498" h="670">
                <a:moveTo>
                  <a:pt x="15379" y="7243"/>
                </a:moveTo>
                <a:cubicBezTo>
                  <a:pt x="15379" y="7208"/>
                  <a:pt x="15417" y="7214"/>
                  <a:pt x="15429" y="7169"/>
                </a:cubicBezTo>
              </a:path>
              <a:path w="498" h="670">
                <a:moveTo>
                  <a:pt x="15230" y="7069"/>
                </a:moveTo>
                <a:cubicBezTo>
                  <a:pt x="15230" y="7163"/>
                  <a:pt x="15283" y="7286"/>
                  <a:pt x="15329" y="7367"/>
                </a:cubicBezTo>
                <a:cubicBezTo>
                  <a:pt x="15387" y="7467"/>
                  <a:pt x="15416" y="7463"/>
                  <a:pt x="15429" y="7565"/>
                </a:cubicBezTo>
              </a:path>
              <a:path w="498" h="670">
                <a:moveTo>
                  <a:pt x="15379" y="6970"/>
                </a:moveTo>
                <a:cubicBezTo>
                  <a:pt x="15473" y="7064"/>
                  <a:pt x="15575" y="7159"/>
                  <a:pt x="15652" y="7268"/>
                </a:cubicBezTo>
                <a:cubicBezTo>
                  <a:pt x="15672" y="7308"/>
                  <a:pt x="15681" y="7314"/>
                  <a:pt x="1567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2200" y="1982880"/>
            <a:ext cx="509760" cy="1231920"/>
          </a:xfrm>
          <a:custGeom>
            <a:avLst/>
            <a:gdLst/>
            <a:ahLst/>
            <a:rect l="l" t="t" r="r" b="b"/>
            <a:pathLst>
              <a:path w="1415" h="3424">
                <a:moveTo>
                  <a:pt x="17810" y="5606"/>
                </a:moveTo>
                <a:cubicBezTo>
                  <a:pt x="17810" y="5573"/>
                  <a:pt x="17810" y="5540"/>
                  <a:pt x="17810" y="5507"/>
                </a:cubicBezTo>
                <a:cubicBezTo>
                  <a:pt x="17799" y="5657"/>
                  <a:pt x="17768" y="5805"/>
                  <a:pt x="17735" y="5953"/>
                </a:cubicBezTo>
                <a:cubicBezTo>
                  <a:pt x="17694" y="6140"/>
                  <a:pt x="17660" y="6375"/>
                  <a:pt x="17587" y="6548"/>
                </a:cubicBezTo>
                <a:cubicBezTo>
                  <a:pt x="17532" y="6678"/>
                  <a:pt x="17449" y="6794"/>
                  <a:pt x="17388" y="6921"/>
                </a:cubicBezTo>
                <a:cubicBezTo>
                  <a:pt x="17351" y="6998"/>
                  <a:pt x="17321" y="7089"/>
                  <a:pt x="17289" y="7169"/>
                </a:cubicBezTo>
                <a:cubicBezTo>
                  <a:pt x="17261" y="7239"/>
                  <a:pt x="17216" y="7295"/>
                  <a:pt x="17190" y="7367"/>
                </a:cubicBezTo>
                <a:cubicBezTo>
                  <a:pt x="17151" y="7475"/>
                  <a:pt x="17105" y="7584"/>
                  <a:pt x="17066" y="7689"/>
                </a:cubicBezTo>
                <a:cubicBezTo>
                  <a:pt x="17027" y="7793"/>
                  <a:pt x="16994" y="7912"/>
                  <a:pt x="16942" y="8012"/>
                </a:cubicBezTo>
                <a:cubicBezTo>
                  <a:pt x="16900" y="8093"/>
                  <a:pt x="16877" y="8184"/>
                  <a:pt x="16842" y="8260"/>
                </a:cubicBezTo>
                <a:cubicBezTo>
                  <a:pt x="16806" y="8337"/>
                  <a:pt x="16762" y="8412"/>
                  <a:pt x="16718" y="8483"/>
                </a:cubicBezTo>
                <a:cubicBezTo>
                  <a:pt x="16690" y="8528"/>
                  <a:pt x="16669" y="8592"/>
                  <a:pt x="16644" y="8632"/>
                </a:cubicBezTo>
                <a:cubicBezTo>
                  <a:pt x="16611" y="8684"/>
                  <a:pt x="16560" y="8734"/>
                  <a:pt x="16520" y="8781"/>
                </a:cubicBezTo>
                <a:cubicBezTo>
                  <a:pt x="16490" y="8817"/>
                  <a:pt x="16473" y="8876"/>
                  <a:pt x="16446" y="8905"/>
                </a:cubicBezTo>
                <a:cubicBezTo>
                  <a:pt x="16434" y="8918"/>
                  <a:pt x="16410" y="8918"/>
                  <a:pt x="1639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66120" y="2768760"/>
            <a:ext cx="241200" cy="152280"/>
          </a:xfrm>
          <a:custGeom>
            <a:avLst/>
            <a:gdLst/>
            <a:ahLst/>
            <a:rect l="l" t="t" r="r" b="b"/>
            <a:pathLst>
              <a:path w="671" h="423">
                <a:moveTo>
                  <a:pt x="23515" y="7838"/>
                </a:moveTo>
                <a:cubicBezTo>
                  <a:pt x="23562" y="7897"/>
                  <a:pt x="23570" y="8018"/>
                  <a:pt x="23589" y="8111"/>
                </a:cubicBezTo>
                <a:cubicBezTo>
                  <a:pt x="23589" y="8103"/>
                  <a:pt x="23589" y="8094"/>
                  <a:pt x="23589" y="8086"/>
                </a:cubicBezTo>
                <a:cubicBezTo>
                  <a:pt x="23597" y="8026"/>
                  <a:pt x="23603" y="7799"/>
                  <a:pt x="23664" y="7764"/>
                </a:cubicBezTo>
                <a:cubicBezTo>
                  <a:pt x="23750" y="7714"/>
                  <a:pt x="23846" y="7899"/>
                  <a:pt x="23862" y="7962"/>
                </a:cubicBezTo>
                <a:cubicBezTo>
                  <a:pt x="23862" y="8004"/>
                  <a:pt x="23862" y="8012"/>
                  <a:pt x="23862" y="8037"/>
                </a:cubicBezTo>
              </a:path>
              <a:path w="671" h="423">
                <a:moveTo>
                  <a:pt x="23564" y="8012"/>
                </a:moveTo>
                <a:cubicBezTo>
                  <a:pt x="23687" y="7985"/>
                  <a:pt x="23796" y="7958"/>
                  <a:pt x="23912" y="7913"/>
                </a:cubicBezTo>
              </a:path>
              <a:path w="671" h="423">
                <a:moveTo>
                  <a:pt x="24011" y="7838"/>
                </a:moveTo>
                <a:cubicBezTo>
                  <a:pt x="24063" y="7884"/>
                  <a:pt x="24093" y="7928"/>
                  <a:pt x="24135" y="7987"/>
                </a:cubicBezTo>
                <a:cubicBezTo>
                  <a:pt x="24142" y="7967"/>
                  <a:pt x="24042" y="7810"/>
                  <a:pt x="24085" y="7739"/>
                </a:cubicBezTo>
                <a:cubicBezTo>
                  <a:pt x="24142" y="7701"/>
                  <a:pt x="24145" y="7684"/>
                  <a:pt x="24185" y="7689"/>
                </a:cubicBezTo>
              </a:path>
              <a:path w="671" h="423">
                <a:moveTo>
                  <a:pt x="24110" y="7888"/>
                </a:moveTo>
                <a:cubicBezTo>
                  <a:pt x="24151" y="7868"/>
                  <a:pt x="24157" y="7859"/>
                  <a:pt x="2418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18640" y="1490760"/>
            <a:ext cx="250560" cy="223920"/>
          </a:xfrm>
          <a:custGeom>
            <a:avLst/>
            <a:gdLst/>
            <a:ahLst/>
            <a:rect l="l" t="t" r="r" b="b"/>
            <a:pathLst>
              <a:path w="695" h="621">
                <a:moveTo>
                  <a:pt x="22299" y="4415"/>
                </a:moveTo>
                <a:cubicBezTo>
                  <a:pt x="22320" y="4457"/>
                  <a:pt x="22279" y="4625"/>
                  <a:pt x="22275" y="4713"/>
                </a:cubicBezTo>
                <a:cubicBezTo>
                  <a:pt x="22275" y="4721"/>
                  <a:pt x="22275" y="4730"/>
                  <a:pt x="22275" y="4738"/>
                </a:cubicBezTo>
                <a:cubicBezTo>
                  <a:pt x="22384" y="4753"/>
                  <a:pt x="22404" y="4760"/>
                  <a:pt x="22498" y="4713"/>
                </a:cubicBezTo>
              </a:path>
              <a:path w="695" h="621">
                <a:moveTo>
                  <a:pt x="22349" y="4614"/>
                </a:moveTo>
                <a:cubicBezTo>
                  <a:pt x="22441" y="4577"/>
                  <a:pt x="22456" y="4531"/>
                  <a:pt x="22473" y="4440"/>
                </a:cubicBezTo>
              </a:path>
              <a:path w="695" h="621">
                <a:moveTo>
                  <a:pt x="22349" y="4415"/>
                </a:moveTo>
                <a:cubicBezTo>
                  <a:pt x="22455" y="4373"/>
                  <a:pt x="22476" y="4357"/>
                  <a:pt x="22547" y="4366"/>
                </a:cubicBezTo>
              </a:path>
              <a:path w="695" h="621">
                <a:moveTo>
                  <a:pt x="22721" y="4291"/>
                </a:moveTo>
                <a:cubicBezTo>
                  <a:pt x="22747" y="4379"/>
                  <a:pt x="22761" y="4471"/>
                  <a:pt x="22771" y="4564"/>
                </a:cubicBezTo>
              </a:path>
              <a:path w="695" h="621">
                <a:moveTo>
                  <a:pt x="22944" y="4242"/>
                </a:moveTo>
                <a:cubicBezTo>
                  <a:pt x="22951" y="4334"/>
                  <a:pt x="22963" y="4421"/>
                  <a:pt x="22969" y="4514"/>
                </a:cubicBezTo>
              </a:path>
              <a:path w="695" h="621">
                <a:moveTo>
                  <a:pt x="22820" y="4490"/>
                </a:moveTo>
                <a:cubicBezTo>
                  <a:pt x="22880" y="4450"/>
                  <a:pt x="22892" y="4446"/>
                  <a:pt x="22920" y="4415"/>
                </a:cubicBezTo>
              </a:path>
              <a:path w="695" h="621">
                <a:moveTo>
                  <a:pt x="22299" y="4316"/>
                </a:moveTo>
                <a:cubicBezTo>
                  <a:pt x="22315" y="4267"/>
                  <a:pt x="22557" y="4225"/>
                  <a:pt x="22597" y="4217"/>
                </a:cubicBezTo>
                <a:cubicBezTo>
                  <a:pt x="22716" y="4193"/>
                  <a:pt x="22827" y="4168"/>
                  <a:pt x="22944" y="41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27800" y="1955880"/>
            <a:ext cx="1965240" cy="1919160"/>
          </a:xfrm>
          <a:custGeom>
            <a:avLst/>
            <a:gdLst/>
            <a:ahLst/>
            <a:rect l="l" t="t" r="r" b="b"/>
            <a:pathLst>
              <a:path w="5458" h="5334">
                <a:moveTo>
                  <a:pt x="15602" y="9500"/>
                </a:moveTo>
                <a:cubicBezTo>
                  <a:pt x="15563" y="9474"/>
                  <a:pt x="15466" y="9406"/>
                  <a:pt x="15429" y="9475"/>
                </a:cubicBezTo>
                <a:cubicBezTo>
                  <a:pt x="15357" y="9608"/>
                  <a:pt x="15277" y="9889"/>
                  <a:pt x="15528" y="9872"/>
                </a:cubicBezTo>
                <a:cubicBezTo>
                  <a:pt x="15653" y="9864"/>
                  <a:pt x="15737" y="9784"/>
                  <a:pt x="15751" y="9674"/>
                </a:cubicBezTo>
                <a:cubicBezTo>
                  <a:pt x="15648" y="9674"/>
                  <a:pt x="15569" y="9678"/>
                  <a:pt x="15503" y="9773"/>
                </a:cubicBezTo>
                <a:cubicBezTo>
                  <a:pt x="15503" y="9781"/>
                  <a:pt x="15503" y="9790"/>
                  <a:pt x="15503" y="9798"/>
                </a:cubicBezTo>
              </a:path>
              <a:path w="5458" h="5334">
                <a:moveTo>
                  <a:pt x="20762" y="6077"/>
                </a:moveTo>
                <a:cubicBezTo>
                  <a:pt x="20762" y="6069"/>
                  <a:pt x="20762" y="6060"/>
                  <a:pt x="20762" y="6052"/>
                </a:cubicBezTo>
              </a:path>
              <a:path w="5458" h="5334">
                <a:moveTo>
                  <a:pt x="20762" y="6052"/>
                </a:moveTo>
                <a:lnTo>
                  <a:pt x="20762" y="6052"/>
                </a:lnTo>
                <a:lnTo>
                  <a:pt x="20762" y="6052"/>
                </a:lnTo>
              </a:path>
              <a:path w="5458" h="5334">
                <a:moveTo>
                  <a:pt x="20762" y="6052"/>
                </a:moveTo>
                <a:lnTo>
                  <a:pt x="20762" y="6052"/>
                </a:lnTo>
              </a:path>
              <a:path w="5458" h="5334">
                <a:moveTo>
                  <a:pt x="20786" y="5482"/>
                </a:moveTo>
                <a:cubicBezTo>
                  <a:pt x="20809" y="5459"/>
                  <a:pt x="20817" y="5455"/>
                  <a:pt x="20811" y="5432"/>
                </a:cubicBezTo>
                <a:cubicBezTo>
                  <a:pt x="20779" y="5472"/>
                  <a:pt x="20727" y="5549"/>
                  <a:pt x="20687" y="5606"/>
                </a:cubicBezTo>
                <a:cubicBezTo>
                  <a:pt x="20661" y="5643"/>
                  <a:pt x="20639" y="5671"/>
                  <a:pt x="20613" y="5705"/>
                </a:cubicBezTo>
                <a:cubicBezTo>
                  <a:pt x="20572" y="5758"/>
                  <a:pt x="20537" y="5804"/>
                  <a:pt x="20489" y="5854"/>
                </a:cubicBezTo>
                <a:cubicBezTo>
                  <a:pt x="20423" y="5923"/>
                  <a:pt x="20358" y="5992"/>
                  <a:pt x="20290" y="6052"/>
                </a:cubicBezTo>
                <a:cubicBezTo>
                  <a:pt x="20216" y="6117"/>
                  <a:pt x="20150" y="6188"/>
                  <a:pt x="20067" y="6251"/>
                </a:cubicBezTo>
                <a:cubicBezTo>
                  <a:pt x="19990" y="6310"/>
                  <a:pt x="19926" y="6346"/>
                  <a:pt x="19844" y="6400"/>
                </a:cubicBezTo>
                <a:cubicBezTo>
                  <a:pt x="19736" y="6471"/>
                  <a:pt x="19634" y="6558"/>
                  <a:pt x="19521" y="6623"/>
                </a:cubicBezTo>
                <a:cubicBezTo>
                  <a:pt x="19348" y="6722"/>
                  <a:pt x="19170" y="6819"/>
                  <a:pt x="19000" y="6921"/>
                </a:cubicBezTo>
                <a:cubicBezTo>
                  <a:pt x="18863" y="7003"/>
                  <a:pt x="18738" y="7106"/>
                  <a:pt x="18604" y="7193"/>
                </a:cubicBezTo>
                <a:cubicBezTo>
                  <a:pt x="18473" y="7278"/>
                  <a:pt x="18334" y="7349"/>
                  <a:pt x="18207" y="7441"/>
                </a:cubicBezTo>
                <a:cubicBezTo>
                  <a:pt x="18073" y="7538"/>
                  <a:pt x="17957" y="7675"/>
                  <a:pt x="17835" y="7789"/>
                </a:cubicBezTo>
                <a:cubicBezTo>
                  <a:pt x="17739" y="7878"/>
                  <a:pt x="17651" y="7973"/>
                  <a:pt x="17562" y="8062"/>
                </a:cubicBezTo>
                <a:cubicBezTo>
                  <a:pt x="17492" y="8131"/>
                  <a:pt x="17429" y="8205"/>
                  <a:pt x="17363" y="8285"/>
                </a:cubicBezTo>
                <a:cubicBezTo>
                  <a:pt x="17302" y="8359"/>
                  <a:pt x="17246" y="8444"/>
                  <a:pt x="17190" y="8533"/>
                </a:cubicBezTo>
                <a:cubicBezTo>
                  <a:pt x="17122" y="8643"/>
                  <a:pt x="17036" y="8725"/>
                  <a:pt x="16966" y="8830"/>
                </a:cubicBezTo>
                <a:cubicBezTo>
                  <a:pt x="16859" y="8990"/>
                  <a:pt x="16724" y="9122"/>
                  <a:pt x="16594" y="9252"/>
                </a:cubicBezTo>
                <a:cubicBezTo>
                  <a:pt x="16570" y="9252"/>
                  <a:pt x="16562" y="9252"/>
                  <a:pt x="16570" y="9277"/>
                </a:cubicBezTo>
              </a:path>
              <a:path w="5458" h="5334">
                <a:moveTo>
                  <a:pt x="17983" y="10765"/>
                </a:moveTo>
                <a:cubicBezTo>
                  <a:pt x="17943" y="10728"/>
                  <a:pt x="17854" y="10665"/>
                  <a:pt x="17810" y="10616"/>
                </a:cubicBezTo>
                <a:cubicBezTo>
                  <a:pt x="17742" y="10542"/>
                  <a:pt x="17682" y="10466"/>
                  <a:pt x="17611" y="10393"/>
                </a:cubicBezTo>
                <a:cubicBezTo>
                  <a:pt x="17532" y="10312"/>
                  <a:pt x="17475" y="10236"/>
                  <a:pt x="17413" y="10145"/>
                </a:cubicBezTo>
                <a:cubicBezTo>
                  <a:pt x="17372" y="10084"/>
                  <a:pt x="17363" y="10038"/>
                  <a:pt x="17338" y="9971"/>
                </a:cubicBezTo>
                <a:cubicBezTo>
                  <a:pt x="17310" y="9895"/>
                  <a:pt x="17291" y="9801"/>
                  <a:pt x="17264" y="9723"/>
                </a:cubicBezTo>
                <a:cubicBezTo>
                  <a:pt x="17223" y="9607"/>
                  <a:pt x="17185" y="9486"/>
                  <a:pt x="17140" y="9376"/>
                </a:cubicBezTo>
                <a:cubicBezTo>
                  <a:pt x="17112" y="9307"/>
                  <a:pt x="17067" y="9249"/>
                  <a:pt x="17041" y="9178"/>
                </a:cubicBezTo>
                <a:cubicBezTo>
                  <a:pt x="17016" y="9110"/>
                  <a:pt x="16992" y="9042"/>
                  <a:pt x="16966" y="8979"/>
                </a:cubicBezTo>
                <a:cubicBezTo>
                  <a:pt x="16935" y="8904"/>
                  <a:pt x="16901" y="8817"/>
                  <a:pt x="16867" y="8756"/>
                </a:cubicBezTo>
                <a:cubicBezTo>
                  <a:pt x="16819" y="8670"/>
                  <a:pt x="16782" y="8598"/>
                  <a:pt x="16743" y="8508"/>
                </a:cubicBezTo>
                <a:cubicBezTo>
                  <a:pt x="16703" y="8415"/>
                  <a:pt x="16660" y="8326"/>
                  <a:pt x="16619" y="8235"/>
                </a:cubicBezTo>
                <a:cubicBezTo>
                  <a:pt x="16593" y="8177"/>
                  <a:pt x="16578" y="8101"/>
                  <a:pt x="16545" y="8037"/>
                </a:cubicBezTo>
                <a:cubicBezTo>
                  <a:pt x="16515" y="7980"/>
                  <a:pt x="16494" y="7919"/>
                  <a:pt x="16470" y="7863"/>
                </a:cubicBezTo>
                <a:cubicBezTo>
                  <a:pt x="16447" y="7808"/>
                  <a:pt x="16435" y="7768"/>
                  <a:pt x="16421" y="7714"/>
                </a:cubicBezTo>
                <a:cubicBezTo>
                  <a:pt x="16404" y="7646"/>
                  <a:pt x="16394" y="7583"/>
                  <a:pt x="16371" y="7516"/>
                </a:cubicBezTo>
                <a:cubicBezTo>
                  <a:pt x="16352" y="7460"/>
                  <a:pt x="16331" y="7393"/>
                  <a:pt x="16297" y="7342"/>
                </a:cubicBezTo>
                <a:cubicBezTo>
                  <a:pt x="16285" y="7324"/>
                  <a:pt x="16265" y="7289"/>
                  <a:pt x="16247" y="7268"/>
                </a:cubicBezTo>
                <a:cubicBezTo>
                  <a:pt x="16216" y="7232"/>
                  <a:pt x="16212" y="7223"/>
                  <a:pt x="16197" y="7193"/>
                </a:cubicBezTo>
                <a:cubicBezTo>
                  <a:pt x="16179" y="7158"/>
                  <a:pt x="16190" y="7148"/>
                  <a:pt x="16173" y="7119"/>
                </a:cubicBezTo>
                <a:cubicBezTo>
                  <a:pt x="16165" y="7111"/>
                  <a:pt x="16156" y="7102"/>
                  <a:pt x="1614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91240" y="1571760"/>
            <a:ext cx="117720" cy="18720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20811" y="4564"/>
                </a:moveTo>
                <a:cubicBezTo>
                  <a:pt x="20811" y="4648"/>
                  <a:pt x="20813" y="4682"/>
                  <a:pt x="20836" y="4738"/>
                </a:cubicBezTo>
                <a:cubicBezTo>
                  <a:pt x="20872" y="4845"/>
                  <a:pt x="20825" y="4736"/>
                  <a:pt x="20836" y="4638"/>
                </a:cubicBezTo>
                <a:cubicBezTo>
                  <a:pt x="20844" y="4562"/>
                  <a:pt x="20880" y="4339"/>
                  <a:pt x="20985" y="4390"/>
                </a:cubicBezTo>
                <a:cubicBezTo>
                  <a:pt x="20957" y="4601"/>
                  <a:pt x="20874" y="4558"/>
                  <a:pt x="21034" y="4564"/>
                </a:cubicBezTo>
                <a:cubicBezTo>
                  <a:pt x="21059" y="4572"/>
                  <a:pt x="21084" y="4581"/>
                  <a:pt x="21109" y="4589"/>
                </a:cubicBezTo>
                <a:cubicBezTo>
                  <a:pt x="21120" y="4770"/>
                  <a:pt x="21100" y="4833"/>
                  <a:pt x="20910" y="4887"/>
                </a:cubicBezTo>
                <a:cubicBezTo>
                  <a:pt x="20877" y="4887"/>
                  <a:pt x="20869" y="4878"/>
                  <a:pt x="20886" y="48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74000" y="1268280"/>
            <a:ext cx="258840" cy="214560"/>
          </a:xfrm>
          <a:custGeom>
            <a:avLst/>
            <a:gdLst/>
            <a:ahLst/>
            <a:rect l="l" t="t" r="r" b="b"/>
            <a:pathLst>
              <a:path w="720" h="597">
                <a:moveTo>
                  <a:pt x="22151" y="3721"/>
                </a:moveTo>
                <a:cubicBezTo>
                  <a:pt x="22201" y="3807"/>
                  <a:pt x="22175" y="3940"/>
                  <a:pt x="22175" y="4043"/>
                </a:cubicBezTo>
                <a:cubicBezTo>
                  <a:pt x="22175" y="4124"/>
                  <a:pt x="22293" y="4127"/>
                  <a:pt x="22349" y="4118"/>
                </a:cubicBezTo>
                <a:cubicBezTo>
                  <a:pt x="22389" y="4098"/>
                  <a:pt x="22396" y="4089"/>
                  <a:pt x="22423" y="4093"/>
                </a:cubicBezTo>
              </a:path>
              <a:path w="720" h="597">
                <a:moveTo>
                  <a:pt x="22175" y="3919"/>
                </a:moveTo>
                <a:cubicBezTo>
                  <a:pt x="22256" y="3892"/>
                  <a:pt x="22288" y="3889"/>
                  <a:pt x="22299" y="3820"/>
                </a:cubicBezTo>
              </a:path>
              <a:path w="720" h="597">
                <a:moveTo>
                  <a:pt x="22151" y="3696"/>
                </a:moveTo>
                <a:cubicBezTo>
                  <a:pt x="22248" y="3663"/>
                  <a:pt x="22343" y="3671"/>
                  <a:pt x="22448" y="3671"/>
                </a:cubicBezTo>
              </a:path>
              <a:path w="720" h="597">
                <a:moveTo>
                  <a:pt x="22796" y="3671"/>
                </a:moveTo>
                <a:cubicBezTo>
                  <a:pt x="22660" y="3688"/>
                  <a:pt x="22619" y="3756"/>
                  <a:pt x="22597" y="3894"/>
                </a:cubicBezTo>
                <a:cubicBezTo>
                  <a:pt x="22568" y="4076"/>
                  <a:pt x="22758" y="4082"/>
                  <a:pt x="22870" y="3994"/>
                </a:cubicBezTo>
                <a:cubicBezTo>
                  <a:pt x="22915" y="3959"/>
                  <a:pt x="22711" y="3921"/>
                  <a:pt x="22696" y="3919"/>
                </a:cubicBezTo>
              </a:path>
              <a:path w="720" h="597">
                <a:moveTo>
                  <a:pt x="22175" y="3621"/>
                </a:moveTo>
                <a:cubicBezTo>
                  <a:pt x="22132" y="3621"/>
                  <a:pt x="22442" y="3548"/>
                  <a:pt x="22448" y="3547"/>
                </a:cubicBezTo>
                <a:cubicBezTo>
                  <a:pt x="22475" y="3541"/>
                  <a:pt x="22739" y="3482"/>
                  <a:pt x="22771" y="3522"/>
                </a:cubicBezTo>
                <a:cubicBezTo>
                  <a:pt x="22771" y="3530"/>
                  <a:pt x="22771" y="3539"/>
                  <a:pt x="22771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4160" y="3848040"/>
            <a:ext cx="117720" cy="16200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21307" y="10840"/>
                </a:moveTo>
                <a:cubicBezTo>
                  <a:pt x="21259" y="10855"/>
                  <a:pt x="21248" y="10958"/>
                  <a:pt x="21233" y="11013"/>
                </a:cubicBezTo>
                <a:cubicBezTo>
                  <a:pt x="21214" y="11087"/>
                  <a:pt x="21206" y="11094"/>
                  <a:pt x="21208" y="11137"/>
                </a:cubicBezTo>
                <a:cubicBezTo>
                  <a:pt x="21306" y="11137"/>
                  <a:pt x="21389" y="11137"/>
                  <a:pt x="21481" y="11112"/>
                </a:cubicBezTo>
              </a:path>
              <a:path w="323" h="447">
                <a:moveTo>
                  <a:pt x="21307" y="11013"/>
                </a:moveTo>
                <a:cubicBezTo>
                  <a:pt x="21365" y="10989"/>
                  <a:pt x="21425" y="10957"/>
                  <a:pt x="21481" y="10939"/>
                </a:cubicBezTo>
              </a:path>
              <a:path w="323" h="447">
                <a:moveTo>
                  <a:pt x="21258" y="10815"/>
                </a:moveTo>
                <a:cubicBezTo>
                  <a:pt x="21348" y="10772"/>
                  <a:pt x="21439" y="10733"/>
                  <a:pt x="2153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5040" y="4276800"/>
            <a:ext cx="216000" cy="162000"/>
          </a:xfrm>
          <a:custGeom>
            <a:avLst/>
            <a:gdLst/>
            <a:ahLst/>
            <a:rect l="l" t="t" r="r" b="b"/>
            <a:pathLst>
              <a:path w="597" h="448">
                <a:moveTo>
                  <a:pt x="4316" y="12055"/>
                </a:moveTo>
                <a:cubicBezTo>
                  <a:pt x="4260" y="12092"/>
                  <a:pt x="4271" y="12244"/>
                  <a:pt x="4266" y="12328"/>
                </a:cubicBezTo>
                <a:cubicBezTo>
                  <a:pt x="4266" y="12204"/>
                  <a:pt x="4288" y="12094"/>
                  <a:pt x="4341" y="11981"/>
                </a:cubicBezTo>
                <a:cubicBezTo>
                  <a:pt x="4375" y="11947"/>
                  <a:pt x="4396" y="11939"/>
                  <a:pt x="4440" y="11956"/>
                </a:cubicBezTo>
                <a:cubicBezTo>
                  <a:pt x="4522" y="12060"/>
                  <a:pt x="4564" y="12116"/>
                  <a:pt x="4564" y="12254"/>
                </a:cubicBezTo>
                <a:cubicBezTo>
                  <a:pt x="4564" y="12246"/>
                  <a:pt x="4564" y="12237"/>
                  <a:pt x="4564" y="12229"/>
                </a:cubicBezTo>
                <a:cubicBezTo>
                  <a:pt x="4564" y="12143"/>
                  <a:pt x="4522" y="11922"/>
                  <a:pt x="4638" y="11881"/>
                </a:cubicBezTo>
                <a:cubicBezTo>
                  <a:pt x="4663" y="11881"/>
                  <a:pt x="4688" y="11881"/>
                  <a:pt x="4713" y="11881"/>
                </a:cubicBezTo>
                <a:cubicBezTo>
                  <a:pt x="4881" y="11978"/>
                  <a:pt x="4862" y="12055"/>
                  <a:pt x="486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3760" y="5357880"/>
            <a:ext cx="14436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0815" y="14908"/>
                </a:moveTo>
                <a:cubicBezTo>
                  <a:pt x="10750" y="14810"/>
                  <a:pt x="10626" y="14954"/>
                  <a:pt x="10592" y="15032"/>
                </a:cubicBezTo>
                <a:cubicBezTo>
                  <a:pt x="10584" y="15073"/>
                  <a:pt x="10575" y="15115"/>
                  <a:pt x="10567" y="15156"/>
                </a:cubicBezTo>
                <a:cubicBezTo>
                  <a:pt x="10701" y="15291"/>
                  <a:pt x="10923" y="15302"/>
                  <a:pt x="10964" y="15032"/>
                </a:cubicBezTo>
                <a:cubicBezTo>
                  <a:pt x="10994" y="14838"/>
                  <a:pt x="10808" y="14889"/>
                  <a:pt x="10691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59080" y="635796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9079" y="17810"/>
                </a:moveTo>
                <a:cubicBezTo>
                  <a:pt x="9079" y="17910"/>
                  <a:pt x="9099" y="18006"/>
                  <a:pt x="9103" y="18107"/>
                </a:cubicBezTo>
                <a:cubicBezTo>
                  <a:pt x="9103" y="18149"/>
                  <a:pt x="9103" y="18157"/>
                  <a:pt x="9103" y="18182"/>
                </a:cubicBezTo>
                <a:cubicBezTo>
                  <a:pt x="9072" y="18041"/>
                  <a:pt x="9007" y="17864"/>
                  <a:pt x="9128" y="17735"/>
                </a:cubicBezTo>
                <a:cubicBezTo>
                  <a:pt x="9238" y="17618"/>
                  <a:pt x="9321" y="17654"/>
                  <a:pt x="9426" y="17711"/>
                </a:cubicBezTo>
                <a:cubicBezTo>
                  <a:pt x="9404" y="17854"/>
                  <a:pt x="9373" y="17949"/>
                  <a:pt x="9203" y="17934"/>
                </a:cubicBezTo>
                <a:cubicBezTo>
                  <a:pt x="9170" y="17926"/>
                  <a:pt x="9136" y="17917"/>
                  <a:pt x="910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81120" y="6402240"/>
            <a:ext cx="1778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4638" y="17785"/>
                </a:moveTo>
                <a:cubicBezTo>
                  <a:pt x="4596" y="17814"/>
                  <a:pt x="4498" y="17864"/>
                  <a:pt x="4465" y="17909"/>
                </a:cubicBezTo>
                <a:cubicBezTo>
                  <a:pt x="4396" y="18004"/>
                  <a:pt x="4342" y="18183"/>
                  <a:pt x="4440" y="18281"/>
                </a:cubicBezTo>
                <a:cubicBezTo>
                  <a:pt x="4550" y="18391"/>
                  <a:pt x="4709" y="18282"/>
                  <a:pt x="4738" y="18157"/>
                </a:cubicBezTo>
                <a:cubicBezTo>
                  <a:pt x="4768" y="18029"/>
                  <a:pt x="4717" y="17923"/>
                  <a:pt x="4614" y="17884"/>
                </a:cubicBezTo>
              </a:path>
              <a:path w="498" h="621">
                <a:moveTo>
                  <a:pt x="4663" y="18207"/>
                </a:moveTo>
                <a:cubicBezTo>
                  <a:pt x="4723" y="18287"/>
                  <a:pt x="4802" y="18348"/>
                  <a:pt x="4887" y="184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5800" y="5419800"/>
            <a:ext cx="152280" cy="179280"/>
          </a:xfrm>
          <a:custGeom>
            <a:avLst/>
            <a:gdLst/>
            <a:ahLst/>
            <a:rect l="l" t="t" r="r" b="b"/>
            <a:pathLst>
              <a:path w="423" h="498">
                <a:moveTo>
                  <a:pt x="2679" y="15180"/>
                </a:moveTo>
                <a:cubicBezTo>
                  <a:pt x="2653" y="15258"/>
                  <a:pt x="2701" y="15435"/>
                  <a:pt x="2729" y="15528"/>
                </a:cubicBezTo>
                <a:cubicBezTo>
                  <a:pt x="2751" y="15551"/>
                  <a:pt x="2759" y="15562"/>
                  <a:pt x="2753" y="15528"/>
                </a:cubicBezTo>
                <a:cubicBezTo>
                  <a:pt x="2698" y="15404"/>
                  <a:pt x="2625" y="15220"/>
                  <a:pt x="2679" y="15081"/>
                </a:cubicBezTo>
                <a:cubicBezTo>
                  <a:pt x="2696" y="15073"/>
                  <a:pt x="2712" y="15064"/>
                  <a:pt x="2729" y="15056"/>
                </a:cubicBezTo>
                <a:cubicBezTo>
                  <a:pt x="2861" y="15101"/>
                  <a:pt x="2969" y="15139"/>
                  <a:pt x="2877" y="15304"/>
                </a:cubicBezTo>
                <a:cubicBezTo>
                  <a:pt x="2833" y="15349"/>
                  <a:pt x="2823" y="15366"/>
                  <a:pt x="2778" y="15354"/>
                </a:cubicBezTo>
                <a:cubicBezTo>
                  <a:pt x="2796" y="15446"/>
                  <a:pt x="2885" y="15503"/>
                  <a:pt x="2977" y="15528"/>
                </a:cubicBezTo>
                <a:cubicBezTo>
                  <a:pt x="3095" y="15559"/>
                  <a:pt x="3011" y="15531"/>
                  <a:pt x="307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5240" y="1946160"/>
            <a:ext cx="1581480" cy="384120"/>
          </a:xfrm>
          <a:custGeom>
            <a:avLst/>
            <a:gdLst/>
            <a:ahLst/>
            <a:rect l="l" t="t" r="r" b="b"/>
            <a:pathLst>
              <a:path w="4391" h="1068">
                <a:moveTo>
                  <a:pt x="17711" y="5432"/>
                </a:moveTo>
                <a:cubicBezTo>
                  <a:pt x="17719" y="5431"/>
                  <a:pt x="17760" y="5401"/>
                  <a:pt x="17810" y="5407"/>
                </a:cubicBezTo>
                <a:cubicBezTo>
                  <a:pt x="17866" y="5414"/>
                  <a:pt x="17930" y="5443"/>
                  <a:pt x="17983" y="5457"/>
                </a:cubicBezTo>
                <a:cubicBezTo>
                  <a:pt x="18073" y="5482"/>
                  <a:pt x="18163" y="5510"/>
                  <a:pt x="18256" y="5531"/>
                </a:cubicBezTo>
                <a:cubicBezTo>
                  <a:pt x="18356" y="5553"/>
                  <a:pt x="18453" y="5578"/>
                  <a:pt x="18554" y="5606"/>
                </a:cubicBezTo>
                <a:cubicBezTo>
                  <a:pt x="18623" y="5625"/>
                  <a:pt x="18682" y="5654"/>
                  <a:pt x="18752" y="5680"/>
                </a:cubicBezTo>
                <a:cubicBezTo>
                  <a:pt x="18833" y="5710"/>
                  <a:pt x="18923" y="5728"/>
                  <a:pt x="19000" y="5755"/>
                </a:cubicBezTo>
                <a:cubicBezTo>
                  <a:pt x="19100" y="5790"/>
                  <a:pt x="19200" y="5803"/>
                  <a:pt x="19298" y="5829"/>
                </a:cubicBezTo>
                <a:cubicBezTo>
                  <a:pt x="19409" y="5859"/>
                  <a:pt x="19510" y="5881"/>
                  <a:pt x="19621" y="5904"/>
                </a:cubicBezTo>
                <a:cubicBezTo>
                  <a:pt x="19694" y="5919"/>
                  <a:pt x="19770" y="5938"/>
                  <a:pt x="19844" y="5953"/>
                </a:cubicBezTo>
                <a:cubicBezTo>
                  <a:pt x="19928" y="5970"/>
                  <a:pt x="20011" y="5985"/>
                  <a:pt x="20092" y="6003"/>
                </a:cubicBezTo>
                <a:cubicBezTo>
                  <a:pt x="20150" y="6016"/>
                  <a:pt x="20252" y="6032"/>
                  <a:pt x="20315" y="6052"/>
                </a:cubicBezTo>
                <a:cubicBezTo>
                  <a:pt x="20424" y="6087"/>
                  <a:pt x="20528" y="6141"/>
                  <a:pt x="20638" y="6176"/>
                </a:cubicBezTo>
                <a:cubicBezTo>
                  <a:pt x="20718" y="6201"/>
                  <a:pt x="20804" y="6228"/>
                  <a:pt x="20886" y="6251"/>
                </a:cubicBezTo>
                <a:cubicBezTo>
                  <a:pt x="20961" y="6272"/>
                  <a:pt x="21030" y="6277"/>
                  <a:pt x="21109" y="6300"/>
                </a:cubicBezTo>
                <a:cubicBezTo>
                  <a:pt x="21205" y="6327"/>
                  <a:pt x="21288" y="6331"/>
                  <a:pt x="21382" y="6350"/>
                </a:cubicBezTo>
                <a:cubicBezTo>
                  <a:pt x="21430" y="6359"/>
                  <a:pt x="21500" y="6388"/>
                  <a:pt x="21555" y="6400"/>
                </a:cubicBezTo>
                <a:cubicBezTo>
                  <a:pt x="21629" y="6416"/>
                  <a:pt x="21705" y="6412"/>
                  <a:pt x="21779" y="6424"/>
                </a:cubicBezTo>
                <a:cubicBezTo>
                  <a:pt x="21830" y="6432"/>
                  <a:pt x="21877" y="6439"/>
                  <a:pt x="21927" y="6449"/>
                </a:cubicBezTo>
                <a:cubicBezTo>
                  <a:pt x="21978" y="6459"/>
                  <a:pt x="22024" y="6466"/>
                  <a:pt x="22076" y="6474"/>
                </a:cubicBezTo>
                <a:cubicBezTo>
                  <a:pt x="22084" y="6474"/>
                  <a:pt x="22093" y="6474"/>
                  <a:pt x="2210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11960" y="1973160"/>
            <a:ext cx="1089000" cy="1758960"/>
          </a:xfrm>
          <a:custGeom>
            <a:avLst/>
            <a:gdLst/>
            <a:ahLst/>
            <a:rect l="l" t="t" r="r" b="b"/>
            <a:pathLst>
              <a:path w="3027" h="4887">
                <a:moveTo>
                  <a:pt x="17909" y="5854"/>
                </a:moveTo>
                <a:cubicBezTo>
                  <a:pt x="17881" y="5787"/>
                  <a:pt x="17882" y="5739"/>
                  <a:pt x="17859" y="5680"/>
                </a:cubicBezTo>
                <a:cubicBezTo>
                  <a:pt x="17854" y="5668"/>
                  <a:pt x="17817" y="5644"/>
                  <a:pt x="17810" y="5606"/>
                </a:cubicBezTo>
                <a:cubicBezTo>
                  <a:pt x="17803" y="5566"/>
                  <a:pt x="17814" y="5523"/>
                  <a:pt x="17810" y="5482"/>
                </a:cubicBezTo>
                <a:cubicBezTo>
                  <a:pt x="17867" y="5551"/>
                  <a:pt x="17967" y="5672"/>
                  <a:pt x="18033" y="5755"/>
                </a:cubicBezTo>
                <a:cubicBezTo>
                  <a:pt x="18135" y="5884"/>
                  <a:pt x="18210" y="6023"/>
                  <a:pt x="18306" y="6152"/>
                </a:cubicBezTo>
                <a:cubicBezTo>
                  <a:pt x="18356" y="6220"/>
                  <a:pt x="18412" y="6279"/>
                  <a:pt x="18455" y="6350"/>
                </a:cubicBezTo>
                <a:cubicBezTo>
                  <a:pt x="18512" y="6446"/>
                  <a:pt x="18564" y="6530"/>
                  <a:pt x="18628" y="6623"/>
                </a:cubicBezTo>
                <a:cubicBezTo>
                  <a:pt x="18719" y="6755"/>
                  <a:pt x="18799" y="6884"/>
                  <a:pt x="18876" y="7020"/>
                </a:cubicBezTo>
                <a:cubicBezTo>
                  <a:pt x="18917" y="7093"/>
                  <a:pt x="18957" y="7168"/>
                  <a:pt x="19000" y="7243"/>
                </a:cubicBezTo>
                <a:cubicBezTo>
                  <a:pt x="19065" y="7357"/>
                  <a:pt x="19145" y="7478"/>
                  <a:pt x="19199" y="7590"/>
                </a:cubicBezTo>
                <a:cubicBezTo>
                  <a:pt x="19243" y="7681"/>
                  <a:pt x="19275" y="7774"/>
                  <a:pt x="19323" y="7863"/>
                </a:cubicBezTo>
                <a:cubicBezTo>
                  <a:pt x="19371" y="7952"/>
                  <a:pt x="19440" y="8038"/>
                  <a:pt x="19496" y="8111"/>
                </a:cubicBezTo>
                <a:cubicBezTo>
                  <a:pt x="19558" y="8192"/>
                  <a:pt x="19613" y="8281"/>
                  <a:pt x="19670" y="8359"/>
                </a:cubicBezTo>
                <a:cubicBezTo>
                  <a:pt x="19736" y="8449"/>
                  <a:pt x="19802" y="8523"/>
                  <a:pt x="19869" y="8607"/>
                </a:cubicBezTo>
                <a:cubicBezTo>
                  <a:pt x="19923" y="8674"/>
                  <a:pt x="19985" y="8755"/>
                  <a:pt x="20042" y="8830"/>
                </a:cubicBezTo>
                <a:cubicBezTo>
                  <a:pt x="20097" y="8903"/>
                  <a:pt x="20144" y="8977"/>
                  <a:pt x="20191" y="9054"/>
                </a:cubicBezTo>
                <a:cubicBezTo>
                  <a:pt x="20234" y="9124"/>
                  <a:pt x="20318" y="9217"/>
                  <a:pt x="20365" y="9302"/>
                </a:cubicBezTo>
                <a:cubicBezTo>
                  <a:pt x="20444" y="9444"/>
                  <a:pt x="20518" y="9602"/>
                  <a:pt x="20588" y="9748"/>
                </a:cubicBezTo>
                <a:cubicBezTo>
                  <a:pt x="20628" y="9831"/>
                  <a:pt x="20670" y="9916"/>
                  <a:pt x="20712" y="9996"/>
                </a:cubicBezTo>
                <a:cubicBezTo>
                  <a:pt x="20730" y="10031"/>
                  <a:pt x="20746" y="10083"/>
                  <a:pt x="20762" y="10120"/>
                </a:cubicBezTo>
                <a:cubicBezTo>
                  <a:pt x="20785" y="10173"/>
                  <a:pt x="20796" y="10220"/>
                  <a:pt x="20811" y="10269"/>
                </a:cubicBezTo>
                <a:cubicBezTo>
                  <a:pt x="20822" y="10305"/>
                  <a:pt x="20827" y="10334"/>
                  <a:pt x="20836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19880" y="2009880"/>
            <a:ext cx="98280" cy="1749240"/>
          </a:xfrm>
          <a:custGeom>
            <a:avLst/>
            <a:gdLst/>
            <a:ahLst/>
            <a:rect l="l" t="t" r="r" b="b"/>
            <a:pathLst>
              <a:path w="273" h="4863">
                <a:moveTo>
                  <a:pt x="18008" y="6028"/>
                </a:moveTo>
                <a:cubicBezTo>
                  <a:pt x="17984" y="6006"/>
                  <a:pt x="17933" y="5992"/>
                  <a:pt x="17909" y="5953"/>
                </a:cubicBezTo>
                <a:cubicBezTo>
                  <a:pt x="17904" y="5945"/>
                  <a:pt x="17862" y="5843"/>
                  <a:pt x="17859" y="5829"/>
                </a:cubicBezTo>
                <a:cubicBezTo>
                  <a:pt x="17846" y="5770"/>
                  <a:pt x="17842" y="5712"/>
                  <a:pt x="17835" y="5655"/>
                </a:cubicBezTo>
                <a:cubicBezTo>
                  <a:pt x="17835" y="5639"/>
                  <a:pt x="17835" y="5622"/>
                  <a:pt x="17835" y="5606"/>
                </a:cubicBezTo>
                <a:cubicBezTo>
                  <a:pt x="17843" y="5673"/>
                  <a:pt x="17854" y="5688"/>
                  <a:pt x="17859" y="5755"/>
                </a:cubicBezTo>
                <a:cubicBezTo>
                  <a:pt x="17871" y="5931"/>
                  <a:pt x="17917" y="6100"/>
                  <a:pt x="17934" y="6276"/>
                </a:cubicBezTo>
                <a:cubicBezTo>
                  <a:pt x="17946" y="6399"/>
                  <a:pt x="17974" y="6526"/>
                  <a:pt x="17983" y="6648"/>
                </a:cubicBezTo>
                <a:cubicBezTo>
                  <a:pt x="17989" y="6732"/>
                  <a:pt x="18001" y="6815"/>
                  <a:pt x="18008" y="6896"/>
                </a:cubicBezTo>
                <a:cubicBezTo>
                  <a:pt x="18025" y="7085"/>
                  <a:pt x="18016" y="7280"/>
                  <a:pt x="18033" y="7466"/>
                </a:cubicBezTo>
                <a:cubicBezTo>
                  <a:pt x="18042" y="7570"/>
                  <a:pt x="18052" y="7688"/>
                  <a:pt x="18058" y="7789"/>
                </a:cubicBezTo>
                <a:cubicBezTo>
                  <a:pt x="18065" y="7899"/>
                  <a:pt x="18075" y="8003"/>
                  <a:pt x="18083" y="8111"/>
                </a:cubicBezTo>
                <a:cubicBezTo>
                  <a:pt x="18119" y="8604"/>
                  <a:pt x="18076" y="9108"/>
                  <a:pt x="18107" y="9599"/>
                </a:cubicBezTo>
                <a:cubicBezTo>
                  <a:pt x="18120" y="9807"/>
                  <a:pt x="18098" y="10020"/>
                  <a:pt x="18083" y="10220"/>
                </a:cubicBezTo>
                <a:cubicBezTo>
                  <a:pt x="18078" y="10295"/>
                  <a:pt x="18090" y="10354"/>
                  <a:pt x="18058" y="10418"/>
                </a:cubicBezTo>
                <a:cubicBezTo>
                  <a:pt x="18047" y="10440"/>
                  <a:pt x="18049" y="10399"/>
                  <a:pt x="18033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1240" y="2000160"/>
            <a:ext cx="54000" cy="1741680"/>
          </a:xfrm>
          <a:custGeom>
            <a:avLst/>
            <a:gdLst/>
            <a:ahLst/>
            <a:rect l="l" t="t" r="r" b="b"/>
            <a:pathLst>
              <a:path w="150" h="4838">
                <a:moveTo>
                  <a:pt x="20861" y="5581"/>
                </a:moveTo>
                <a:cubicBezTo>
                  <a:pt x="20840" y="5613"/>
                  <a:pt x="20814" y="5626"/>
                  <a:pt x="20811" y="5755"/>
                </a:cubicBezTo>
                <a:cubicBezTo>
                  <a:pt x="20807" y="5948"/>
                  <a:pt x="20820" y="6141"/>
                  <a:pt x="20836" y="6325"/>
                </a:cubicBezTo>
                <a:cubicBezTo>
                  <a:pt x="20846" y="6440"/>
                  <a:pt x="20853" y="6559"/>
                  <a:pt x="20861" y="6672"/>
                </a:cubicBezTo>
                <a:cubicBezTo>
                  <a:pt x="20870" y="6793"/>
                  <a:pt x="20865" y="6926"/>
                  <a:pt x="20886" y="7045"/>
                </a:cubicBezTo>
                <a:cubicBezTo>
                  <a:pt x="20909" y="7175"/>
                  <a:pt x="20926" y="7309"/>
                  <a:pt x="20935" y="7441"/>
                </a:cubicBezTo>
                <a:cubicBezTo>
                  <a:pt x="20944" y="7575"/>
                  <a:pt x="20949" y="7706"/>
                  <a:pt x="20960" y="7838"/>
                </a:cubicBezTo>
                <a:cubicBezTo>
                  <a:pt x="20980" y="8077"/>
                  <a:pt x="20955" y="8323"/>
                  <a:pt x="20935" y="8558"/>
                </a:cubicBezTo>
                <a:cubicBezTo>
                  <a:pt x="20925" y="8675"/>
                  <a:pt x="20896" y="8791"/>
                  <a:pt x="20886" y="8905"/>
                </a:cubicBezTo>
                <a:cubicBezTo>
                  <a:pt x="20877" y="9013"/>
                  <a:pt x="20869" y="9119"/>
                  <a:pt x="20861" y="9227"/>
                </a:cubicBezTo>
                <a:cubicBezTo>
                  <a:pt x="20852" y="9348"/>
                  <a:pt x="20853" y="9479"/>
                  <a:pt x="20836" y="9599"/>
                </a:cubicBezTo>
                <a:cubicBezTo>
                  <a:pt x="20820" y="9711"/>
                  <a:pt x="20811" y="9808"/>
                  <a:pt x="20811" y="9922"/>
                </a:cubicBezTo>
                <a:cubicBezTo>
                  <a:pt x="20811" y="10077"/>
                  <a:pt x="20814" y="10277"/>
                  <a:pt x="2083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9800" y="2027160"/>
            <a:ext cx="903240" cy="1704960"/>
          </a:xfrm>
          <a:custGeom>
            <a:avLst/>
            <a:gdLst/>
            <a:ahLst/>
            <a:rect l="l" t="t" r="r" b="b"/>
            <a:pathLst>
              <a:path w="2506" h="4738">
                <a:moveTo>
                  <a:pt x="20811" y="5705"/>
                </a:moveTo>
                <a:cubicBezTo>
                  <a:pt x="20811" y="5664"/>
                  <a:pt x="20811" y="5656"/>
                  <a:pt x="20811" y="5631"/>
                </a:cubicBezTo>
                <a:cubicBezTo>
                  <a:pt x="20759" y="5706"/>
                  <a:pt x="20693" y="5831"/>
                  <a:pt x="20638" y="5928"/>
                </a:cubicBezTo>
                <a:cubicBezTo>
                  <a:pt x="20550" y="6084"/>
                  <a:pt x="20485" y="6248"/>
                  <a:pt x="20389" y="6400"/>
                </a:cubicBezTo>
                <a:cubicBezTo>
                  <a:pt x="20324" y="6502"/>
                  <a:pt x="20255" y="6596"/>
                  <a:pt x="20191" y="6697"/>
                </a:cubicBezTo>
                <a:cubicBezTo>
                  <a:pt x="20146" y="6767"/>
                  <a:pt x="20087" y="6827"/>
                  <a:pt x="20042" y="6896"/>
                </a:cubicBezTo>
                <a:cubicBezTo>
                  <a:pt x="19973" y="7001"/>
                  <a:pt x="19897" y="7095"/>
                  <a:pt x="19819" y="7193"/>
                </a:cubicBezTo>
                <a:cubicBezTo>
                  <a:pt x="19681" y="7366"/>
                  <a:pt x="19582" y="7571"/>
                  <a:pt x="19472" y="7764"/>
                </a:cubicBezTo>
                <a:cubicBezTo>
                  <a:pt x="19407" y="7878"/>
                  <a:pt x="19323" y="7989"/>
                  <a:pt x="19273" y="8111"/>
                </a:cubicBezTo>
                <a:cubicBezTo>
                  <a:pt x="19226" y="8227"/>
                  <a:pt x="19202" y="8344"/>
                  <a:pt x="19149" y="8458"/>
                </a:cubicBezTo>
                <a:cubicBezTo>
                  <a:pt x="19095" y="8573"/>
                  <a:pt x="19070" y="8687"/>
                  <a:pt x="19025" y="8806"/>
                </a:cubicBezTo>
                <a:cubicBezTo>
                  <a:pt x="18956" y="8987"/>
                  <a:pt x="18898" y="9170"/>
                  <a:pt x="18827" y="9351"/>
                </a:cubicBezTo>
                <a:cubicBezTo>
                  <a:pt x="18779" y="9475"/>
                  <a:pt x="18723" y="9602"/>
                  <a:pt x="18678" y="9723"/>
                </a:cubicBezTo>
                <a:cubicBezTo>
                  <a:pt x="18632" y="9845"/>
                  <a:pt x="18607" y="9988"/>
                  <a:pt x="18529" y="10096"/>
                </a:cubicBezTo>
                <a:cubicBezTo>
                  <a:pt x="18507" y="10127"/>
                  <a:pt x="18454" y="10190"/>
                  <a:pt x="18430" y="10220"/>
                </a:cubicBezTo>
                <a:cubicBezTo>
                  <a:pt x="18414" y="10239"/>
                  <a:pt x="18369" y="10275"/>
                  <a:pt x="18355" y="10294"/>
                </a:cubicBezTo>
                <a:cubicBezTo>
                  <a:pt x="18346" y="10307"/>
                  <a:pt x="18320" y="10344"/>
                  <a:pt x="18306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84920" y="1963800"/>
            <a:ext cx="1660320" cy="554040"/>
          </a:xfrm>
          <a:custGeom>
            <a:avLst/>
            <a:gdLst/>
            <a:ahLst/>
            <a:rect l="l" t="t" r="r" b="b"/>
            <a:pathLst>
              <a:path w="4615" h="1539">
                <a:moveTo>
                  <a:pt x="20935" y="5482"/>
                </a:moveTo>
                <a:cubicBezTo>
                  <a:pt x="20943" y="5474"/>
                  <a:pt x="20952" y="5465"/>
                  <a:pt x="20960" y="5457"/>
                </a:cubicBezTo>
                <a:cubicBezTo>
                  <a:pt x="20892" y="5475"/>
                  <a:pt x="20828" y="5465"/>
                  <a:pt x="20762" y="5507"/>
                </a:cubicBezTo>
                <a:cubicBezTo>
                  <a:pt x="20703" y="5544"/>
                  <a:pt x="20648" y="5592"/>
                  <a:pt x="20588" y="5631"/>
                </a:cubicBezTo>
                <a:cubicBezTo>
                  <a:pt x="20492" y="5693"/>
                  <a:pt x="20392" y="5726"/>
                  <a:pt x="20290" y="5779"/>
                </a:cubicBezTo>
                <a:cubicBezTo>
                  <a:pt x="20190" y="5831"/>
                  <a:pt x="20095" y="5880"/>
                  <a:pt x="19993" y="5928"/>
                </a:cubicBezTo>
                <a:cubicBezTo>
                  <a:pt x="19877" y="5983"/>
                  <a:pt x="19772" y="6021"/>
                  <a:pt x="19645" y="6052"/>
                </a:cubicBezTo>
                <a:cubicBezTo>
                  <a:pt x="19502" y="6087"/>
                  <a:pt x="19367" y="6140"/>
                  <a:pt x="19224" y="6176"/>
                </a:cubicBezTo>
                <a:cubicBezTo>
                  <a:pt x="19084" y="6211"/>
                  <a:pt x="18935" y="6249"/>
                  <a:pt x="18802" y="6300"/>
                </a:cubicBezTo>
                <a:cubicBezTo>
                  <a:pt x="18631" y="6366"/>
                  <a:pt x="18460" y="6404"/>
                  <a:pt x="18281" y="6449"/>
                </a:cubicBezTo>
                <a:cubicBezTo>
                  <a:pt x="18158" y="6480"/>
                  <a:pt x="18030" y="6521"/>
                  <a:pt x="17909" y="6548"/>
                </a:cubicBezTo>
                <a:cubicBezTo>
                  <a:pt x="17792" y="6574"/>
                  <a:pt x="17680" y="6580"/>
                  <a:pt x="17562" y="6598"/>
                </a:cubicBezTo>
                <a:cubicBezTo>
                  <a:pt x="17409" y="6622"/>
                  <a:pt x="17266" y="6690"/>
                  <a:pt x="17115" y="6722"/>
                </a:cubicBezTo>
                <a:cubicBezTo>
                  <a:pt x="17018" y="6742"/>
                  <a:pt x="16937" y="6764"/>
                  <a:pt x="16842" y="6796"/>
                </a:cubicBezTo>
                <a:cubicBezTo>
                  <a:pt x="16751" y="6827"/>
                  <a:pt x="16658" y="6858"/>
                  <a:pt x="16570" y="6896"/>
                </a:cubicBezTo>
                <a:cubicBezTo>
                  <a:pt x="16512" y="6921"/>
                  <a:pt x="16396" y="6944"/>
                  <a:pt x="16346" y="6970"/>
                </a:cubicBezTo>
                <a:cubicBezTo>
                  <a:pt x="16346" y="6978"/>
                  <a:pt x="16346" y="6987"/>
                  <a:pt x="16346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3880" y="2419200"/>
            <a:ext cx="1598400" cy="1447920"/>
          </a:xfrm>
          <a:custGeom>
            <a:avLst/>
            <a:gdLst/>
            <a:ahLst/>
            <a:rect l="l" t="t" r="r" b="b"/>
            <a:pathLst>
              <a:path w="4441" h="4019">
                <a:moveTo>
                  <a:pt x="22423" y="6747"/>
                </a:moveTo>
                <a:cubicBezTo>
                  <a:pt x="22411" y="6749"/>
                  <a:pt x="22374" y="6710"/>
                  <a:pt x="22299" y="6747"/>
                </a:cubicBezTo>
                <a:cubicBezTo>
                  <a:pt x="22186" y="6802"/>
                  <a:pt x="22125" y="6902"/>
                  <a:pt x="22027" y="6970"/>
                </a:cubicBezTo>
                <a:cubicBezTo>
                  <a:pt x="21774" y="7146"/>
                  <a:pt x="21474" y="7274"/>
                  <a:pt x="21233" y="7466"/>
                </a:cubicBezTo>
                <a:cubicBezTo>
                  <a:pt x="21153" y="7530"/>
                  <a:pt x="21062" y="7597"/>
                  <a:pt x="20985" y="7665"/>
                </a:cubicBezTo>
                <a:cubicBezTo>
                  <a:pt x="20884" y="7754"/>
                  <a:pt x="20785" y="7846"/>
                  <a:pt x="20687" y="7938"/>
                </a:cubicBezTo>
                <a:cubicBezTo>
                  <a:pt x="20599" y="8021"/>
                  <a:pt x="20524" y="8120"/>
                  <a:pt x="20439" y="8210"/>
                </a:cubicBezTo>
                <a:cubicBezTo>
                  <a:pt x="20269" y="8390"/>
                  <a:pt x="20115" y="8556"/>
                  <a:pt x="19968" y="8756"/>
                </a:cubicBezTo>
                <a:cubicBezTo>
                  <a:pt x="19882" y="8872"/>
                  <a:pt x="19785" y="8968"/>
                  <a:pt x="19695" y="9079"/>
                </a:cubicBezTo>
                <a:cubicBezTo>
                  <a:pt x="19581" y="9219"/>
                  <a:pt x="19465" y="9339"/>
                  <a:pt x="19348" y="9475"/>
                </a:cubicBezTo>
                <a:cubicBezTo>
                  <a:pt x="19250" y="9590"/>
                  <a:pt x="19174" y="9711"/>
                  <a:pt x="19075" y="9823"/>
                </a:cubicBezTo>
                <a:cubicBezTo>
                  <a:pt x="18979" y="9932"/>
                  <a:pt x="18877" y="10039"/>
                  <a:pt x="18777" y="10145"/>
                </a:cubicBezTo>
                <a:cubicBezTo>
                  <a:pt x="18680" y="10248"/>
                  <a:pt x="18601" y="10303"/>
                  <a:pt x="18479" y="10368"/>
                </a:cubicBezTo>
                <a:cubicBezTo>
                  <a:pt x="18408" y="10406"/>
                  <a:pt x="18324" y="10440"/>
                  <a:pt x="18256" y="10492"/>
                </a:cubicBezTo>
                <a:cubicBezTo>
                  <a:pt x="18212" y="10526"/>
                  <a:pt x="18157" y="10595"/>
                  <a:pt x="18132" y="10616"/>
                </a:cubicBezTo>
                <a:cubicBezTo>
                  <a:pt x="18102" y="10641"/>
                  <a:pt x="18033" y="10664"/>
                  <a:pt x="18008" y="10691"/>
                </a:cubicBezTo>
                <a:cubicBezTo>
                  <a:pt x="17995" y="10705"/>
                  <a:pt x="17996" y="10726"/>
                  <a:pt x="1798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30920" y="2446200"/>
            <a:ext cx="2233440" cy="884520"/>
          </a:xfrm>
          <a:custGeom>
            <a:avLst/>
            <a:gdLst/>
            <a:ahLst/>
            <a:rect l="l" t="t" r="r" b="b"/>
            <a:pathLst>
              <a:path w="6203" h="2457">
                <a:moveTo>
                  <a:pt x="22399" y="6796"/>
                </a:moveTo>
                <a:cubicBezTo>
                  <a:pt x="22268" y="6820"/>
                  <a:pt x="22134" y="6843"/>
                  <a:pt x="22002" y="6871"/>
                </a:cubicBezTo>
                <a:cubicBezTo>
                  <a:pt x="21843" y="6905"/>
                  <a:pt x="21683" y="6948"/>
                  <a:pt x="21530" y="6995"/>
                </a:cubicBezTo>
                <a:cubicBezTo>
                  <a:pt x="21373" y="7043"/>
                  <a:pt x="21214" y="7090"/>
                  <a:pt x="21059" y="7144"/>
                </a:cubicBezTo>
                <a:cubicBezTo>
                  <a:pt x="20932" y="7189"/>
                  <a:pt x="20811" y="7244"/>
                  <a:pt x="20687" y="7293"/>
                </a:cubicBezTo>
                <a:cubicBezTo>
                  <a:pt x="20549" y="7347"/>
                  <a:pt x="20401" y="7378"/>
                  <a:pt x="20265" y="7441"/>
                </a:cubicBezTo>
                <a:cubicBezTo>
                  <a:pt x="20080" y="7527"/>
                  <a:pt x="19903" y="7632"/>
                  <a:pt x="19720" y="7714"/>
                </a:cubicBezTo>
                <a:cubicBezTo>
                  <a:pt x="19518" y="7804"/>
                  <a:pt x="19302" y="7872"/>
                  <a:pt x="19100" y="7962"/>
                </a:cubicBezTo>
                <a:cubicBezTo>
                  <a:pt x="18934" y="8036"/>
                  <a:pt x="18768" y="8113"/>
                  <a:pt x="18604" y="8186"/>
                </a:cubicBezTo>
                <a:cubicBezTo>
                  <a:pt x="18471" y="8245"/>
                  <a:pt x="18339" y="8299"/>
                  <a:pt x="18207" y="8359"/>
                </a:cubicBezTo>
                <a:cubicBezTo>
                  <a:pt x="18009" y="8449"/>
                  <a:pt x="17807" y="8497"/>
                  <a:pt x="17611" y="8582"/>
                </a:cubicBezTo>
                <a:cubicBezTo>
                  <a:pt x="17440" y="8656"/>
                  <a:pt x="17288" y="8740"/>
                  <a:pt x="17115" y="8806"/>
                </a:cubicBezTo>
                <a:cubicBezTo>
                  <a:pt x="16986" y="8856"/>
                  <a:pt x="16842" y="8898"/>
                  <a:pt x="16718" y="8954"/>
                </a:cubicBezTo>
                <a:cubicBezTo>
                  <a:pt x="16621" y="8997"/>
                  <a:pt x="16515" y="9053"/>
                  <a:pt x="16421" y="9103"/>
                </a:cubicBezTo>
                <a:cubicBezTo>
                  <a:pt x="16383" y="9123"/>
                  <a:pt x="16329" y="9157"/>
                  <a:pt x="16297" y="9178"/>
                </a:cubicBezTo>
                <a:cubicBezTo>
                  <a:pt x="16267" y="9197"/>
                  <a:pt x="16218" y="9212"/>
                  <a:pt x="16197" y="9227"/>
                </a:cubicBezTo>
                <a:cubicBezTo>
                  <a:pt x="16197" y="9235"/>
                  <a:pt x="16197" y="9244"/>
                  <a:pt x="16197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3280" y="2401920"/>
            <a:ext cx="2259000" cy="162000"/>
          </a:xfrm>
          <a:custGeom>
            <a:avLst/>
            <a:gdLst/>
            <a:ahLst/>
            <a:rect l="l" t="t" r="r" b="b"/>
            <a:pathLst>
              <a:path w="6276" h="448">
                <a:moveTo>
                  <a:pt x="22399" y="6722"/>
                </a:moveTo>
                <a:cubicBezTo>
                  <a:pt x="22423" y="6722"/>
                  <a:pt x="22431" y="6722"/>
                  <a:pt x="22423" y="6697"/>
                </a:cubicBezTo>
                <a:cubicBezTo>
                  <a:pt x="22420" y="6697"/>
                  <a:pt x="22252" y="6684"/>
                  <a:pt x="22200" y="6697"/>
                </a:cubicBezTo>
                <a:cubicBezTo>
                  <a:pt x="22071" y="6728"/>
                  <a:pt x="21961" y="6774"/>
                  <a:pt x="21828" y="6796"/>
                </a:cubicBezTo>
                <a:cubicBezTo>
                  <a:pt x="21713" y="6815"/>
                  <a:pt x="21597" y="6808"/>
                  <a:pt x="21481" y="6821"/>
                </a:cubicBezTo>
                <a:cubicBezTo>
                  <a:pt x="21380" y="6832"/>
                  <a:pt x="21288" y="6844"/>
                  <a:pt x="21183" y="6846"/>
                </a:cubicBezTo>
                <a:cubicBezTo>
                  <a:pt x="21007" y="6849"/>
                  <a:pt x="20835" y="6846"/>
                  <a:pt x="20662" y="6871"/>
                </a:cubicBezTo>
                <a:cubicBezTo>
                  <a:pt x="20454" y="6901"/>
                  <a:pt x="20249" y="6902"/>
                  <a:pt x="20042" y="6945"/>
                </a:cubicBezTo>
                <a:cubicBezTo>
                  <a:pt x="19873" y="6980"/>
                  <a:pt x="19694" y="6991"/>
                  <a:pt x="19521" y="6995"/>
                </a:cubicBezTo>
                <a:cubicBezTo>
                  <a:pt x="19367" y="6998"/>
                  <a:pt x="19204" y="7004"/>
                  <a:pt x="19050" y="7020"/>
                </a:cubicBezTo>
                <a:cubicBezTo>
                  <a:pt x="18890" y="7037"/>
                  <a:pt x="18741" y="7045"/>
                  <a:pt x="18579" y="7045"/>
                </a:cubicBezTo>
                <a:cubicBezTo>
                  <a:pt x="18426" y="7045"/>
                  <a:pt x="18260" y="7053"/>
                  <a:pt x="18107" y="7069"/>
                </a:cubicBezTo>
                <a:cubicBezTo>
                  <a:pt x="17948" y="7086"/>
                  <a:pt x="17798" y="7094"/>
                  <a:pt x="17636" y="7094"/>
                </a:cubicBezTo>
                <a:cubicBezTo>
                  <a:pt x="17520" y="7094"/>
                  <a:pt x="17400" y="7124"/>
                  <a:pt x="17289" y="7119"/>
                </a:cubicBezTo>
                <a:cubicBezTo>
                  <a:pt x="17209" y="7115"/>
                  <a:pt x="17126" y="7096"/>
                  <a:pt x="17041" y="7094"/>
                </a:cubicBezTo>
                <a:cubicBezTo>
                  <a:pt x="16759" y="7088"/>
                  <a:pt x="16473" y="7091"/>
                  <a:pt x="16197" y="7119"/>
                </a:cubicBezTo>
                <a:cubicBezTo>
                  <a:pt x="16173" y="7119"/>
                  <a:pt x="16164" y="7119"/>
                  <a:pt x="16148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7880" y="3259080"/>
            <a:ext cx="1544400" cy="662040"/>
          </a:xfrm>
          <a:custGeom>
            <a:avLst/>
            <a:gdLst/>
            <a:ahLst/>
            <a:rect l="l" t="t" r="r" b="b"/>
            <a:pathLst>
              <a:path w="4292" h="1836">
                <a:moveTo>
                  <a:pt x="22374" y="9054"/>
                </a:moveTo>
                <a:cubicBezTo>
                  <a:pt x="22388" y="9124"/>
                  <a:pt x="22353" y="9025"/>
                  <a:pt x="22374" y="9079"/>
                </a:cubicBezTo>
                <a:cubicBezTo>
                  <a:pt x="22374" y="9107"/>
                  <a:pt x="22377" y="9117"/>
                  <a:pt x="22399" y="9128"/>
                </a:cubicBezTo>
                <a:cubicBezTo>
                  <a:pt x="22394" y="9116"/>
                  <a:pt x="22469" y="9050"/>
                  <a:pt x="22399" y="9054"/>
                </a:cubicBezTo>
                <a:cubicBezTo>
                  <a:pt x="22371" y="9056"/>
                  <a:pt x="22302" y="9090"/>
                  <a:pt x="22275" y="9103"/>
                </a:cubicBezTo>
                <a:cubicBezTo>
                  <a:pt x="22242" y="9119"/>
                  <a:pt x="22205" y="9138"/>
                  <a:pt x="22175" y="9153"/>
                </a:cubicBezTo>
                <a:cubicBezTo>
                  <a:pt x="22127" y="9177"/>
                  <a:pt x="22073" y="9234"/>
                  <a:pt x="22027" y="9252"/>
                </a:cubicBezTo>
                <a:cubicBezTo>
                  <a:pt x="21963" y="9277"/>
                  <a:pt x="21895" y="9291"/>
                  <a:pt x="21828" y="9327"/>
                </a:cubicBezTo>
                <a:cubicBezTo>
                  <a:pt x="21771" y="9358"/>
                  <a:pt x="21706" y="9375"/>
                  <a:pt x="21654" y="9401"/>
                </a:cubicBezTo>
                <a:cubicBezTo>
                  <a:pt x="21599" y="9428"/>
                  <a:pt x="21537" y="9469"/>
                  <a:pt x="21481" y="9500"/>
                </a:cubicBezTo>
                <a:cubicBezTo>
                  <a:pt x="21359" y="9567"/>
                  <a:pt x="21235" y="9626"/>
                  <a:pt x="21109" y="9699"/>
                </a:cubicBezTo>
                <a:cubicBezTo>
                  <a:pt x="20999" y="9763"/>
                  <a:pt x="20872" y="9805"/>
                  <a:pt x="20762" y="9872"/>
                </a:cubicBezTo>
                <a:cubicBezTo>
                  <a:pt x="20645" y="9944"/>
                  <a:pt x="20538" y="9987"/>
                  <a:pt x="20414" y="10046"/>
                </a:cubicBezTo>
                <a:cubicBezTo>
                  <a:pt x="20266" y="10116"/>
                  <a:pt x="20117" y="10173"/>
                  <a:pt x="19968" y="10244"/>
                </a:cubicBezTo>
                <a:cubicBezTo>
                  <a:pt x="19837" y="10307"/>
                  <a:pt x="19716" y="10369"/>
                  <a:pt x="19571" y="10393"/>
                </a:cubicBezTo>
                <a:cubicBezTo>
                  <a:pt x="19452" y="10413"/>
                  <a:pt x="19366" y="10398"/>
                  <a:pt x="19248" y="10443"/>
                </a:cubicBezTo>
                <a:cubicBezTo>
                  <a:pt x="19151" y="10480"/>
                  <a:pt x="19051" y="10528"/>
                  <a:pt x="18951" y="10567"/>
                </a:cubicBezTo>
                <a:cubicBezTo>
                  <a:pt x="18837" y="10611"/>
                  <a:pt x="18718" y="10647"/>
                  <a:pt x="18604" y="10691"/>
                </a:cubicBezTo>
                <a:cubicBezTo>
                  <a:pt x="18504" y="10730"/>
                  <a:pt x="18404" y="10770"/>
                  <a:pt x="18306" y="10815"/>
                </a:cubicBezTo>
                <a:cubicBezTo>
                  <a:pt x="18267" y="10833"/>
                  <a:pt x="18221" y="10844"/>
                  <a:pt x="18182" y="10864"/>
                </a:cubicBezTo>
                <a:cubicBezTo>
                  <a:pt x="18150" y="10881"/>
                  <a:pt x="18166" y="10876"/>
                  <a:pt x="1813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251160"/>
            <a:ext cx="2197080" cy="71640"/>
          </a:xfrm>
          <a:custGeom>
            <a:avLst/>
            <a:gdLst/>
            <a:ahLst/>
            <a:rect l="l" t="t" r="r" b="b"/>
            <a:pathLst>
              <a:path w="6103" h="199">
                <a:moveTo>
                  <a:pt x="22399" y="9079"/>
                </a:moveTo>
                <a:cubicBezTo>
                  <a:pt x="22351" y="9072"/>
                  <a:pt x="22331" y="9058"/>
                  <a:pt x="22275" y="9054"/>
                </a:cubicBezTo>
                <a:cubicBezTo>
                  <a:pt x="22102" y="9040"/>
                  <a:pt x="21926" y="9043"/>
                  <a:pt x="21754" y="9029"/>
                </a:cubicBezTo>
                <a:cubicBezTo>
                  <a:pt x="21601" y="9016"/>
                  <a:pt x="21438" y="9054"/>
                  <a:pt x="21282" y="9054"/>
                </a:cubicBezTo>
                <a:cubicBezTo>
                  <a:pt x="21165" y="9054"/>
                  <a:pt x="21027" y="9063"/>
                  <a:pt x="20910" y="9079"/>
                </a:cubicBezTo>
                <a:cubicBezTo>
                  <a:pt x="20737" y="9102"/>
                  <a:pt x="20562" y="9107"/>
                  <a:pt x="20389" y="9128"/>
                </a:cubicBezTo>
                <a:cubicBezTo>
                  <a:pt x="20207" y="9150"/>
                  <a:pt x="20027" y="9174"/>
                  <a:pt x="19844" y="9178"/>
                </a:cubicBezTo>
                <a:cubicBezTo>
                  <a:pt x="19684" y="9182"/>
                  <a:pt x="19530" y="9191"/>
                  <a:pt x="19372" y="9203"/>
                </a:cubicBezTo>
                <a:cubicBezTo>
                  <a:pt x="19226" y="9214"/>
                  <a:pt x="19074" y="9178"/>
                  <a:pt x="18926" y="9178"/>
                </a:cubicBezTo>
                <a:cubicBezTo>
                  <a:pt x="18767" y="9178"/>
                  <a:pt x="18615" y="9153"/>
                  <a:pt x="18455" y="9153"/>
                </a:cubicBezTo>
                <a:cubicBezTo>
                  <a:pt x="18289" y="9153"/>
                  <a:pt x="18148" y="9140"/>
                  <a:pt x="17983" y="9153"/>
                </a:cubicBezTo>
                <a:cubicBezTo>
                  <a:pt x="17826" y="9165"/>
                  <a:pt x="17668" y="9156"/>
                  <a:pt x="17512" y="9178"/>
                </a:cubicBezTo>
                <a:cubicBezTo>
                  <a:pt x="17419" y="9191"/>
                  <a:pt x="17284" y="9229"/>
                  <a:pt x="17190" y="9227"/>
                </a:cubicBezTo>
                <a:cubicBezTo>
                  <a:pt x="17104" y="9225"/>
                  <a:pt x="17008" y="9205"/>
                  <a:pt x="16917" y="9203"/>
                </a:cubicBezTo>
                <a:cubicBezTo>
                  <a:pt x="16796" y="9201"/>
                  <a:pt x="16689" y="9224"/>
                  <a:pt x="16570" y="9227"/>
                </a:cubicBezTo>
                <a:cubicBezTo>
                  <a:pt x="16479" y="9229"/>
                  <a:pt x="16388" y="9227"/>
                  <a:pt x="16297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75200" y="2544840"/>
            <a:ext cx="2152800" cy="696960"/>
          </a:xfrm>
          <a:custGeom>
            <a:avLst/>
            <a:gdLst/>
            <a:ahLst/>
            <a:rect l="l" t="t" r="r" b="b"/>
            <a:pathLst>
              <a:path w="5979" h="1936">
                <a:moveTo>
                  <a:pt x="22275" y="9004"/>
                </a:moveTo>
                <a:cubicBezTo>
                  <a:pt x="22210" y="8974"/>
                  <a:pt x="22196" y="8947"/>
                  <a:pt x="22126" y="8930"/>
                </a:cubicBezTo>
                <a:cubicBezTo>
                  <a:pt x="22008" y="8901"/>
                  <a:pt x="21876" y="8881"/>
                  <a:pt x="21754" y="8855"/>
                </a:cubicBezTo>
                <a:cubicBezTo>
                  <a:pt x="21558" y="8813"/>
                  <a:pt x="21351" y="8797"/>
                  <a:pt x="21158" y="8756"/>
                </a:cubicBezTo>
                <a:cubicBezTo>
                  <a:pt x="21053" y="8734"/>
                  <a:pt x="20960" y="8691"/>
                  <a:pt x="20861" y="8657"/>
                </a:cubicBezTo>
                <a:cubicBezTo>
                  <a:pt x="20752" y="8619"/>
                  <a:pt x="20648" y="8565"/>
                  <a:pt x="20538" y="8533"/>
                </a:cubicBezTo>
                <a:cubicBezTo>
                  <a:pt x="20286" y="8459"/>
                  <a:pt x="20021" y="8433"/>
                  <a:pt x="19769" y="8359"/>
                </a:cubicBezTo>
                <a:cubicBezTo>
                  <a:pt x="19621" y="8316"/>
                  <a:pt x="19477" y="8268"/>
                  <a:pt x="19323" y="8235"/>
                </a:cubicBezTo>
                <a:cubicBezTo>
                  <a:pt x="19174" y="8203"/>
                  <a:pt x="19019" y="8164"/>
                  <a:pt x="18876" y="8111"/>
                </a:cubicBezTo>
                <a:cubicBezTo>
                  <a:pt x="18751" y="8065"/>
                  <a:pt x="18628" y="8010"/>
                  <a:pt x="18504" y="7962"/>
                </a:cubicBezTo>
                <a:cubicBezTo>
                  <a:pt x="18354" y="7903"/>
                  <a:pt x="18210" y="7838"/>
                  <a:pt x="18058" y="7789"/>
                </a:cubicBezTo>
                <a:cubicBezTo>
                  <a:pt x="17919" y="7744"/>
                  <a:pt x="17794" y="7698"/>
                  <a:pt x="17661" y="7640"/>
                </a:cubicBezTo>
                <a:cubicBezTo>
                  <a:pt x="17562" y="7597"/>
                  <a:pt x="17459" y="7576"/>
                  <a:pt x="17363" y="7541"/>
                </a:cubicBezTo>
                <a:cubicBezTo>
                  <a:pt x="17299" y="7517"/>
                  <a:pt x="17228" y="7464"/>
                  <a:pt x="17165" y="7441"/>
                </a:cubicBezTo>
                <a:cubicBezTo>
                  <a:pt x="17105" y="7420"/>
                  <a:pt x="17039" y="7395"/>
                  <a:pt x="16991" y="7367"/>
                </a:cubicBezTo>
                <a:cubicBezTo>
                  <a:pt x="16919" y="7325"/>
                  <a:pt x="16863" y="7306"/>
                  <a:pt x="16793" y="7268"/>
                </a:cubicBezTo>
                <a:cubicBezTo>
                  <a:pt x="16743" y="7241"/>
                  <a:pt x="16696" y="7214"/>
                  <a:pt x="16644" y="7193"/>
                </a:cubicBezTo>
                <a:cubicBezTo>
                  <a:pt x="16600" y="7175"/>
                  <a:pt x="16541" y="7162"/>
                  <a:pt x="16495" y="7144"/>
                </a:cubicBezTo>
                <a:cubicBezTo>
                  <a:pt x="16444" y="7124"/>
                  <a:pt x="16394" y="7088"/>
                  <a:pt x="16346" y="7069"/>
                </a:cubicBezTo>
                <a:cubicBezTo>
                  <a:pt x="16338" y="7069"/>
                  <a:pt x="16329" y="7069"/>
                  <a:pt x="16321" y="70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3348000"/>
            <a:ext cx="1697040" cy="501840"/>
          </a:xfrm>
          <a:custGeom>
            <a:avLst/>
            <a:gdLst/>
            <a:ahLst/>
            <a:rect l="l" t="t" r="r" b="b"/>
            <a:pathLst>
              <a:path w="4714" h="1390">
                <a:moveTo>
                  <a:pt x="21010" y="10691"/>
                </a:moveTo>
                <a:cubicBezTo>
                  <a:pt x="20915" y="10674"/>
                  <a:pt x="20881" y="10650"/>
                  <a:pt x="20786" y="10616"/>
                </a:cubicBezTo>
                <a:cubicBezTo>
                  <a:pt x="20635" y="10562"/>
                  <a:pt x="20470" y="10545"/>
                  <a:pt x="20315" y="10517"/>
                </a:cubicBezTo>
                <a:cubicBezTo>
                  <a:pt x="20215" y="10499"/>
                  <a:pt x="20136" y="10480"/>
                  <a:pt x="20042" y="10443"/>
                </a:cubicBezTo>
                <a:cubicBezTo>
                  <a:pt x="19946" y="10405"/>
                  <a:pt x="19871" y="10379"/>
                  <a:pt x="19769" y="10368"/>
                </a:cubicBezTo>
                <a:cubicBezTo>
                  <a:pt x="19610" y="10351"/>
                  <a:pt x="19457" y="10370"/>
                  <a:pt x="19298" y="10344"/>
                </a:cubicBezTo>
                <a:cubicBezTo>
                  <a:pt x="19197" y="10328"/>
                  <a:pt x="19100" y="10320"/>
                  <a:pt x="19000" y="10294"/>
                </a:cubicBezTo>
                <a:cubicBezTo>
                  <a:pt x="18892" y="10266"/>
                  <a:pt x="18787" y="10220"/>
                  <a:pt x="18678" y="10195"/>
                </a:cubicBezTo>
                <a:cubicBezTo>
                  <a:pt x="18576" y="10172"/>
                  <a:pt x="18481" y="10155"/>
                  <a:pt x="18380" y="10120"/>
                </a:cubicBezTo>
                <a:cubicBezTo>
                  <a:pt x="18276" y="10084"/>
                  <a:pt x="18155" y="10057"/>
                  <a:pt x="18058" y="10021"/>
                </a:cubicBezTo>
                <a:cubicBezTo>
                  <a:pt x="17975" y="9990"/>
                  <a:pt x="17893" y="9954"/>
                  <a:pt x="17810" y="9922"/>
                </a:cubicBezTo>
                <a:cubicBezTo>
                  <a:pt x="17716" y="9886"/>
                  <a:pt x="17632" y="9876"/>
                  <a:pt x="17537" y="9847"/>
                </a:cubicBezTo>
                <a:cubicBezTo>
                  <a:pt x="17463" y="9824"/>
                  <a:pt x="17404" y="9784"/>
                  <a:pt x="17338" y="9748"/>
                </a:cubicBezTo>
                <a:cubicBezTo>
                  <a:pt x="17237" y="9693"/>
                  <a:pt x="17139" y="9634"/>
                  <a:pt x="17041" y="9575"/>
                </a:cubicBezTo>
                <a:cubicBezTo>
                  <a:pt x="16967" y="9531"/>
                  <a:pt x="16891" y="9489"/>
                  <a:pt x="16818" y="9451"/>
                </a:cubicBezTo>
                <a:cubicBezTo>
                  <a:pt x="16697" y="9389"/>
                  <a:pt x="16545" y="9318"/>
                  <a:pt x="16421" y="9302"/>
                </a:cubicBezTo>
                <a:cubicBezTo>
                  <a:pt x="16381" y="9297"/>
                  <a:pt x="16338" y="9304"/>
                  <a:pt x="16297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527200"/>
            <a:ext cx="1768680" cy="1224000"/>
          </a:xfrm>
          <a:custGeom>
            <a:avLst/>
            <a:gdLst/>
            <a:ahLst/>
            <a:rect l="l" t="t" r="r" b="b"/>
            <a:pathLst>
              <a:path w="4912" h="3399">
                <a:moveTo>
                  <a:pt x="21183" y="10393"/>
                </a:moveTo>
                <a:cubicBezTo>
                  <a:pt x="21208" y="10393"/>
                  <a:pt x="21216" y="10393"/>
                  <a:pt x="21208" y="10418"/>
                </a:cubicBezTo>
                <a:cubicBezTo>
                  <a:pt x="21089" y="10368"/>
                  <a:pt x="20977" y="10334"/>
                  <a:pt x="20861" y="10269"/>
                </a:cubicBezTo>
                <a:cubicBezTo>
                  <a:pt x="20598" y="10121"/>
                  <a:pt x="20348" y="9965"/>
                  <a:pt x="20117" y="9773"/>
                </a:cubicBezTo>
                <a:cubicBezTo>
                  <a:pt x="19941" y="9627"/>
                  <a:pt x="19787" y="9456"/>
                  <a:pt x="19596" y="9327"/>
                </a:cubicBezTo>
                <a:cubicBezTo>
                  <a:pt x="19486" y="9252"/>
                  <a:pt x="19359" y="9203"/>
                  <a:pt x="19248" y="9128"/>
                </a:cubicBezTo>
                <a:cubicBezTo>
                  <a:pt x="19157" y="9066"/>
                  <a:pt x="19075" y="9006"/>
                  <a:pt x="18976" y="8954"/>
                </a:cubicBezTo>
                <a:cubicBezTo>
                  <a:pt x="18876" y="8901"/>
                  <a:pt x="18800" y="8838"/>
                  <a:pt x="18703" y="8781"/>
                </a:cubicBezTo>
                <a:cubicBezTo>
                  <a:pt x="18605" y="8723"/>
                  <a:pt x="18503" y="8670"/>
                  <a:pt x="18405" y="8607"/>
                </a:cubicBezTo>
                <a:cubicBezTo>
                  <a:pt x="18310" y="8546"/>
                  <a:pt x="18197" y="8495"/>
                  <a:pt x="18107" y="8434"/>
                </a:cubicBezTo>
                <a:cubicBezTo>
                  <a:pt x="18022" y="8377"/>
                  <a:pt x="17941" y="8298"/>
                  <a:pt x="17859" y="8235"/>
                </a:cubicBezTo>
                <a:cubicBezTo>
                  <a:pt x="17785" y="8178"/>
                  <a:pt x="17707" y="8126"/>
                  <a:pt x="17636" y="8062"/>
                </a:cubicBezTo>
                <a:cubicBezTo>
                  <a:pt x="17531" y="7967"/>
                  <a:pt x="17435" y="7861"/>
                  <a:pt x="17338" y="7764"/>
                </a:cubicBezTo>
                <a:cubicBezTo>
                  <a:pt x="17271" y="7697"/>
                  <a:pt x="17203" y="7628"/>
                  <a:pt x="17140" y="7565"/>
                </a:cubicBezTo>
                <a:cubicBezTo>
                  <a:pt x="17068" y="7493"/>
                  <a:pt x="17000" y="7423"/>
                  <a:pt x="16917" y="7367"/>
                </a:cubicBezTo>
                <a:cubicBezTo>
                  <a:pt x="16858" y="7327"/>
                  <a:pt x="16806" y="7282"/>
                  <a:pt x="16743" y="7243"/>
                </a:cubicBezTo>
                <a:cubicBezTo>
                  <a:pt x="16642" y="7180"/>
                  <a:pt x="16515" y="7146"/>
                  <a:pt x="16421" y="7094"/>
                </a:cubicBezTo>
                <a:cubicBezTo>
                  <a:pt x="16380" y="7071"/>
                  <a:pt x="16335" y="7040"/>
                  <a:pt x="16297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78,15,-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50160" y="466560"/>
            <a:ext cx="8023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ive: Students will identify and describe line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diagonals can be drawn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olyg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523880"/>
            <a:ext cx="1676520" cy="21337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905120"/>
            <a:ext cx="2210040" cy="2209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267080"/>
            <a:ext cx="1447920" cy="190512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029200"/>
            <a:ext cx="3886200" cy="1219320"/>
          </a:xfrm>
          <a:prstGeom prst="hexagon">
            <a:avLst>
              <a:gd name="adj" fmla="val 7968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8120" y="3732120"/>
            <a:ext cx="142920" cy="339840"/>
          </a:xfrm>
          <a:custGeom>
            <a:avLst/>
            <a:gdLst/>
            <a:ahLst/>
            <a:rect l="l" t="t" r="r" b="b"/>
            <a:pathLst>
              <a:path w="398" h="944">
                <a:moveTo>
                  <a:pt x="1290" y="10889"/>
                </a:moveTo>
                <a:cubicBezTo>
                  <a:pt x="1254" y="10865"/>
                  <a:pt x="1229" y="10774"/>
                  <a:pt x="1215" y="10815"/>
                </a:cubicBezTo>
                <a:cubicBezTo>
                  <a:pt x="1189" y="10891"/>
                  <a:pt x="1316" y="11179"/>
                  <a:pt x="1339" y="11261"/>
                </a:cubicBezTo>
                <a:cubicBezTo>
                  <a:pt x="1339" y="11418"/>
                  <a:pt x="1240" y="10735"/>
                  <a:pt x="1240" y="10716"/>
                </a:cubicBezTo>
                <a:cubicBezTo>
                  <a:pt x="1262" y="10519"/>
                  <a:pt x="1257" y="10467"/>
                  <a:pt x="1339" y="10368"/>
                </a:cubicBezTo>
                <a:cubicBezTo>
                  <a:pt x="1502" y="10580"/>
                  <a:pt x="1521" y="10761"/>
                  <a:pt x="1588" y="11013"/>
                </a:cubicBezTo>
                <a:cubicBezTo>
                  <a:pt x="1596" y="11030"/>
                  <a:pt x="1604" y="11046"/>
                  <a:pt x="1612" y="11063"/>
                </a:cubicBezTo>
              </a:path>
              <a:path w="398" h="944">
                <a:moveTo>
                  <a:pt x="1389" y="11013"/>
                </a:moveTo>
                <a:cubicBezTo>
                  <a:pt x="1503" y="10877"/>
                  <a:pt x="1535" y="10841"/>
                  <a:pt x="158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231920"/>
            <a:ext cx="169920" cy="295200"/>
          </a:xfrm>
          <a:custGeom>
            <a:avLst/>
            <a:gdLst/>
            <a:ahLst/>
            <a:rect l="l" t="t" r="r" b="b"/>
            <a:pathLst>
              <a:path w="472" h="820">
                <a:moveTo>
                  <a:pt x="3597" y="3746"/>
                </a:moveTo>
                <a:cubicBezTo>
                  <a:pt x="3609" y="3844"/>
                  <a:pt x="3623" y="3935"/>
                  <a:pt x="3671" y="4018"/>
                </a:cubicBezTo>
                <a:cubicBezTo>
                  <a:pt x="3634" y="3838"/>
                  <a:pt x="3542" y="3650"/>
                  <a:pt x="3646" y="3473"/>
                </a:cubicBezTo>
                <a:cubicBezTo>
                  <a:pt x="3671" y="3456"/>
                  <a:pt x="3696" y="3440"/>
                  <a:pt x="3721" y="3423"/>
                </a:cubicBezTo>
                <a:cubicBezTo>
                  <a:pt x="3879" y="3553"/>
                  <a:pt x="3852" y="3617"/>
                  <a:pt x="3746" y="3795"/>
                </a:cubicBezTo>
                <a:cubicBezTo>
                  <a:pt x="3738" y="3803"/>
                  <a:pt x="3729" y="3812"/>
                  <a:pt x="3721" y="3820"/>
                </a:cubicBezTo>
                <a:cubicBezTo>
                  <a:pt x="3771" y="3736"/>
                  <a:pt x="3990" y="3647"/>
                  <a:pt x="4068" y="3770"/>
                </a:cubicBezTo>
                <a:cubicBezTo>
                  <a:pt x="4195" y="3970"/>
                  <a:pt x="3866" y="4168"/>
                  <a:pt x="3746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55920" y="3616200"/>
            <a:ext cx="20628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7218" y="10096"/>
                </a:moveTo>
                <a:cubicBezTo>
                  <a:pt x="6992" y="10016"/>
                  <a:pt x="6846" y="10057"/>
                  <a:pt x="6821" y="10344"/>
                </a:cubicBezTo>
                <a:cubicBezTo>
                  <a:pt x="6780" y="10808"/>
                  <a:pt x="7255" y="10497"/>
                  <a:pt x="7367" y="10294"/>
                </a:cubicBezTo>
                <a:cubicBezTo>
                  <a:pt x="7375" y="10244"/>
                  <a:pt x="7384" y="10195"/>
                  <a:pt x="739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01920" y="2598840"/>
            <a:ext cx="162000" cy="339480"/>
          </a:xfrm>
          <a:custGeom>
            <a:avLst/>
            <a:gdLst/>
            <a:ahLst/>
            <a:rect l="l" t="t" r="r" b="b"/>
            <a:pathLst>
              <a:path w="448" h="944">
                <a:moveTo>
                  <a:pt x="6846" y="7218"/>
                </a:moveTo>
                <a:cubicBezTo>
                  <a:pt x="6683" y="7408"/>
                  <a:pt x="6649" y="7728"/>
                  <a:pt x="6697" y="7987"/>
                </a:cubicBezTo>
                <a:cubicBezTo>
                  <a:pt x="6722" y="8045"/>
                  <a:pt x="6747" y="8103"/>
                  <a:pt x="6772" y="8161"/>
                </a:cubicBezTo>
                <a:cubicBezTo>
                  <a:pt x="7058" y="8079"/>
                  <a:pt x="7195" y="7845"/>
                  <a:pt x="7094" y="7516"/>
                </a:cubicBezTo>
                <a:cubicBezTo>
                  <a:pt x="7031" y="7312"/>
                  <a:pt x="6803" y="7354"/>
                  <a:pt x="6697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00800" y="2714760"/>
            <a:ext cx="268200" cy="277560"/>
          </a:xfrm>
          <a:custGeom>
            <a:avLst/>
            <a:gdLst/>
            <a:ahLst/>
            <a:rect l="l" t="t" r="r" b="b"/>
            <a:pathLst>
              <a:path w="745" h="770">
                <a:moveTo>
                  <a:pt x="15677" y="7590"/>
                </a:moveTo>
                <a:cubicBezTo>
                  <a:pt x="15722" y="7497"/>
                  <a:pt x="15569" y="7583"/>
                  <a:pt x="15528" y="7615"/>
                </a:cubicBezTo>
                <a:cubicBezTo>
                  <a:pt x="15402" y="7713"/>
                  <a:pt x="15198" y="8009"/>
                  <a:pt x="15280" y="8186"/>
                </a:cubicBezTo>
                <a:cubicBezTo>
                  <a:pt x="15362" y="8364"/>
                  <a:pt x="15677" y="8311"/>
                  <a:pt x="15801" y="8235"/>
                </a:cubicBezTo>
                <a:cubicBezTo>
                  <a:pt x="15904" y="8172"/>
                  <a:pt x="16061" y="7969"/>
                  <a:pt x="16024" y="7838"/>
                </a:cubicBezTo>
                <a:cubicBezTo>
                  <a:pt x="15992" y="7724"/>
                  <a:pt x="15856" y="7659"/>
                  <a:pt x="15751" y="7640"/>
                </a:cubicBezTo>
                <a:cubicBezTo>
                  <a:pt x="15678" y="7627"/>
                  <a:pt x="15662" y="7630"/>
                  <a:pt x="15652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7800" y="4259160"/>
            <a:ext cx="6359400" cy="2009880"/>
          </a:xfrm>
          <a:custGeom>
            <a:avLst/>
            <a:gdLst/>
            <a:ahLst/>
            <a:rect l="l" t="t" r="r" b="b"/>
            <a:pathLst>
              <a:path w="17662" h="5582">
                <a:moveTo>
                  <a:pt x="11658" y="14114"/>
                </a:moveTo>
                <a:cubicBezTo>
                  <a:pt x="11685" y="14092"/>
                  <a:pt x="11694" y="14102"/>
                  <a:pt x="11708" y="14064"/>
                </a:cubicBezTo>
                <a:cubicBezTo>
                  <a:pt x="11708" y="14056"/>
                  <a:pt x="11708" y="14047"/>
                  <a:pt x="11708" y="14039"/>
                </a:cubicBezTo>
                <a:cubicBezTo>
                  <a:pt x="11703" y="14055"/>
                  <a:pt x="11663" y="14139"/>
                  <a:pt x="11658" y="14188"/>
                </a:cubicBezTo>
                <a:cubicBezTo>
                  <a:pt x="11646" y="14293"/>
                  <a:pt x="11667" y="14409"/>
                  <a:pt x="11683" y="14511"/>
                </a:cubicBezTo>
                <a:cubicBezTo>
                  <a:pt x="11698" y="14605"/>
                  <a:pt x="11727" y="14692"/>
                  <a:pt x="11757" y="14784"/>
                </a:cubicBezTo>
                <a:cubicBezTo>
                  <a:pt x="11805" y="14930"/>
                  <a:pt x="11866" y="15102"/>
                  <a:pt x="11881" y="15255"/>
                </a:cubicBezTo>
                <a:cubicBezTo>
                  <a:pt x="11898" y="15435"/>
                  <a:pt x="11891" y="15622"/>
                  <a:pt x="11906" y="15801"/>
                </a:cubicBezTo>
                <a:cubicBezTo>
                  <a:pt x="11920" y="15969"/>
                  <a:pt x="11895" y="16135"/>
                  <a:pt x="11881" y="16297"/>
                </a:cubicBezTo>
                <a:cubicBezTo>
                  <a:pt x="11871" y="16409"/>
                  <a:pt x="11874" y="16515"/>
                  <a:pt x="11881" y="16619"/>
                </a:cubicBezTo>
                <a:cubicBezTo>
                  <a:pt x="11888" y="16711"/>
                  <a:pt x="11875" y="16778"/>
                  <a:pt x="11906" y="16867"/>
                </a:cubicBezTo>
                <a:cubicBezTo>
                  <a:pt x="11935" y="16951"/>
                  <a:pt x="11926" y="17026"/>
                  <a:pt x="11906" y="17115"/>
                </a:cubicBezTo>
                <a:cubicBezTo>
                  <a:pt x="11899" y="17148"/>
                  <a:pt x="11889" y="17162"/>
                  <a:pt x="11881" y="17190"/>
                </a:cubicBezTo>
                <a:cubicBezTo>
                  <a:pt x="11881" y="17116"/>
                  <a:pt x="11881" y="17090"/>
                  <a:pt x="11881" y="17016"/>
                </a:cubicBezTo>
              </a:path>
              <a:path w="17662" h="5582">
                <a:moveTo>
                  <a:pt x="11807" y="13990"/>
                </a:moveTo>
                <a:cubicBezTo>
                  <a:pt x="11836" y="14007"/>
                  <a:pt x="11905" y="14085"/>
                  <a:pt x="11981" y="14114"/>
                </a:cubicBezTo>
                <a:cubicBezTo>
                  <a:pt x="12191" y="14195"/>
                  <a:pt x="12394" y="14272"/>
                  <a:pt x="12601" y="14362"/>
                </a:cubicBezTo>
                <a:cubicBezTo>
                  <a:pt x="12792" y="14445"/>
                  <a:pt x="12989" y="14510"/>
                  <a:pt x="13171" y="14610"/>
                </a:cubicBezTo>
                <a:cubicBezTo>
                  <a:pt x="13406" y="14739"/>
                  <a:pt x="13651" y="14839"/>
                  <a:pt x="13891" y="14957"/>
                </a:cubicBezTo>
                <a:cubicBezTo>
                  <a:pt x="14134" y="15076"/>
                  <a:pt x="14379" y="15213"/>
                  <a:pt x="14610" y="15354"/>
                </a:cubicBezTo>
                <a:cubicBezTo>
                  <a:pt x="14820" y="15482"/>
                  <a:pt x="15022" y="15620"/>
                  <a:pt x="15230" y="15751"/>
                </a:cubicBezTo>
                <a:cubicBezTo>
                  <a:pt x="15381" y="15846"/>
                  <a:pt x="15544" y="15947"/>
                  <a:pt x="15701" y="16024"/>
                </a:cubicBezTo>
                <a:cubicBezTo>
                  <a:pt x="15848" y="16096"/>
                  <a:pt x="15999" y="16171"/>
                  <a:pt x="16148" y="16247"/>
                </a:cubicBezTo>
                <a:cubicBezTo>
                  <a:pt x="16277" y="16313"/>
                  <a:pt x="16386" y="16373"/>
                  <a:pt x="16495" y="16470"/>
                </a:cubicBezTo>
                <a:cubicBezTo>
                  <a:pt x="16596" y="16560"/>
                  <a:pt x="16687" y="16654"/>
                  <a:pt x="16793" y="16743"/>
                </a:cubicBezTo>
                <a:cubicBezTo>
                  <a:pt x="16871" y="16809"/>
                  <a:pt x="16943" y="16870"/>
                  <a:pt x="17016" y="16942"/>
                </a:cubicBezTo>
                <a:cubicBezTo>
                  <a:pt x="17071" y="16996"/>
                  <a:pt x="17126" y="17059"/>
                  <a:pt x="17190" y="17115"/>
                </a:cubicBezTo>
                <a:cubicBezTo>
                  <a:pt x="17265" y="17181"/>
                  <a:pt x="17337" y="17249"/>
                  <a:pt x="17413" y="17314"/>
                </a:cubicBezTo>
                <a:cubicBezTo>
                  <a:pt x="17453" y="17349"/>
                  <a:pt x="17529" y="17382"/>
                  <a:pt x="17562" y="17413"/>
                </a:cubicBezTo>
                <a:cubicBezTo>
                  <a:pt x="17554" y="17413"/>
                  <a:pt x="17545" y="17413"/>
                  <a:pt x="17537" y="17413"/>
                </a:cubicBezTo>
              </a:path>
              <a:path w="17662" h="5582">
                <a:moveTo>
                  <a:pt x="16768" y="14015"/>
                </a:moveTo>
                <a:cubicBezTo>
                  <a:pt x="16824" y="13995"/>
                  <a:pt x="16885" y="13987"/>
                  <a:pt x="16942" y="13965"/>
                </a:cubicBezTo>
                <a:cubicBezTo>
                  <a:pt x="16982" y="13950"/>
                  <a:pt x="17022" y="13928"/>
                  <a:pt x="17066" y="13915"/>
                </a:cubicBezTo>
                <a:cubicBezTo>
                  <a:pt x="17103" y="13904"/>
                  <a:pt x="17125" y="13898"/>
                  <a:pt x="17165" y="13891"/>
                </a:cubicBezTo>
                <a:cubicBezTo>
                  <a:pt x="17190" y="13891"/>
                  <a:pt x="17198" y="13891"/>
                  <a:pt x="17214" y="13891"/>
                </a:cubicBezTo>
                <a:cubicBezTo>
                  <a:pt x="17121" y="14002"/>
                  <a:pt x="17008" y="14134"/>
                  <a:pt x="16892" y="14238"/>
                </a:cubicBezTo>
                <a:cubicBezTo>
                  <a:pt x="16691" y="14418"/>
                  <a:pt x="16472" y="14563"/>
                  <a:pt x="16247" y="14709"/>
                </a:cubicBezTo>
                <a:cubicBezTo>
                  <a:pt x="15893" y="14938"/>
                  <a:pt x="15585" y="15193"/>
                  <a:pt x="15280" y="15478"/>
                </a:cubicBezTo>
                <a:cubicBezTo>
                  <a:pt x="15108" y="15639"/>
                  <a:pt x="14951" y="15808"/>
                  <a:pt x="14784" y="15974"/>
                </a:cubicBezTo>
                <a:cubicBezTo>
                  <a:pt x="14675" y="16083"/>
                  <a:pt x="14555" y="16199"/>
                  <a:pt x="14436" y="16297"/>
                </a:cubicBezTo>
                <a:cubicBezTo>
                  <a:pt x="14188" y="16501"/>
                  <a:pt x="13932" y="16657"/>
                  <a:pt x="13643" y="16793"/>
                </a:cubicBezTo>
                <a:cubicBezTo>
                  <a:pt x="13472" y="16873"/>
                  <a:pt x="13288" y="16933"/>
                  <a:pt x="13122" y="17016"/>
                </a:cubicBezTo>
                <a:cubicBezTo>
                  <a:pt x="12925" y="17114"/>
                  <a:pt x="12728" y="17203"/>
                  <a:pt x="12526" y="17289"/>
                </a:cubicBezTo>
                <a:cubicBezTo>
                  <a:pt x="12453" y="17320"/>
                  <a:pt x="12375" y="17337"/>
                  <a:pt x="12303" y="17363"/>
                </a:cubicBezTo>
              </a:path>
              <a:path w="17662" h="5582">
                <a:moveTo>
                  <a:pt x="16396" y="14709"/>
                </a:moveTo>
                <a:cubicBezTo>
                  <a:pt x="16396" y="14701"/>
                  <a:pt x="16396" y="14692"/>
                  <a:pt x="16396" y="14684"/>
                </a:cubicBezTo>
                <a:cubicBezTo>
                  <a:pt x="16372" y="14676"/>
                  <a:pt x="16340" y="14623"/>
                  <a:pt x="16396" y="14660"/>
                </a:cubicBezTo>
              </a:path>
              <a:path w="17662" h="5582">
                <a:moveTo>
                  <a:pt x="16644" y="13667"/>
                </a:moveTo>
                <a:cubicBezTo>
                  <a:pt x="16680" y="13694"/>
                  <a:pt x="16683" y="13684"/>
                  <a:pt x="16694" y="13717"/>
                </a:cubicBezTo>
              </a:path>
              <a:path w="17662" h="5582">
                <a:moveTo>
                  <a:pt x="17289" y="14064"/>
                </a:moveTo>
                <a:cubicBezTo>
                  <a:pt x="17305" y="14093"/>
                  <a:pt x="17300" y="14139"/>
                  <a:pt x="17338" y="14139"/>
                </a:cubicBezTo>
                <a:cubicBezTo>
                  <a:pt x="17338" y="14131"/>
                  <a:pt x="17338" y="14122"/>
                  <a:pt x="17338" y="14114"/>
                </a:cubicBezTo>
                <a:cubicBezTo>
                  <a:pt x="17324" y="14212"/>
                  <a:pt x="17307" y="14334"/>
                  <a:pt x="17314" y="14436"/>
                </a:cubicBezTo>
                <a:cubicBezTo>
                  <a:pt x="17320" y="14517"/>
                  <a:pt x="17324" y="14628"/>
                  <a:pt x="17338" y="14709"/>
                </a:cubicBezTo>
                <a:cubicBezTo>
                  <a:pt x="17346" y="14755"/>
                  <a:pt x="17350" y="14814"/>
                  <a:pt x="17363" y="14858"/>
                </a:cubicBezTo>
                <a:cubicBezTo>
                  <a:pt x="17388" y="14945"/>
                  <a:pt x="17371" y="14906"/>
                  <a:pt x="17363" y="14982"/>
                </a:cubicBezTo>
                <a:cubicBezTo>
                  <a:pt x="17356" y="15044"/>
                  <a:pt x="17345" y="15098"/>
                  <a:pt x="17338" y="15156"/>
                </a:cubicBezTo>
                <a:cubicBezTo>
                  <a:pt x="17326" y="15260"/>
                  <a:pt x="17323" y="15374"/>
                  <a:pt x="17314" y="15478"/>
                </a:cubicBezTo>
                <a:cubicBezTo>
                  <a:pt x="17303" y="15606"/>
                  <a:pt x="17309" y="15729"/>
                  <a:pt x="17289" y="15850"/>
                </a:cubicBezTo>
                <a:cubicBezTo>
                  <a:pt x="17277" y="15923"/>
                  <a:pt x="17259" y="16090"/>
                  <a:pt x="17264" y="16148"/>
                </a:cubicBezTo>
                <a:cubicBezTo>
                  <a:pt x="17271" y="16221"/>
                  <a:pt x="17289" y="16290"/>
                  <a:pt x="17289" y="16371"/>
                </a:cubicBezTo>
                <a:cubicBezTo>
                  <a:pt x="17289" y="16481"/>
                  <a:pt x="17276" y="16589"/>
                  <a:pt x="17314" y="16694"/>
                </a:cubicBezTo>
                <a:cubicBezTo>
                  <a:pt x="17338" y="16760"/>
                  <a:pt x="17342" y="16828"/>
                  <a:pt x="17363" y="16892"/>
                </a:cubicBezTo>
                <a:cubicBezTo>
                  <a:pt x="17378" y="16937"/>
                  <a:pt x="17385" y="16958"/>
                  <a:pt x="17388" y="17016"/>
                </a:cubicBezTo>
                <a:cubicBezTo>
                  <a:pt x="17391" y="17070"/>
                  <a:pt x="17374" y="17053"/>
                  <a:pt x="17363" y="17090"/>
                </a:cubicBezTo>
                <a:cubicBezTo>
                  <a:pt x="17349" y="17136"/>
                  <a:pt x="17384" y="17021"/>
                  <a:pt x="17388" y="16966"/>
                </a:cubicBezTo>
              </a:path>
              <a:path w="17662" h="5582">
                <a:moveTo>
                  <a:pt x="5085" y="15974"/>
                </a:moveTo>
                <a:lnTo>
                  <a:pt x="5085" y="15974"/>
                </a:lnTo>
              </a:path>
              <a:path w="17662" h="5582">
                <a:moveTo>
                  <a:pt x="9252" y="15825"/>
                </a:moveTo>
                <a:cubicBezTo>
                  <a:pt x="9234" y="15789"/>
                  <a:pt x="9243" y="15780"/>
                  <a:pt x="9227" y="15751"/>
                </a:cubicBezTo>
                <a:cubicBezTo>
                  <a:pt x="9203" y="15751"/>
                  <a:pt x="9195" y="15751"/>
                  <a:pt x="9203" y="15726"/>
                </a:cubicBezTo>
                <a:cubicBezTo>
                  <a:pt x="9320" y="15706"/>
                  <a:pt x="9397" y="15680"/>
                  <a:pt x="9525" y="15677"/>
                </a:cubicBezTo>
                <a:cubicBezTo>
                  <a:pt x="9799" y="15671"/>
                  <a:pt x="10074" y="15663"/>
                  <a:pt x="10344" y="15652"/>
                </a:cubicBezTo>
                <a:cubicBezTo>
                  <a:pt x="10536" y="15644"/>
                  <a:pt x="10724" y="15644"/>
                  <a:pt x="10914" y="15627"/>
                </a:cubicBezTo>
                <a:cubicBezTo>
                  <a:pt x="11069" y="15613"/>
                  <a:pt x="11231" y="15585"/>
                  <a:pt x="11385" y="15577"/>
                </a:cubicBezTo>
                <a:cubicBezTo>
                  <a:pt x="11633" y="15565"/>
                  <a:pt x="11882" y="15562"/>
                  <a:pt x="12129" y="15553"/>
                </a:cubicBezTo>
                <a:cubicBezTo>
                  <a:pt x="12315" y="15547"/>
                  <a:pt x="12492" y="15571"/>
                  <a:pt x="12675" y="15577"/>
                </a:cubicBezTo>
                <a:cubicBezTo>
                  <a:pt x="12851" y="15583"/>
                  <a:pt x="13022" y="15588"/>
                  <a:pt x="13196" y="15602"/>
                </a:cubicBezTo>
                <a:cubicBezTo>
                  <a:pt x="13420" y="15620"/>
                  <a:pt x="13642" y="15643"/>
                  <a:pt x="13866" y="15652"/>
                </a:cubicBezTo>
                <a:cubicBezTo>
                  <a:pt x="14107" y="15661"/>
                  <a:pt x="14343" y="15677"/>
                  <a:pt x="14585" y="15677"/>
                </a:cubicBezTo>
                <a:cubicBezTo>
                  <a:pt x="15181" y="15677"/>
                  <a:pt x="15777" y="15675"/>
                  <a:pt x="16371" y="15652"/>
                </a:cubicBezTo>
                <a:cubicBezTo>
                  <a:pt x="16643" y="15641"/>
                  <a:pt x="16921" y="15636"/>
                  <a:pt x="17190" y="15627"/>
                </a:cubicBezTo>
                <a:cubicBezTo>
                  <a:pt x="17528" y="15615"/>
                  <a:pt x="17874" y="15616"/>
                  <a:pt x="18207" y="15602"/>
                </a:cubicBezTo>
                <a:cubicBezTo>
                  <a:pt x="18432" y="15592"/>
                  <a:pt x="18654" y="15586"/>
                  <a:pt x="18876" y="15577"/>
                </a:cubicBezTo>
                <a:cubicBezTo>
                  <a:pt x="19191" y="15564"/>
                  <a:pt x="19507" y="15557"/>
                  <a:pt x="19819" y="15553"/>
                </a:cubicBezTo>
                <a:cubicBezTo>
                  <a:pt x="19878" y="15552"/>
                  <a:pt x="19907" y="15554"/>
                  <a:pt x="19968" y="15553"/>
                </a:cubicBezTo>
                <a:cubicBezTo>
                  <a:pt x="19993" y="15553"/>
                  <a:pt x="20001" y="15553"/>
                  <a:pt x="20017" y="15553"/>
                </a:cubicBezTo>
              </a:path>
              <a:path w="17662" h="5582">
                <a:moveTo>
                  <a:pt x="4217" y="11956"/>
                </a:moveTo>
                <a:cubicBezTo>
                  <a:pt x="4228" y="11919"/>
                  <a:pt x="4231" y="11930"/>
                  <a:pt x="4242" y="11881"/>
                </a:cubicBezTo>
                <a:cubicBezTo>
                  <a:pt x="4242" y="11873"/>
                  <a:pt x="4242" y="11865"/>
                  <a:pt x="4242" y="11857"/>
                </a:cubicBezTo>
                <a:cubicBezTo>
                  <a:pt x="4277" y="11938"/>
                  <a:pt x="4308" y="11967"/>
                  <a:pt x="4316" y="12055"/>
                </a:cubicBezTo>
                <a:cubicBezTo>
                  <a:pt x="4334" y="12261"/>
                  <a:pt x="4346" y="12473"/>
                  <a:pt x="4390" y="12675"/>
                </a:cubicBezTo>
                <a:cubicBezTo>
                  <a:pt x="4419" y="12809"/>
                  <a:pt x="4415" y="12935"/>
                  <a:pt x="4415" y="13072"/>
                </a:cubicBezTo>
                <a:cubicBezTo>
                  <a:pt x="4415" y="13222"/>
                  <a:pt x="4440" y="13367"/>
                  <a:pt x="4440" y="13519"/>
                </a:cubicBezTo>
                <a:cubicBezTo>
                  <a:pt x="4440" y="13680"/>
                  <a:pt x="4454" y="13832"/>
                  <a:pt x="4465" y="13990"/>
                </a:cubicBezTo>
                <a:cubicBezTo>
                  <a:pt x="4476" y="14148"/>
                  <a:pt x="4472" y="14304"/>
                  <a:pt x="4490" y="14461"/>
                </a:cubicBezTo>
                <a:cubicBezTo>
                  <a:pt x="4510" y="14628"/>
                  <a:pt x="4522" y="14791"/>
                  <a:pt x="4539" y="14957"/>
                </a:cubicBezTo>
                <a:cubicBezTo>
                  <a:pt x="4554" y="15103"/>
                  <a:pt x="4578" y="15256"/>
                  <a:pt x="4589" y="15404"/>
                </a:cubicBezTo>
                <a:cubicBezTo>
                  <a:pt x="4600" y="15544"/>
                  <a:pt x="4610" y="15686"/>
                  <a:pt x="4614" y="15825"/>
                </a:cubicBezTo>
                <a:cubicBezTo>
                  <a:pt x="4617" y="15928"/>
                  <a:pt x="4605" y="16059"/>
                  <a:pt x="4614" y="16148"/>
                </a:cubicBezTo>
                <a:cubicBezTo>
                  <a:pt x="4621" y="16218"/>
                  <a:pt x="4625" y="16260"/>
                  <a:pt x="4614" y="16321"/>
                </a:cubicBezTo>
                <a:cubicBezTo>
                  <a:pt x="4597" y="16413"/>
                  <a:pt x="4586" y="16502"/>
                  <a:pt x="4564" y="16594"/>
                </a:cubicBezTo>
                <a:cubicBezTo>
                  <a:pt x="4556" y="16629"/>
                  <a:pt x="4549" y="16658"/>
                  <a:pt x="4539" y="16694"/>
                </a:cubicBezTo>
                <a:cubicBezTo>
                  <a:pt x="4521" y="16759"/>
                  <a:pt x="4487" y="16786"/>
                  <a:pt x="4465" y="16842"/>
                </a:cubicBezTo>
                <a:cubicBezTo>
                  <a:pt x="4465" y="16884"/>
                  <a:pt x="4465" y="16909"/>
                  <a:pt x="4465" y="16867"/>
                </a:cubicBezTo>
              </a:path>
              <a:path w="17662" h="5582">
                <a:moveTo>
                  <a:pt x="2381" y="14660"/>
                </a:moveTo>
                <a:cubicBezTo>
                  <a:pt x="2449" y="14610"/>
                  <a:pt x="2474" y="14585"/>
                  <a:pt x="2555" y="14560"/>
                </a:cubicBezTo>
                <a:cubicBezTo>
                  <a:pt x="2812" y="14479"/>
                  <a:pt x="3080" y="14429"/>
                  <a:pt x="3349" y="14412"/>
                </a:cubicBezTo>
                <a:cubicBezTo>
                  <a:pt x="3553" y="14399"/>
                  <a:pt x="3763" y="14436"/>
                  <a:pt x="3969" y="14436"/>
                </a:cubicBezTo>
                <a:cubicBezTo>
                  <a:pt x="4154" y="14436"/>
                  <a:pt x="4332" y="14417"/>
                  <a:pt x="4514" y="14412"/>
                </a:cubicBezTo>
                <a:cubicBezTo>
                  <a:pt x="4667" y="14408"/>
                  <a:pt x="4811" y="14402"/>
                  <a:pt x="4961" y="14387"/>
                </a:cubicBezTo>
                <a:cubicBezTo>
                  <a:pt x="5084" y="14375"/>
                  <a:pt x="5212" y="14372"/>
                  <a:pt x="5333" y="14362"/>
                </a:cubicBezTo>
                <a:cubicBezTo>
                  <a:pt x="5453" y="14352"/>
                  <a:pt x="5565" y="14366"/>
                  <a:pt x="5680" y="14387"/>
                </a:cubicBezTo>
                <a:cubicBezTo>
                  <a:pt x="5815" y="14412"/>
                  <a:pt x="5938" y="14436"/>
                  <a:pt x="6077" y="14436"/>
                </a:cubicBezTo>
                <a:cubicBezTo>
                  <a:pt x="6143" y="14436"/>
                  <a:pt x="6210" y="14436"/>
                  <a:pt x="627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15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identify and describe line segment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ing Proble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y a triangle has no diag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9200" y="3286080"/>
            <a:ext cx="1554480" cy="349200"/>
          </a:xfrm>
          <a:custGeom>
            <a:avLst/>
            <a:gdLst/>
            <a:ahLst/>
            <a:rect l="l" t="t" r="r" b="b"/>
            <a:pathLst>
              <a:path w="4317" h="969">
                <a:moveTo>
                  <a:pt x="6970" y="9302"/>
                </a:moveTo>
                <a:cubicBezTo>
                  <a:pt x="6984" y="9248"/>
                  <a:pt x="6945" y="9250"/>
                  <a:pt x="6871" y="9203"/>
                </a:cubicBezTo>
                <a:cubicBezTo>
                  <a:pt x="6738" y="9350"/>
                  <a:pt x="6654" y="9672"/>
                  <a:pt x="6772" y="9872"/>
                </a:cubicBezTo>
                <a:cubicBezTo>
                  <a:pt x="6915" y="9967"/>
                  <a:pt x="6957" y="10002"/>
                  <a:pt x="7069" y="9922"/>
                </a:cubicBezTo>
              </a:path>
              <a:path w="4317" h="969">
                <a:moveTo>
                  <a:pt x="7293" y="9451"/>
                </a:moveTo>
                <a:cubicBezTo>
                  <a:pt x="7210" y="9623"/>
                  <a:pt x="7216" y="9658"/>
                  <a:pt x="7268" y="9847"/>
                </a:cubicBezTo>
                <a:cubicBezTo>
                  <a:pt x="7378" y="9841"/>
                  <a:pt x="7777" y="9666"/>
                  <a:pt x="7565" y="9475"/>
                </a:cubicBezTo>
                <a:cubicBezTo>
                  <a:pt x="7470" y="9390"/>
                  <a:pt x="7279" y="9535"/>
                  <a:pt x="7367" y="9451"/>
                </a:cubicBezTo>
              </a:path>
              <a:path w="4317" h="969">
                <a:moveTo>
                  <a:pt x="7789" y="9649"/>
                </a:moveTo>
                <a:cubicBezTo>
                  <a:pt x="7825" y="9722"/>
                  <a:pt x="7842" y="9727"/>
                  <a:pt x="7838" y="9773"/>
                </a:cubicBezTo>
                <a:cubicBezTo>
                  <a:pt x="7820" y="9663"/>
                  <a:pt x="7766" y="9545"/>
                  <a:pt x="7863" y="9451"/>
                </a:cubicBezTo>
                <a:cubicBezTo>
                  <a:pt x="8085" y="9237"/>
                  <a:pt x="8149" y="9680"/>
                  <a:pt x="8161" y="9798"/>
                </a:cubicBezTo>
                <a:cubicBezTo>
                  <a:pt x="8161" y="9806"/>
                  <a:pt x="8161" y="9815"/>
                  <a:pt x="8161" y="9823"/>
                </a:cubicBezTo>
              </a:path>
              <a:path w="4317" h="969">
                <a:moveTo>
                  <a:pt x="8359" y="9599"/>
                </a:moveTo>
                <a:cubicBezTo>
                  <a:pt x="8400" y="9680"/>
                  <a:pt x="8416" y="9693"/>
                  <a:pt x="8409" y="9748"/>
                </a:cubicBezTo>
                <a:cubicBezTo>
                  <a:pt x="8390" y="9619"/>
                  <a:pt x="8368" y="9548"/>
                  <a:pt x="8434" y="9451"/>
                </a:cubicBezTo>
                <a:cubicBezTo>
                  <a:pt x="8607" y="9552"/>
                  <a:pt x="8672" y="9591"/>
                  <a:pt x="8706" y="9798"/>
                </a:cubicBezTo>
              </a:path>
              <a:path w="4317" h="969">
                <a:moveTo>
                  <a:pt x="8855" y="9624"/>
                </a:moveTo>
                <a:cubicBezTo>
                  <a:pt x="8909" y="9611"/>
                  <a:pt x="8982" y="9596"/>
                  <a:pt x="9004" y="9575"/>
                </a:cubicBezTo>
                <a:cubicBezTo>
                  <a:pt x="8993" y="9519"/>
                  <a:pt x="8930" y="9446"/>
                  <a:pt x="8855" y="9500"/>
                </a:cubicBezTo>
                <a:cubicBezTo>
                  <a:pt x="8701" y="9611"/>
                  <a:pt x="8828" y="9898"/>
                  <a:pt x="9029" y="9823"/>
                </a:cubicBezTo>
                <a:cubicBezTo>
                  <a:pt x="9087" y="9782"/>
                  <a:pt x="9145" y="9740"/>
                  <a:pt x="9203" y="9699"/>
                </a:cubicBezTo>
              </a:path>
              <a:path w="4317" h="969">
                <a:moveTo>
                  <a:pt x="9426" y="9475"/>
                </a:moveTo>
                <a:cubicBezTo>
                  <a:pt x="9364" y="9355"/>
                  <a:pt x="9231" y="9475"/>
                  <a:pt x="9203" y="9575"/>
                </a:cubicBezTo>
                <a:cubicBezTo>
                  <a:pt x="9068" y="10053"/>
                  <a:pt x="9586" y="9631"/>
                  <a:pt x="9674" y="9550"/>
                </a:cubicBezTo>
              </a:path>
              <a:path w="4317" h="969">
                <a:moveTo>
                  <a:pt x="9649" y="9128"/>
                </a:moveTo>
                <a:cubicBezTo>
                  <a:pt x="9702" y="9328"/>
                  <a:pt x="10004" y="9715"/>
                  <a:pt x="9798" y="9723"/>
                </a:cubicBezTo>
                <a:cubicBezTo>
                  <a:pt x="9790" y="9707"/>
                  <a:pt x="9781" y="9690"/>
                  <a:pt x="9773" y="9674"/>
                </a:cubicBezTo>
              </a:path>
              <a:path w="4317" h="969">
                <a:moveTo>
                  <a:pt x="9525" y="9426"/>
                </a:moveTo>
                <a:cubicBezTo>
                  <a:pt x="9754" y="9408"/>
                  <a:pt x="9927" y="9386"/>
                  <a:pt x="10046" y="9624"/>
                </a:cubicBezTo>
                <a:cubicBezTo>
                  <a:pt x="10046" y="9681"/>
                  <a:pt x="10041" y="9693"/>
                  <a:pt x="9996" y="9624"/>
                </a:cubicBezTo>
              </a:path>
              <a:path w="4317" h="969">
                <a:moveTo>
                  <a:pt x="9897" y="9227"/>
                </a:moveTo>
                <a:lnTo>
                  <a:pt x="9897" y="9227"/>
                </a:lnTo>
                <a:lnTo>
                  <a:pt x="9897" y="9227"/>
                </a:lnTo>
              </a:path>
              <a:path w="4317" h="969">
                <a:moveTo>
                  <a:pt x="9897" y="9227"/>
                </a:moveTo>
                <a:lnTo>
                  <a:pt x="9897" y="9227"/>
                </a:lnTo>
              </a:path>
              <a:path w="4317" h="969">
                <a:moveTo>
                  <a:pt x="10244" y="9599"/>
                </a:moveTo>
                <a:cubicBezTo>
                  <a:pt x="10232" y="9593"/>
                  <a:pt x="10105" y="9379"/>
                  <a:pt x="10269" y="9327"/>
                </a:cubicBezTo>
                <a:cubicBezTo>
                  <a:pt x="10429" y="9277"/>
                  <a:pt x="10477" y="9521"/>
                  <a:pt x="10517" y="9599"/>
                </a:cubicBezTo>
              </a:path>
              <a:path w="4317" h="969">
                <a:moveTo>
                  <a:pt x="10790" y="9351"/>
                </a:moveTo>
                <a:cubicBezTo>
                  <a:pt x="10728" y="9392"/>
                  <a:pt x="10480" y="9683"/>
                  <a:pt x="10716" y="9699"/>
                </a:cubicBezTo>
                <a:cubicBezTo>
                  <a:pt x="10877" y="9710"/>
                  <a:pt x="10835" y="9493"/>
                  <a:pt x="10840" y="9401"/>
                </a:cubicBezTo>
                <a:cubicBezTo>
                  <a:pt x="10832" y="9393"/>
                  <a:pt x="10823" y="9384"/>
                  <a:pt x="10815" y="9376"/>
                </a:cubicBezTo>
                <a:cubicBezTo>
                  <a:pt x="10894" y="9520"/>
                  <a:pt x="11170" y="9851"/>
                  <a:pt x="10988" y="10021"/>
                </a:cubicBezTo>
                <a:cubicBezTo>
                  <a:pt x="10777" y="10218"/>
                  <a:pt x="10657" y="10076"/>
                  <a:pt x="10542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1880" y="3178080"/>
            <a:ext cx="714240" cy="270000"/>
          </a:xfrm>
          <a:custGeom>
            <a:avLst/>
            <a:gdLst/>
            <a:ahLst/>
            <a:rect l="l" t="t" r="r" b="b"/>
            <a:pathLst>
              <a:path w="1986" h="746">
                <a:moveTo>
                  <a:pt x="11931" y="9351"/>
                </a:moveTo>
                <a:cubicBezTo>
                  <a:pt x="12013" y="9331"/>
                  <a:pt x="12029" y="9323"/>
                  <a:pt x="12080" y="9327"/>
                </a:cubicBezTo>
                <a:cubicBezTo>
                  <a:pt x="12080" y="9278"/>
                  <a:pt x="12001" y="9145"/>
                  <a:pt x="11956" y="9153"/>
                </a:cubicBezTo>
                <a:cubicBezTo>
                  <a:pt x="11727" y="9193"/>
                  <a:pt x="11716" y="9588"/>
                  <a:pt x="11981" y="9575"/>
                </a:cubicBezTo>
                <a:cubicBezTo>
                  <a:pt x="12055" y="9550"/>
                  <a:pt x="12130" y="9525"/>
                  <a:pt x="12204" y="9500"/>
                </a:cubicBezTo>
              </a:path>
              <a:path w="1986" h="746">
                <a:moveTo>
                  <a:pt x="12601" y="9227"/>
                </a:moveTo>
                <a:cubicBezTo>
                  <a:pt x="12677" y="9203"/>
                  <a:pt x="12553" y="9146"/>
                  <a:pt x="12502" y="9178"/>
                </a:cubicBezTo>
                <a:cubicBezTo>
                  <a:pt x="12287" y="9314"/>
                  <a:pt x="12374" y="9412"/>
                  <a:pt x="12477" y="9550"/>
                </a:cubicBezTo>
                <a:cubicBezTo>
                  <a:pt x="12615" y="9453"/>
                  <a:pt x="12580" y="9113"/>
                  <a:pt x="12675" y="9252"/>
                </a:cubicBezTo>
                <a:cubicBezTo>
                  <a:pt x="12743" y="9364"/>
                  <a:pt x="12754" y="9402"/>
                  <a:pt x="12849" y="9401"/>
                </a:cubicBezTo>
              </a:path>
              <a:path w="1986" h="746">
                <a:moveTo>
                  <a:pt x="13146" y="9178"/>
                </a:moveTo>
                <a:cubicBezTo>
                  <a:pt x="13098" y="9055"/>
                  <a:pt x="12974" y="9045"/>
                  <a:pt x="12898" y="9178"/>
                </a:cubicBezTo>
                <a:cubicBezTo>
                  <a:pt x="12720" y="9493"/>
                  <a:pt x="13130" y="9580"/>
                  <a:pt x="13295" y="9351"/>
                </a:cubicBezTo>
                <a:cubicBezTo>
                  <a:pt x="13320" y="9277"/>
                  <a:pt x="13345" y="9202"/>
                  <a:pt x="13370" y="9128"/>
                </a:cubicBezTo>
              </a:path>
              <a:path w="1986" h="746">
                <a:moveTo>
                  <a:pt x="13295" y="8830"/>
                </a:moveTo>
                <a:lnTo>
                  <a:pt x="13295" y="8880"/>
                </a:lnTo>
                <a:lnTo>
                  <a:pt x="13320" y="8954"/>
                </a:lnTo>
                <a:lnTo>
                  <a:pt x="13395" y="9178"/>
                </a:lnTo>
                <a:lnTo>
                  <a:pt x="13444" y="9351"/>
                </a:lnTo>
                <a:lnTo>
                  <a:pt x="13444" y="9426"/>
                </a:lnTo>
                <a:lnTo>
                  <a:pt x="13444" y="9401"/>
                </a:lnTo>
                <a:lnTo>
                  <a:pt x="13444" y="9277"/>
                </a:lnTo>
                <a:lnTo>
                  <a:pt x="13494" y="9153"/>
                </a:lnTo>
                <a:lnTo>
                  <a:pt x="13618" y="9153"/>
                </a:lnTo>
                <a:lnTo>
                  <a:pt x="13742" y="9252"/>
                </a:lnTo>
                <a:lnTo>
                  <a:pt x="13767" y="9351"/>
                </a:lnTo>
                <a:lnTo>
                  <a:pt x="13767" y="93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24320" y="3224160"/>
            <a:ext cx="615960" cy="293760"/>
          </a:xfrm>
          <a:custGeom>
            <a:avLst/>
            <a:gdLst/>
            <a:ahLst/>
            <a:rect l="l" t="t" r="r" b="b"/>
            <a:pathLst>
              <a:path w="1712" h="820">
                <a:moveTo>
                  <a:pt x="14610" y="9451"/>
                </a:moveTo>
                <a:cubicBezTo>
                  <a:pt x="14670" y="9632"/>
                  <a:pt x="14684" y="9663"/>
                  <a:pt x="14709" y="9773"/>
                </a:cubicBezTo>
                <a:cubicBezTo>
                  <a:pt x="14577" y="9641"/>
                  <a:pt x="14511" y="9301"/>
                  <a:pt x="14585" y="9103"/>
                </a:cubicBezTo>
                <a:cubicBezTo>
                  <a:pt x="14626" y="9062"/>
                  <a:pt x="14668" y="9020"/>
                  <a:pt x="14709" y="8979"/>
                </a:cubicBezTo>
                <a:cubicBezTo>
                  <a:pt x="14847" y="9095"/>
                  <a:pt x="15117" y="9569"/>
                  <a:pt x="14660" y="9451"/>
                </a:cubicBezTo>
                <a:cubicBezTo>
                  <a:pt x="14526" y="9361"/>
                  <a:pt x="14462" y="9339"/>
                  <a:pt x="14610" y="9277"/>
                </a:cubicBezTo>
              </a:path>
              <a:path w="1712" h="820">
                <a:moveTo>
                  <a:pt x="15280" y="9079"/>
                </a:moveTo>
                <a:cubicBezTo>
                  <a:pt x="15149" y="9109"/>
                  <a:pt x="14925" y="9268"/>
                  <a:pt x="15032" y="9451"/>
                </a:cubicBezTo>
                <a:cubicBezTo>
                  <a:pt x="15127" y="9613"/>
                  <a:pt x="15320" y="9296"/>
                  <a:pt x="15354" y="9252"/>
                </a:cubicBezTo>
                <a:cubicBezTo>
                  <a:pt x="15354" y="9236"/>
                  <a:pt x="15354" y="9219"/>
                  <a:pt x="15354" y="9203"/>
                </a:cubicBezTo>
                <a:cubicBezTo>
                  <a:pt x="15369" y="9291"/>
                  <a:pt x="15454" y="9489"/>
                  <a:pt x="15577" y="9376"/>
                </a:cubicBezTo>
                <a:cubicBezTo>
                  <a:pt x="15594" y="9335"/>
                  <a:pt x="15610" y="9293"/>
                  <a:pt x="15627" y="9252"/>
                </a:cubicBezTo>
              </a:path>
              <a:path w="1712" h="820">
                <a:moveTo>
                  <a:pt x="15652" y="9178"/>
                </a:moveTo>
                <a:cubicBezTo>
                  <a:pt x="15669" y="9269"/>
                  <a:pt x="15635" y="9335"/>
                  <a:pt x="15701" y="9401"/>
                </a:cubicBezTo>
              </a:path>
              <a:path w="1712" h="820">
                <a:moveTo>
                  <a:pt x="15701" y="9401"/>
                </a:moveTo>
                <a:lnTo>
                  <a:pt x="15701" y="9401"/>
                </a:lnTo>
              </a:path>
              <a:path w="1712" h="820">
                <a:moveTo>
                  <a:pt x="15528" y="8954"/>
                </a:moveTo>
                <a:cubicBezTo>
                  <a:pt x="15520" y="8954"/>
                  <a:pt x="15511" y="8954"/>
                  <a:pt x="15503" y="8954"/>
                </a:cubicBezTo>
              </a:path>
              <a:path w="1712" h="820">
                <a:moveTo>
                  <a:pt x="15999" y="9178"/>
                </a:moveTo>
                <a:cubicBezTo>
                  <a:pt x="16025" y="9263"/>
                  <a:pt x="16057" y="9342"/>
                  <a:pt x="16073" y="9426"/>
                </a:cubicBezTo>
                <a:cubicBezTo>
                  <a:pt x="16027" y="9189"/>
                  <a:pt x="16057" y="9110"/>
                  <a:pt x="1622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81840" y="3133800"/>
            <a:ext cx="37440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17066" y="8979"/>
                </a:moveTo>
                <a:cubicBezTo>
                  <a:pt x="16955" y="9107"/>
                  <a:pt x="16922" y="9167"/>
                  <a:pt x="16892" y="9327"/>
                </a:cubicBezTo>
                <a:cubicBezTo>
                  <a:pt x="17018" y="9373"/>
                  <a:pt x="17428" y="9357"/>
                  <a:pt x="17239" y="9079"/>
                </a:cubicBezTo>
                <a:cubicBezTo>
                  <a:pt x="17162" y="9059"/>
                  <a:pt x="17144" y="9035"/>
                  <a:pt x="17115" y="9079"/>
                </a:cubicBezTo>
              </a:path>
              <a:path w="1043" h="696">
                <a:moveTo>
                  <a:pt x="17636" y="8706"/>
                </a:moveTo>
                <a:cubicBezTo>
                  <a:pt x="17477" y="8866"/>
                  <a:pt x="17563" y="9039"/>
                  <a:pt x="17611" y="9277"/>
                </a:cubicBezTo>
                <a:cubicBezTo>
                  <a:pt x="17633" y="9384"/>
                  <a:pt x="17674" y="9425"/>
                  <a:pt x="17587" y="9351"/>
                </a:cubicBezTo>
              </a:path>
              <a:path w="1043" h="696">
                <a:moveTo>
                  <a:pt x="17338" y="9128"/>
                </a:moveTo>
                <a:cubicBezTo>
                  <a:pt x="17539" y="9114"/>
                  <a:pt x="17734" y="9085"/>
                  <a:pt x="17934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3106800"/>
            <a:ext cx="1331640" cy="287280"/>
          </a:xfrm>
          <a:custGeom>
            <a:avLst/>
            <a:gdLst/>
            <a:ahLst/>
            <a:rect l="l" t="t" r="r" b="b"/>
            <a:pathLst>
              <a:path w="3697" h="795">
                <a:moveTo>
                  <a:pt x="18703" y="9103"/>
                </a:moveTo>
                <a:cubicBezTo>
                  <a:pt x="18703" y="9084"/>
                  <a:pt x="18849" y="9330"/>
                  <a:pt x="18901" y="9401"/>
                </a:cubicBezTo>
                <a:cubicBezTo>
                  <a:pt x="18909" y="9409"/>
                  <a:pt x="18918" y="9418"/>
                  <a:pt x="18926" y="9426"/>
                </a:cubicBezTo>
                <a:cubicBezTo>
                  <a:pt x="18926" y="9294"/>
                  <a:pt x="18886" y="9032"/>
                  <a:pt x="19000" y="8930"/>
                </a:cubicBezTo>
                <a:cubicBezTo>
                  <a:pt x="19017" y="8938"/>
                  <a:pt x="19033" y="8946"/>
                  <a:pt x="19050" y="8954"/>
                </a:cubicBezTo>
              </a:path>
              <a:path w="3697" h="795">
                <a:moveTo>
                  <a:pt x="19224" y="9178"/>
                </a:moveTo>
                <a:cubicBezTo>
                  <a:pt x="19360" y="9160"/>
                  <a:pt x="19474" y="9155"/>
                  <a:pt x="19521" y="9029"/>
                </a:cubicBezTo>
                <a:cubicBezTo>
                  <a:pt x="19262" y="9000"/>
                  <a:pt x="19218" y="9032"/>
                  <a:pt x="19174" y="9277"/>
                </a:cubicBezTo>
                <a:cubicBezTo>
                  <a:pt x="19376" y="9420"/>
                  <a:pt x="19381" y="9376"/>
                  <a:pt x="19621" y="9277"/>
                </a:cubicBezTo>
              </a:path>
              <a:path w="3697" h="795">
                <a:moveTo>
                  <a:pt x="19695" y="9079"/>
                </a:moveTo>
                <a:cubicBezTo>
                  <a:pt x="19719" y="9137"/>
                  <a:pt x="19751" y="9197"/>
                  <a:pt x="19769" y="9252"/>
                </a:cubicBezTo>
                <a:cubicBezTo>
                  <a:pt x="19716" y="9141"/>
                  <a:pt x="19778" y="8995"/>
                  <a:pt x="19893" y="8930"/>
                </a:cubicBezTo>
                <a:cubicBezTo>
                  <a:pt x="19934" y="8922"/>
                  <a:pt x="19976" y="8913"/>
                  <a:pt x="20017" y="8905"/>
                </a:cubicBezTo>
              </a:path>
              <a:path w="3697" h="795">
                <a:moveTo>
                  <a:pt x="20241" y="8632"/>
                </a:moveTo>
                <a:cubicBezTo>
                  <a:pt x="20320" y="8812"/>
                  <a:pt x="20440" y="9073"/>
                  <a:pt x="20439" y="9277"/>
                </a:cubicBezTo>
                <a:cubicBezTo>
                  <a:pt x="20431" y="9260"/>
                  <a:pt x="20422" y="9244"/>
                  <a:pt x="20414" y="9227"/>
                </a:cubicBezTo>
              </a:path>
              <a:path w="3697" h="795">
                <a:moveTo>
                  <a:pt x="20191" y="8930"/>
                </a:moveTo>
                <a:cubicBezTo>
                  <a:pt x="20467" y="8947"/>
                  <a:pt x="20636" y="8934"/>
                  <a:pt x="20762" y="9203"/>
                </a:cubicBezTo>
                <a:cubicBezTo>
                  <a:pt x="20780" y="9260"/>
                  <a:pt x="20806" y="9285"/>
                  <a:pt x="20762" y="9277"/>
                </a:cubicBezTo>
              </a:path>
              <a:path w="3697" h="795">
                <a:moveTo>
                  <a:pt x="20712" y="8806"/>
                </a:moveTo>
                <a:cubicBezTo>
                  <a:pt x="20729" y="8814"/>
                  <a:pt x="20745" y="8822"/>
                  <a:pt x="20762" y="8830"/>
                </a:cubicBezTo>
              </a:path>
              <a:path w="3697" h="795">
                <a:moveTo>
                  <a:pt x="20762" y="8830"/>
                </a:moveTo>
                <a:lnTo>
                  <a:pt x="20762" y="8830"/>
                </a:lnTo>
              </a:path>
              <a:path w="3697" h="795">
                <a:moveTo>
                  <a:pt x="21084" y="9004"/>
                </a:moveTo>
                <a:cubicBezTo>
                  <a:pt x="21118" y="8970"/>
                  <a:pt x="21126" y="8949"/>
                  <a:pt x="21109" y="8905"/>
                </a:cubicBezTo>
                <a:cubicBezTo>
                  <a:pt x="21039" y="8835"/>
                  <a:pt x="20927" y="9040"/>
                  <a:pt x="20985" y="9153"/>
                </a:cubicBezTo>
                <a:cubicBezTo>
                  <a:pt x="21081" y="9339"/>
                  <a:pt x="21286" y="9155"/>
                  <a:pt x="21382" y="9103"/>
                </a:cubicBezTo>
              </a:path>
              <a:path w="3697" h="795">
                <a:moveTo>
                  <a:pt x="21555" y="8905"/>
                </a:moveTo>
                <a:cubicBezTo>
                  <a:pt x="21620" y="8883"/>
                  <a:pt x="21674" y="8867"/>
                  <a:pt x="21729" y="8830"/>
                </a:cubicBezTo>
                <a:cubicBezTo>
                  <a:pt x="21606" y="8849"/>
                  <a:pt x="21381" y="8918"/>
                  <a:pt x="21456" y="9103"/>
                </a:cubicBezTo>
                <a:cubicBezTo>
                  <a:pt x="21563" y="9211"/>
                  <a:pt x="21607" y="9244"/>
                  <a:pt x="21729" y="9203"/>
                </a:cubicBezTo>
              </a:path>
              <a:path w="3697" h="795">
                <a:moveTo>
                  <a:pt x="22275" y="8781"/>
                </a:moveTo>
                <a:cubicBezTo>
                  <a:pt x="22152" y="8812"/>
                  <a:pt x="22077" y="8832"/>
                  <a:pt x="21977" y="8905"/>
                </a:cubicBezTo>
                <a:cubicBezTo>
                  <a:pt x="22163" y="8992"/>
                  <a:pt x="22316" y="8998"/>
                  <a:pt x="22399" y="9178"/>
                </a:cubicBezTo>
                <a:cubicBezTo>
                  <a:pt x="22128" y="9292"/>
                  <a:pt x="22096" y="9262"/>
                  <a:pt x="2182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4200" y="3795840"/>
            <a:ext cx="517680" cy="177840"/>
          </a:xfrm>
          <a:custGeom>
            <a:avLst/>
            <a:gdLst/>
            <a:ahLst/>
            <a:rect l="l" t="t" r="r" b="b"/>
            <a:pathLst>
              <a:path w="1440" h="497">
                <a:moveTo>
                  <a:pt x="7342" y="10641"/>
                </a:moveTo>
                <a:cubicBezTo>
                  <a:pt x="7401" y="10621"/>
                  <a:pt x="7350" y="10608"/>
                  <a:pt x="7342" y="10592"/>
                </a:cubicBezTo>
                <a:cubicBezTo>
                  <a:pt x="7319" y="10547"/>
                  <a:pt x="7362" y="10542"/>
                  <a:pt x="7293" y="10542"/>
                </a:cubicBezTo>
                <a:cubicBezTo>
                  <a:pt x="7151" y="10542"/>
                  <a:pt x="7097" y="10656"/>
                  <a:pt x="7094" y="10790"/>
                </a:cubicBezTo>
                <a:cubicBezTo>
                  <a:pt x="7091" y="10910"/>
                  <a:pt x="7157" y="10925"/>
                  <a:pt x="7243" y="10964"/>
                </a:cubicBezTo>
                <a:cubicBezTo>
                  <a:pt x="7312" y="10869"/>
                  <a:pt x="7354" y="10784"/>
                  <a:pt x="7367" y="10666"/>
                </a:cubicBezTo>
                <a:cubicBezTo>
                  <a:pt x="7381" y="10730"/>
                  <a:pt x="7459" y="10923"/>
                  <a:pt x="7565" y="10889"/>
                </a:cubicBezTo>
                <a:cubicBezTo>
                  <a:pt x="7565" y="10873"/>
                  <a:pt x="7565" y="10856"/>
                  <a:pt x="7565" y="10840"/>
                </a:cubicBezTo>
              </a:path>
              <a:path w="1440" h="497">
                <a:moveTo>
                  <a:pt x="7565" y="10616"/>
                </a:moveTo>
                <a:cubicBezTo>
                  <a:pt x="7590" y="10673"/>
                  <a:pt x="7717" y="11026"/>
                  <a:pt x="7689" y="10889"/>
                </a:cubicBezTo>
                <a:cubicBezTo>
                  <a:pt x="7650" y="10696"/>
                  <a:pt x="7659" y="10602"/>
                  <a:pt x="7863" y="10592"/>
                </a:cubicBezTo>
                <a:cubicBezTo>
                  <a:pt x="7904" y="10592"/>
                  <a:pt x="7946" y="10592"/>
                  <a:pt x="7987" y="10592"/>
                </a:cubicBezTo>
              </a:path>
              <a:path w="1440" h="497">
                <a:moveTo>
                  <a:pt x="8111" y="10765"/>
                </a:moveTo>
                <a:cubicBezTo>
                  <a:pt x="8230" y="10741"/>
                  <a:pt x="8266" y="10735"/>
                  <a:pt x="8334" y="10691"/>
                </a:cubicBezTo>
                <a:cubicBezTo>
                  <a:pt x="8255" y="10623"/>
                  <a:pt x="8097" y="10537"/>
                  <a:pt x="8037" y="10691"/>
                </a:cubicBezTo>
                <a:cubicBezTo>
                  <a:pt x="7845" y="11186"/>
                  <a:pt x="8323" y="10989"/>
                  <a:pt x="8533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3687840"/>
            <a:ext cx="401760" cy="27756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9475" y="10418"/>
                </a:moveTo>
                <a:cubicBezTo>
                  <a:pt x="9368" y="10390"/>
                  <a:pt x="9260" y="10351"/>
                  <a:pt x="9178" y="10492"/>
                </a:cubicBezTo>
                <a:cubicBezTo>
                  <a:pt x="9043" y="10726"/>
                  <a:pt x="9256" y="10984"/>
                  <a:pt x="9426" y="10716"/>
                </a:cubicBezTo>
                <a:cubicBezTo>
                  <a:pt x="9465" y="10576"/>
                  <a:pt x="9482" y="10554"/>
                  <a:pt x="9475" y="10468"/>
                </a:cubicBezTo>
                <a:cubicBezTo>
                  <a:pt x="9491" y="10576"/>
                  <a:pt x="9504" y="10702"/>
                  <a:pt x="9649" y="10666"/>
                </a:cubicBezTo>
                <a:cubicBezTo>
                  <a:pt x="9674" y="10649"/>
                  <a:pt x="9698" y="10633"/>
                  <a:pt x="9723" y="10616"/>
                </a:cubicBezTo>
              </a:path>
              <a:path w="1117" h="770">
                <a:moveTo>
                  <a:pt x="9723" y="10294"/>
                </a:moveTo>
                <a:cubicBezTo>
                  <a:pt x="9757" y="10462"/>
                  <a:pt x="9806" y="10619"/>
                  <a:pt x="9823" y="10790"/>
                </a:cubicBezTo>
                <a:cubicBezTo>
                  <a:pt x="9886" y="10660"/>
                  <a:pt x="9864" y="10470"/>
                  <a:pt x="9897" y="10319"/>
                </a:cubicBezTo>
                <a:cubicBezTo>
                  <a:pt x="9905" y="10294"/>
                  <a:pt x="9914" y="10269"/>
                  <a:pt x="9922" y="10244"/>
                </a:cubicBezTo>
                <a:cubicBezTo>
                  <a:pt x="10053" y="10419"/>
                  <a:pt x="10102" y="10627"/>
                  <a:pt x="10145" y="10840"/>
                </a:cubicBezTo>
                <a:cubicBezTo>
                  <a:pt x="10145" y="10881"/>
                  <a:pt x="10145" y="10905"/>
                  <a:pt x="10145" y="10864"/>
                </a:cubicBezTo>
              </a:path>
              <a:path w="1117" h="770">
                <a:moveTo>
                  <a:pt x="9351" y="11013"/>
                </a:moveTo>
                <a:cubicBezTo>
                  <a:pt x="9650" y="10970"/>
                  <a:pt x="9947" y="10919"/>
                  <a:pt x="10244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71960" y="3660840"/>
            <a:ext cx="830160" cy="206280"/>
          </a:xfrm>
          <a:custGeom>
            <a:avLst/>
            <a:gdLst/>
            <a:ahLst/>
            <a:rect l="l" t="t" r="r" b="b"/>
            <a:pathLst>
              <a:path w="2308" h="571">
                <a:moveTo>
                  <a:pt x="11584" y="10344"/>
                </a:moveTo>
                <a:cubicBezTo>
                  <a:pt x="11457" y="10388"/>
                  <a:pt x="11421" y="10397"/>
                  <a:pt x="11311" y="10492"/>
                </a:cubicBezTo>
                <a:cubicBezTo>
                  <a:pt x="11485" y="10492"/>
                  <a:pt x="11577" y="10506"/>
                  <a:pt x="11733" y="10567"/>
                </a:cubicBezTo>
                <a:cubicBezTo>
                  <a:pt x="11610" y="10794"/>
                  <a:pt x="11532" y="10764"/>
                  <a:pt x="11336" y="10641"/>
                </a:cubicBezTo>
              </a:path>
              <a:path w="2308" h="571">
                <a:moveTo>
                  <a:pt x="11956" y="10418"/>
                </a:moveTo>
                <a:cubicBezTo>
                  <a:pt x="12010" y="10508"/>
                  <a:pt x="12034" y="10509"/>
                  <a:pt x="12030" y="10567"/>
                </a:cubicBezTo>
              </a:path>
              <a:path w="2308" h="571">
                <a:moveTo>
                  <a:pt x="11832" y="10244"/>
                </a:moveTo>
                <a:lnTo>
                  <a:pt x="11832" y="10244"/>
                </a:lnTo>
                <a:lnTo>
                  <a:pt x="11832" y="10244"/>
                </a:lnTo>
              </a:path>
              <a:path w="2308" h="571">
                <a:moveTo>
                  <a:pt x="11832" y="10244"/>
                </a:moveTo>
                <a:lnTo>
                  <a:pt x="11832" y="10244"/>
                </a:lnTo>
              </a:path>
              <a:path w="2308" h="571">
                <a:moveTo>
                  <a:pt x="12626" y="10344"/>
                </a:moveTo>
                <a:cubicBezTo>
                  <a:pt x="12433" y="10255"/>
                  <a:pt x="12370" y="10343"/>
                  <a:pt x="12204" y="10468"/>
                </a:cubicBezTo>
                <a:cubicBezTo>
                  <a:pt x="12273" y="10606"/>
                  <a:pt x="12602" y="10822"/>
                  <a:pt x="12650" y="10492"/>
                </a:cubicBezTo>
                <a:cubicBezTo>
                  <a:pt x="12634" y="10418"/>
                  <a:pt x="12617" y="10343"/>
                  <a:pt x="12601" y="10269"/>
                </a:cubicBezTo>
              </a:path>
              <a:path w="2308" h="571">
                <a:moveTo>
                  <a:pt x="12551" y="10170"/>
                </a:moveTo>
                <a:cubicBezTo>
                  <a:pt x="12618" y="10313"/>
                  <a:pt x="12667" y="10393"/>
                  <a:pt x="12700" y="10542"/>
                </a:cubicBezTo>
              </a:path>
              <a:path w="2308" h="571">
                <a:moveTo>
                  <a:pt x="12700" y="10542"/>
                </a:moveTo>
                <a:lnTo>
                  <a:pt x="12700" y="10542"/>
                </a:lnTo>
              </a:path>
              <a:path w="2308" h="571">
                <a:moveTo>
                  <a:pt x="12948" y="10393"/>
                </a:moveTo>
                <a:cubicBezTo>
                  <a:pt x="13020" y="10375"/>
                  <a:pt x="13107" y="10358"/>
                  <a:pt x="13146" y="10319"/>
                </a:cubicBezTo>
                <a:cubicBezTo>
                  <a:pt x="12962" y="10288"/>
                  <a:pt x="12910" y="10375"/>
                  <a:pt x="12799" y="10517"/>
                </a:cubicBezTo>
                <a:cubicBezTo>
                  <a:pt x="12994" y="10660"/>
                  <a:pt x="12977" y="10598"/>
                  <a:pt x="13221" y="10468"/>
                </a:cubicBezTo>
              </a:path>
              <a:path w="2308" h="571">
                <a:moveTo>
                  <a:pt x="13370" y="10294"/>
                </a:moveTo>
                <a:cubicBezTo>
                  <a:pt x="13345" y="10311"/>
                  <a:pt x="13320" y="10327"/>
                  <a:pt x="13295" y="10344"/>
                </a:cubicBezTo>
                <a:cubicBezTo>
                  <a:pt x="13398" y="10407"/>
                  <a:pt x="13515" y="10422"/>
                  <a:pt x="13618" y="10468"/>
                </a:cubicBezTo>
                <a:cubicBezTo>
                  <a:pt x="13489" y="10596"/>
                  <a:pt x="13496" y="10578"/>
                  <a:pt x="13320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5960" y="3643200"/>
            <a:ext cx="347760" cy="135000"/>
          </a:xfrm>
          <a:custGeom>
            <a:avLst/>
            <a:gdLst/>
            <a:ahLst/>
            <a:rect l="l" t="t" r="r" b="b"/>
            <a:pathLst>
              <a:path w="969" h="373">
                <a:moveTo>
                  <a:pt x="15081" y="10120"/>
                </a:moveTo>
                <a:cubicBezTo>
                  <a:pt x="14931" y="10149"/>
                  <a:pt x="14854" y="10133"/>
                  <a:pt x="14784" y="10244"/>
                </a:cubicBezTo>
                <a:cubicBezTo>
                  <a:pt x="14928" y="10302"/>
                  <a:pt x="15065" y="10351"/>
                  <a:pt x="15205" y="10418"/>
                </a:cubicBezTo>
                <a:cubicBezTo>
                  <a:pt x="15008" y="10527"/>
                  <a:pt x="14904" y="10494"/>
                  <a:pt x="14709" y="10418"/>
                </a:cubicBezTo>
              </a:path>
              <a:path w="969" h="373">
                <a:moveTo>
                  <a:pt x="15304" y="10145"/>
                </a:moveTo>
                <a:cubicBezTo>
                  <a:pt x="15236" y="10282"/>
                  <a:pt x="15209" y="10319"/>
                  <a:pt x="15255" y="10418"/>
                </a:cubicBezTo>
                <a:cubicBezTo>
                  <a:pt x="15336" y="10412"/>
                  <a:pt x="15888" y="10388"/>
                  <a:pt x="15602" y="10195"/>
                </a:cubicBezTo>
                <a:cubicBezTo>
                  <a:pt x="15487" y="10156"/>
                  <a:pt x="15474" y="10140"/>
                  <a:pt x="15404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11920" y="3616200"/>
            <a:ext cx="347760" cy="135000"/>
          </a:xfrm>
          <a:custGeom>
            <a:avLst/>
            <a:gdLst/>
            <a:ahLst/>
            <a:rect l="l" t="t" r="r" b="b"/>
            <a:pathLst>
              <a:path w="968" h="373">
                <a:moveTo>
                  <a:pt x="16446" y="10319"/>
                </a:moveTo>
                <a:cubicBezTo>
                  <a:pt x="16446" y="10514"/>
                  <a:pt x="16427" y="10189"/>
                  <a:pt x="16446" y="10145"/>
                </a:cubicBezTo>
                <a:cubicBezTo>
                  <a:pt x="16575" y="9848"/>
                  <a:pt x="16817" y="10173"/>
                  <a:pt x="16842" y="10344"/>
                </a:cubicBezTo>
                <a:cubicBezTo>
                  <a:pt x="16834" y="10369"/>
                  <a:pt x="16826" y="10393"/>
                  <a:pt x="16818" y="10418"/>
                </a:cubicBezTo>
              </a:path>
              <a:path w="968" h="373">
                <a:moveTo>
                  <a:pt x="17041" y="10120"/>
                </a:moveTo>
                <a:cubicBezTo>
                  <a:pt x="16952" y="10254"/>
                  <a:pt x="16919" y="10285"/>
                  <a:pt x="16942" y="10393"/>
                </a:cubicBezTo>
                <a:cubicBezTo>
                  <a:pt x="17045" y="10398"/>
                  <a:pt x="17588" y="10358"/>
                  <a:pt x="17338" y="10120"/>
                </a:cubicBezTo>
                <a:cubicBezTo>
                  <a:pt x="17215" y="10096"/>
                  <a:pt x="17174" y="10088"/>
                  <a:pt x="1709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0240" y="3500280"/>
            <a:ext cx="1598760" cy="393840"/>
          </a:xfrm>
          <a:custGeom>
            <a:avLst/>
            <a:gdLst/>
            <a:ahLst/>
            <a:rect l="l" t="t" r="r" b="b"/>
            <a:pathLst>
              <a:path w="4441" h="1093">
                <a:moveTo>
                  <a:pt x="18554" y="10145"/>
                </a:moveTo>
                <a:cubicBezTo>
                  <a:pt x="18554" y="10193"/>
                  <a:pt x="18536" y="10042"/>
                  <a:pt x="18455" y="10046"/>
                </a:cubicBezTo>
                <a:cubicBezTo>
                  <a:pt x="18200" y="10058"/>
                  <a:pt x="18165" y="10232"/>
                  <a:pt x="18083" y="10418"/>
                </a:cubicBezTo>
                <a:cubicBezTo>
                  <a:pt x="18273" y="10482"/>
                  <a:pt x="18365" y="10484"/>
                  <a:pt x="18504" y="10368"/>
                </a:cubicBezTo>
              </a:path>
              <a:path w="4441" h="1093">
                <a:moveTo>
                  <a:pt x="18455" y="9723"/>
                </a:moveTo>
                <a:cubicBezTo>
                  <a:pt x="18508" y="9947"/>
                  <a:pt x="18567" y="10171"/>
                  <a:pt x="18628" y="10393"/>
                </a:cubicBezTo>
              </a:path>
              <a:path w="4441" h="1093">
                <a:moveTo>
                  <a:pt x="18852" y="10170"/>
                </a:moveTo>
                <a:cubicBezTo>
                  <a:pt x="18872" y="10315"/>
                  <a:pt x="18864" y="10350"/>
                  <a:pt x="18926" y="10418"/>
                </a:cubicBezTo>
              </a:path>
              <a:path w="4441" h="1093">
                <a:moveTo>
                  <a:pt x="18926" y="9996"/>
                </a:moveTo>
                <a:cubicBezTo>
                  <a:pt x="18926" y="9938"/>
                  <a:pt x="18959" y="9930"/>
                  <a:pt x="19050" y="9971"/>
                </a:cubicBezTo>
              </a:path>
              <a:path w="4441" h="1093">
                <a:moveTo>
                  <a:pt x="19050" y="9971"/>
                </a:moveTo>
                <a:lnTo>
                  <a:pt x="19050" y="9971"/>
                </a:lnTo>
              </a:path>
              <a:path w="4441" h="1093">
                <a:moveTo>
                  <a:pt x="19447" y="10021"/>
                </a:moveTo>
                <a:cubicBezTo>
                  <a:pt x="19339" y="10046"/>
                  <a:pt x="18999" y="10211"/>
                  <a:pt x="19174" y="10393"/>
                </a:cubicBezTo>
                <a:cubicBezTo>
                  <a:pt x="19341" y="10567"/>
                  <a:pt x="19440" y="10269"/>
                  <a:pt x="19472" y="10195"/>
                </a:cubicBezTo>
                <a:cubicBezTo>
                  <a:pt x="19464" y="10170"/>
                  <a:pt x="19455" y="10145"/>
                  <a:pt x="19447" y="10120"/>
                </a:cubicBezTo>
                <a:cubicBezTo>
                  <a:pt x="19525" y="10330"/>
                  <a:pt x="19589" y="10302"/>
                  <a:pt x="19794" y="10319"/>
                </a:cubicBezTo>
              </a:path>
              <a:path w="4441" h="1093">
                <a:moveTo>
                  <a:pt x="20042" y="9996"/>
                </a:moveTo>
                <a:cubicBezTo>
                  <a:pt x="19983" y="10030"/>
                  <a:pt x="19609" y="10288"/>
                  <a:pt x="19869" y="10344"/>
                </a:cubicBezTo>
                <a:cubicBezTo>
                  <a:pt x="20042" y="10381"/>
                  <a:pt x="20028" y="10163"/>
                  <a:pt x="20042" y="10071"/>
                </a:cubicBezTo>
                <a:cubicBezTo>
                  <a:pt x="20181" y="10269"/>
                  <a:pt x="20290" y="10447"/>
                  <a:pt x="20389" y="10666"/>
                </a:cubicBezTo>
                <a:cubicBezTo>
                  <a:pt x="20111" y="10878"/>
                  <a:pt x="19944" y="10807"/>
                  <a:pt x="19621" y="10666"/>
                </a:cubicBezTo>
              </a:path>
              <a:path w="4441" h="1093">
                <a:moveTo>
                  <a:pt x="20464" y="10021"/>
                </a:moveTo>
                <a:cubicBezTo>
                  <a:pt x="20311" y="10065"/>
                  <a:pt x="20288" y="10112"/>
                  <a:pt x="20191" y="10244"/>
                </a:cubicBezTo>
                <a:cubicBezTo>
                  <a:pt x="20277" y="10310"/>
                  <a:pt x="20746" y="10492"/>
                  <a:pt x="20687" y="10170"/>
                </a:cubicBezTo>
                <a:cubicBezTo>
                  <a:pt x="20580" y="10063"/>
                  <a:pt x="20535" y="10028"/>
                  <a:pt x="20414" y="10046"/>
                </a:cubicBezTo>
              </a:path>
              <a:path w="4441" h="1093">
                <a:moveTo>
                  <a:pt x="20836" y="10294"/>
                </a:moveTo>
                <a:cubicBezTo>
                  <a:pt x="20836" y="10360"/>
                  <a:pt x="20809" y="10206"/>
                  <a:pt x="20836" y="10145"/>
                </a:cubicBezTo>
                <a:cubicBezTo>
                  <a:pt x="20947" y="9893"/>
                  <a:pt x="21171" y="10057"/>
                  <a:pt x="21208" y="10244"/>
                </a:cubicBezTo>
                <a:cubicBezTo>
                  <a:pt x="21208" y="10335"/>
                  <a:pt x="21241" y="10376"/>
                  <a:pt x="21183" y="10368"/>
                </a:cubicBezTo>
              </a:path>
              <a:path w="4441" h="1093">
                <a:moveTo>
                  <a:pt x="21530" y="9947"/>
                </a:moveTo>
                <a:cubicBezTo>
                  <a:pt x="21309" y="10010"/>
                  <a:pt x="21300" y="10059"/>
                  <a:pt x="21183" y="10269"/>
                </a:cubicBezTo>
                <a:cubicBezTo>
                  <a:pt x="21379" y="10368"/>
                  <a:pt x="21476" y="10342"/>
                  <a:pt x="21555" y="10120"/>
                </a:cubicBezTo>
                <a:cubicBezTo>
                  <a:pt x="21594" y="10217"/>
                  <a:pt x="21791" y="10338"/>
                  <a:pt x="21903" y="10269"/>
                </a:cubicBezTo>
                <a:cubicBezTo>
                  <a:pt x="21936" y="10219"/>
                  <a:pt x="21969" y="10170"/>
                  <a:pt x="22002" y="10120"/>
                </a:cubicBezTo>
              </a:path>
              <a:path w="4441" h="1093">
                <a:moveTo>
                  <a:pt x="21952" y="9723"/>
                </a:moveTo>
                <a:cubicBezTo>
                  <a:pt x="21938" y="9838"/>
                  <a:pt x="21866" y="10299"/>
                  <a:pt x="22002" y="10368"/>
                </a:cubicBezTo>
                <a:cubicBezTo>
                  <a:pt x="22027" y="10352"/>
                  <a:pt x="22051" y="10335"/>
                  <a:pt x="22076" y="10319"/>
                </a:cubicBezTo>
              </a:path>
              <a:path w="4441" h="1093">
                <a:moveTo>
                  <a:pt x="22250" y="9872"/>
                </a:moveTo>
                <a:cubicBezTo>
                  <a:pt x="22212" y="9969"/>
                  <a:pt x="22175" y="10040"/>
                  <a:pt x="22175" y="10145"/>
                </a:cubicBezTo>
                <a:cubicBezTo>
                  <a:pt x="22175" y="10219"/>
                  <a:pt x="22172" y="10099"/>
                  <a:pt x="22175" y="10096"/>
                </a:cubicBezTo>
                <a:cubicBezTo>
                  <a:pt x="22293" y="9991"/>
                  <a:pt x="22478" y="10170"/>
                  <a:pt x="22523" y="10269"/>
                </a:cubicBezTo>
                <a:cubicBezTo>
                  <a:pt x="22623" y="10492"/>
                  <a:pt x="22251" y="10430"/>
                  <a:pt x="22175" y="10393"/>
                </a:cubicBezTo>
                <a:cubicBezTo>
                  <a:pt x="22150" y="10368"/>
                  <a:pt x="22126" y="10344"/>
                  <a:pt x="22101" y="10319"/>
                </a:cubicBezTo>
              </a:path>
              <a:path w="4441" h="1093">
                <a:moveTo>
                  <a:pt x="22299" y="9897"/>
                </a:moveTo>
                <a:cubicBezTo>
                  <a:pt x="22347" y="9897"/>
                  <a:pt x="22349" y="9893"/>
                  <a:pt x="22399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omework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iagonals 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mcgra</cp:lastModifiedBy>
  <dcterms:modified xsi:type="dcterms:W3CDTF">2012-01-23T20:29:25Z</dcterms:modified>
  <cp:revision>12</cp:revision>
  <dc:subject/>
  <dc:title>Opener: Write the definition and draw a picture to represent each word. </dc:title>
</cp:coreProperties>
</file>